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4404-5D1C-4DB6-976D-CC55355E40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39E6-DF19-4C84-9E6C-7B716E06A9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655-953F-4C50-92D5-BD4B02F9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6F77-F530-486F-BA67-30C2174F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0A1-6E4E-4149-BBD5-BE858B5F7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7F4-9A22-47DF-86BA-97E32BF0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CFFF-3252-45D4-A5EE-7E3249B0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9D1D-749C-45E7-AAAC-CBB30EA8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48E5-4C03-4C73-A525-CF71A99DB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4D99-DD8D-443F-9292-4F95382F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5DF8C-7BC1-4EED-945E-1141424B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F25-22EF-4702-8FA8-AEC32519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171D-B0AD-4E35-9892-0F90671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D6D-A642-42F2-9485-DED49767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D137-B6D0-4FB6-A5DE-81ABAF0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930D-0DA6-471B-A3B2-7DC1C6C2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D840-4D7D-41DF-9439-9B27F921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CD35-5395-4A71-8D6B-C18D650A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5EA6-47BB-4F52-B2BE-172FF27B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FE0-940C-43A4-8AE8-1DA1FEDF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CDAA-E11A-401D-BB18-F2EE16CB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8708-9BA8-4B15-B63D-8760C76A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0F6F-8905-4681-A04D-B78DBF90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6F6-1381-4A2A-9871-D3150D5D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630C-35C0-450A-B6A3-EB8D8495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78C8-C459-4E93-9F00-CA97B81A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E1844-8AC6-41CB-8CF1-B37F1B99EFF9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ad5a26">
                  <a:alpha val="45098"/>
                </a:srgbClr>
              </a:gs>
              <a:gs pos="100000">
                <a:srgbClr val="9da56a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b8158">
                  <a:alpha val="45098"/>
                </a:srgbClr>
              </a:gs>
              <a:gs pos="100000">
                <a:srgbClr val="dd6a2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a5ab8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94b6d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d804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a5ab81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d8b25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15a51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4E0-00A7-45F7-8BA2-062426C880A9}" type="slidenum">
              <a:rPr b="0" lang="ru-RU" sz="1200" spc="-1" strike="noStrike">
                <a:solidFill>
                  <a:srgbClr val="715a51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706320" y="208080"/>
            <a:ext cx="7864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439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lang="ru-RU" sz="4500" spc="-1" strike="noStrike">
                <a:solidFill>
                  <a:srgbClr val="775f55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513e1b"/>
                </a:solidFill>
                <a:latin typeface="Calibri"/>
              </a:rPr>
              <a:t>Товарооборот двух салонов «Евросеть»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8760" y="1571760"/>
          <a:ext cx="8143920" cy="2879640"/>
        </p:xfrm>
        <a:graphic>
          <a:graphicData uri="http://schemas.openxmlformats.org/drawingml/2006/table">
            <a:tbl>
              <a:tblPr/>
              <a:tblGrid>
                <a:gridCol w="2428920"/>
                <a:gridCol w="2143080"/>
                <a:gridCol w="1928520"/>
                <a:gridCol w="1643400"/>
              </a:tblGrid>
              <a:tr h="12348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Адреса салон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варооборот в дорекламный период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оварооборот в рекламный период, 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ндекс роста товарооборота (в%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44280" rIns="44280" tIns="0" bIns="0" anchor="t">
                      <a:noAutofit/>
                    </a:bodyPr>
                    <a:p>
                      <a:pPr marL="457200" indent="-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ул.Б.Покровская д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279 0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 468 8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,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л.Дьконова д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308 8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 734 7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3e1b"/>
                </a:solidFill>
                <a:latin typeface="Calibri"/>
              </a:rPr>
              <a:t>Цель дипломного проект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4200" y="1928520"/>
            <a:ext cx="8786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3e1b"/>
                </a:solidFill>
                <a:latin typeface="Constantia"/>
              </a:rPr>
              <a:t>Задачи дипломного проекта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Прямоугольник 5"/>
          <p:cNvSpPr/>
          <p:nvPr/>
        </p:nvSpPr>
        <p:spPr>
          <a:xfrm>
            <a:off x="428760" y="928800"/>
            <a:ext cx="8215200" cy="71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onstantia"/>
              </a:rPr>
              <a:t>Определить основные направления комплекса маркетинга  для нов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642960" y="785880"/>
            <a:ext cx="771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13"/>
          <p:cNvSpPr/>
          <p:nvPr/>
        </p:nvSpPr>
        <p:spPr>
          <a:xfrm>
            <a:off x="214200" y="2786040"/>
            <a:ext cx="1928880" cy="242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зучение теоретических аспектов проблемы разработки комплекса маркетинга на предприят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4"/>
          <p:cNvSpPr/>
          <p:nvPr/>
        </p:nvSpPr>
        <p:spPr>
          <a:xfrm>
            <a:off x="2428920" y="2786040"/>
            <a:ext cx="1785960" cy="242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Анализ современного состояние рынка автосервис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4500720" y="2786040"/>
            <a:ext cx="2071440" cy="242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азработать элементы комплекса маркетинга на для нового предприятия автосерви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6"/>
          <p:cNvSpPr/>
          <p:nvPr/>
        </p:nvSpPr>
        <p:spPr>
          <a:xfrm>
            <a:off x="6858000" y="2786040"/>
            <a:ext cx="2143080" cy="2428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Охарактеризовать направления совершенствования маркетинговой стратегии автосервисного пред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ая соединительная линия 21"/>
          <p:cNvSpPr/>
          <p:nvPr/>
        </p:nvSpPr>
        <p:spPr>
          <a:xfrm>
            <a:off x="642960" y="2643120"/>
            <a:ext cx="7929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513e1b"/>
                </a:solidFill>
                <a:latin typeface="Calibri"/>
              </a:rPr>
              <a:t>Структура дипломного проекта</a:t>
            </a:r>
            <a:endParaRPr b="0" lang="en-US" sz="4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4200" y="1071720"/>
            <a:ext cx="8715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onstantia"/>
              </a:rPr>
              <a:t>Глава 1. Теоретические основы организации рекламной деятельности фирм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onstantia"/>
              </a:rPr>
              <a:t>Глава 2. Исследование рекламной деятельности ООО «Евросеть Ритейл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onstantia"/>
              </a:rPr>
              <a:t>Глава 3. Совершенствование организации рекламной деятельности ООО «Евросеть Ритейл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3e1b"/>
                </a:solidFill>
                <a:latin typeface="Constantia"/>
              </a:rPr>
              <a:t>Глава 4. Оценка экономической эффективности предлагаемых мероприятий по совершенствованию рекламной деятельности ООО «Евросеть Ритейл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Прямая соединительная линия 4"/>
          <p:cNvSpPr/>
          <p:nvPr/>
        </p:nvSpPr>
        <p:spPr>
          <a:xfrm>
            <a:off x="285840" y="1000080"/>
            <a:ext cx="850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3e1b"/>
                </a:solidFill>
                <a:latin typeface="Calibri"/>
              </a:rPr>
              <a:t>Целевая аудитория салонов </a:t>
            </a:r>
            <a:br>
              <a:rPr sz="3600"/>
            </a:br>
            <a:r>
              <a:rPr b="0" lang="ru-RU" sz="3600" spc="-1" strike="noStrike">
                <a:solidFill>
                  <a:srgbClr val="513e1b"/>
                </a:solidFill>
                <a:latin typeface="Calibri"/>
              </a:rPr>
              <a:t>ООО «Евросеть Ритейл»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125" name="Диаграмма 15" descr=""/>
          <p:cNvPicPr/>
          <p:nvPr/>
        </p:nvPicPr>
        <p:blipFill>
          <a:blip r:embed="rId1"/>
          <a:stretch/>
        </p:blipFill>
        <p:spPr>
          <a:xfrm>
            <a:off x="142920" y="4214880"/>
            <a:ext cx="4429080" cy="264312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7"/>
          <p:cNvSpPr/>
          <p:nvPr/>
        </p:nvSpPr>
        <p:spPr>
          <a:xfrm>
            <a:off x="3357720" y="1428840"/>
            <a:ext cx="56433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3e1b"/>
                </a:solidFill>
                <a:latin typeface="Constantia"/>
              </a:rPr>
              <a:t>Компания ООО «Евросеть Ритейл»  основана в 1997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3e1b"/>
                </a:solidFill>
                <a:latin typeface="Constantia"/>
              </a:rPr>
              <a:t>В настоящее время количество магазинов «Евросеть» составляет более  5156 ш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3e1b"/>
                </a:solidFill>
                <a:latin typeface="Constantia"/>
              </a:rPr>
              <a:t>Для компании «Евросеть» главным приоритетом является клиен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3e1b"/>
                </a:solidFill>
                <a:latin typeface="Constantia"/>
              </a:rPr>
              <a:t>Вся политика продаж строится исходя из платежеспособности потенциальных покупателей и спроса на товары и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Содержимое 13" descr=""/>
          <p:cNvPicPr/>
          <p:nvPr/>
        </p:nvPicPr>
        <p:blipFill>
          <a:blip r:embed="rId2"/>
          <a:stretch/>
        </p:blipFill>
        <p:spPr>
          <a:xfrm>
            <a:off x="4714920" y="4286160"/>
            <a:ext cx="4429080" cy="25718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9"/>
          <p:cNvSpPr/>
          <p:nvPr/>
        </p:nvSpPr>
        <p:spPr>
          <a:xfrm>
            <a:off x="5572080" y="4143240"/>
            <a:ext cx="33577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ловая структу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Object 2"/>
          <p:cNvGraphicFramePr/>
          <p:nvPr/>
        </p:nvGraphicFramePr>
        <p:xfrm>
          <a:off x="0" y="1285920"/>
          <a:ext cx="3429000" cy="2786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285920"/>
                    <a:ext cx="342900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Прямоугольник 13"/>
          <p:cNvSpPr/>
          <p:nvPr/>
        </p:nvSpPr>
        <p:spPr>
          <a:xfrm>
            <a:off x="2571840" y="4071960"/>
            <a:ext cx="214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Уровень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Содержимое 2" descr=""/>
          <p:cNvPicPr/>
          <p:nvPr/>
        </p:nvPicPr>
        <p:blipFill>
          <a:blip r:embed="rId1"/>
          <a:stretch/>
        </p:blipFill>
        <p:spPr>
          <a:xfrm>
            <a:off x="133200" y="281160"/>
            <a:ext cx="872964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Динамика продаж ООО «Евросеть Ритейл» </a:t>
            </a:r>
            <a:br>
              <a:rPr sz="3200"/>
            </a:b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за 2008-2009г.г.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134" name="Picture 2" descr="D:\17.01.jpg"/>
          <p:cNvPicPr/>
          <p:nvPr/>
        </p:nvPicPr>
        <p:blipFill>
          <a:blip r:embed="rId1"/>
          <a:stretch/>
        </p:blipFill>
        <p:spPr>
          <a:xfrm>
            <a:off x="285840" y="1285920"/>
            <a:ext cx="864396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8688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Расходы на коммуникационные средства</a:t>
            </a:r>
            <a:br>
              <a:rPr sz="3200"/>
            </a:br>
            <a:r>
              <a:rPr b="0" lang="ru-RU" sz="3200" spc="-1" strike="noStrike">
                <a:solidFill>
                  <a:srgbClr val="513e1b"/>
                </a:solidFill>
                <a:latin typeface="Calibri"/>
              </a:rPr>
              <a:t>для ООО «Евросеть Ритейл»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42920" y="1285920"/>
          <a:ext cx="8858160" cy="5449680"/>
        </p:xfrm>
        <a:graphic>
          <a:graphicData uri="http://schemas.openxmlformats.org/drawingml/2006/table">
            <a:tbl>
              <a:tblPr/>
              <a:tblGrid>
                <a:gridCol w="4159080"/>
                <a:gridCol w="1617840"/>
                <a:gridCol w="1541520"/>
                <a:gridCol w="1539720"/>
              </a:tblGrid>
              <a:tr h="12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 канала распространения и статьи рас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оличество единиц в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умма в первый месяц,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умма в последующие месяцы, 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Услуги фотограф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Рекламные листо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3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Услуги распространителя рекламных лист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60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Печатная реклама в журнале «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OB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onstanti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еле 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6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52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Реклама на ради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4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Наружная рекл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8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480"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13e1b"/>
                </a:solidFill>
                <a:latin typeface="Calibri"/>
              </a:rPr>
              <a:t>Результаты опроса посетителей салонов «Евросеть» 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138" name="Содержимое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357880" cy="521496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"/>
          <p:cNvSpPr/>
          <p:nvPr/>
        </p:nvSpPr>
        <p:spPr>
          <a:xfrm>
            <a:off x="5643720" y="1785960"/>
            <a:ext cx="3357360" cy="40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 декабря в собственных специализированных салонах «Евросеть»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адресам ул.Дьконова д.21  и ул.Б.Покровская д.73 было проведено анкетирование потреб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Всего было опрошено 350 респонд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По результатам опроса более 40% респондентов захотели приобрести товары в салонах «Евросет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4292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3e1b"/>
                </a:solidFill>
                <a:latin typeface="Calibri"/>
              </a:rPr>
              <a:t>Смета расходов на проведение рекламных мероприятий, проходивших с 8.11.09 по 10.12.09</a:t>
            </a:r>
            <a:br>
              <a:rPr sz="2400"/>
            </a:br>
            <a:r>
              <a:rPr b="1" lang="ru-RU" sz="2400" spc="-1" strike="noStrike">
                <a:solidFill>
                  <a:srgbClr val="513e1b"/>
                </a:solidFill>
                <a:latin typeface="Calibri"/>
              </a:rPr>
              <a:t>в салоне «Евросеть» на ул.Дяконова, 21</a:t>
            </a:r>
            <a:endParaRPr b="0" lang="en-US" sz="2400" spc="-1" strike="noStrike">
              <a:solidFill>
                <a:srgbClr val="775f55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935000"/>
          <a:ext cx="8229600" cy="45165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572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атьи расход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тоимость, тыс.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. Проведение лотер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Аренда аппара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1171440"/>
                          <a:tab algn="ctr" pos="1327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Призы от фирмы ООО «Евросеть Ритей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 Оплата ведущим лотере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 Изготовление бараб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I. Рекламны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 Футболки с фирменным знаком «Евросет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 Шарики с эмблемой «Евросет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08:09:19Z</dcterms:created>
  <dc:creator>RWT</dc:creator>
  <dc:description/>
  <dc:language>en-US</dc:language>
  <cp:lastModifiedBy>DNA7 X64</cp:lastModifiedBy>
  <dcterms:modified xsi:type="dcterms:W3CDTF">2010-06-11T19:16:06Z</dcterms:modified>
  <cp:revision>69</cp:revision>
  <dc:subject/>
  <dc:title>дипломный проект  на тему  «Организация рекламной деятельности фирмы» на примере  ООО «Евросеть Ритейл»</dc:title>
</cp:coreProperties>
</file>