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60AB1CF-7324-42FD-A230-4CC95C530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11EB83-E710-4B14-A301-CBB83275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77CD7B5-754C-4E13-AC8E-1A572796A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0DD60E-7DA0-41BC-867E-2BCAF839B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E5769-D313-464C-9C2A-5589B7A4A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DE63E-6E53-467C-8E25-932B4A17C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66951-A983-40DA-AF4E-45789FD44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0DA34-6CAF-45D3-9BB4-E0C422C2B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D8CD5-E29D-416A-AC30-BB4F886E3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2275E-57BB-4ADE-B8E4-335B7B252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20776-E643-4522-830D-A38D24724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7FB593-C26C-47B1-B779-606D5F5CF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14FBD-8776-4854-9280-49C99D492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CD9A7-6C1B-44A2-89B7-891A714BB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7634D-E0A1-4C36-B4A5-B14E80AE5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D4E22-6227-4723-AC4F-00BD253DA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FBAEE-871A-4BBC-8D49-3645B7DDD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2A40FC-7B01-4733-AEDA-509F035F3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85D003-475A-47FE-8958-E9186183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EE8DD3-CDB4-4AFF-BBE8-15AE58264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1A9FD5-D9B8-4949-82FA-4B7C74686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B54FEE-FDF2-4431-8788-0081FE8F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7656CC-4C83-4998-8DC5-B7E33E679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7FB826-5E20-4793-A0C4-F565E3A02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F5D5-04F7-4E23-8789-DE6D4AD11F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7AD9-C5D0-456A-BD8A-5387FE961B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ВВЕДЕНИЕ</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логи, как и вся налоговая система, являются мощным инструментом управления экономикой в условиях рынка. Налоги являются необходимым звеном экономических отноше­ний в обществе с момента возникновения государства. Развитие и изменение форм государственного устройства всегда сопрово­ждаются преобразованием налоговой системы. В современном цивилизованном обществе налоги - основная форма доходов государства. Помимо этой сугубо финансовой функции налого­вый механизм используется для экономического воздействия государства на общественное производство, его динамику и структуру, на состояние научно-технического прогресс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бъектами налогообложения признаются следующие операции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Реализация товаров (работ, услуг) на территории РФ, в том числе реализация предметов залога и передача товаров (результатов выполненных работ, оказание услуг) по соглашению о предоставлении отступного или новации, а также имущественных прав. При реализации товаров (работ, услуг) налоговая база определяется как стоимость этих товаров (работ, услуг) без учета налога с продаж и НДС. При реализации подакцизных товаров и подакцизного минерального сырья в налогооблагаемую базу следует включать величину акциза. При товарообменных операциях, при реализации на безвозмездной основе и при передаче товаров при оплате труда налоговая база рассчитывается в стоимостном выражении аналогично.</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04280"/>
            <a:ext cx="8229600" cy="5721480"/>
          </a:xfrm>
          <a:prstGeom prst="rect">
            <a:avLst/>
          </a:prstGeom>
          <a:noFill/>
          <a:ln w="0">
            <a:noFill/>
          </a:ln>
        </p:spPr>
        <p:txBody>
          <a:bodyPr anchor="t">
            <a:normAutofit fontScale="88000"/>
          </a:bodyPr>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Имеются особенности в определении налоговой базы при реализации имущества, сельскохозяйственной продукции, закупленной у физических лиц, при договорах финансирования под уступку денежного требования или уступки требования (цессии), при комиссионных, агентских и поручительских договорах, при транспортных перевозках и реализации услуг международной связи, а также при продаже предприятия в целом как имущественного комплекса.</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Так, для налогоплательщиков, осуществляющих предпринимательскую деятельность в интересах другого лица на основе договоров поручения, договоров комиссии или агентских договоров, налоговая база определяется как сумма дохода, полученного ими в виде вознаграждения при исполнении этих договоров. При осуществлении перевозок пассажиров, багажа, грузов или почты железнодорожным, автомобильным, воздушным, морским или речным транспортом налоговая база определяется как стоимость перевозки без учета НДС и налога с продаж.</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04280"/>
            <a:ext cx="8229600" cy="5721480"/>
          </a:xfrm>
          <a:prstGeom prst="rect">
            <a:avLst/>
          </a:prstGeom>
          <a:noFill/>
          <a:ln w="0">
            <a:noFill/>
          </a:ln>
        </p:spPr>
        <p:txBody>
          <a:bodyPr anchor="t">
            <a:normAutofit fontScale="86000"/>
          </a:bodyPr>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Передача на территории РФ товаров (выполнение работ, оказание услуг) для собственных нужд, расходы на которые не принимаются к вычету (в том числе через амортизационные отчисления) при исчислении налога на прибыль организаций. К таким операциям относятся, например, содержание объектов здравоохранения, домов престарелых и инвалидов, объектов культуры и спорта, оздоровительных лагерей, работы по благоустройству городов и поселков, содержание учебных заведений и профессионально - технических училищ, состоящих на балансе организации. При передаче налогоплательщиком товаров (выполнении работ, оказании услуг) для собственных нужд, расходы на которые не принимаются к вычету при исчислении налога на прибыль организаций, налоговая база определяется по ценам реализации идентичных или однородных товаров (работ, услуг), действующим в предыдущем налоговом периоде, а при их отсутствии - исходя из рыночных цен без учета налога с продаж и НДС, но с включением акцизов.</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К идентичным относят товары, одинаковые во всех отношениях с оцениваемыми, включая физические характеристики, качество и репутацию на рынке, производителя и страну происхождения.</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Однородными считаются товары, не являющиеся одинаковыми во всех отношениях, но имеющие сходные характеристики, состоящие из схожих компонентов, что позволяет им выполнять те же функции и быть взаимозаменяемыми. Для однородных товаров идентифицируют страну происхождения, производителя, качество, наличие товарного знака и репутацию на рынке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Выполнение строительно-монтажных работ для собственного потребления. Строительно-монтажные работы, выполненные индивидуальными предпринимателями на объектах, предназначенных для своего личного потребления, не являются объектом обложения НДС. При выполнении строительно-монтажных работ для собственного потребления налоговая база определяется как стоимость выполненных работ, исчисленная исходя из всех фактических расходов налогоплательщика на их выполнени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fontScale="88000"/>
          </a:bodyPr>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Ввоз товаров на таможенную территорию РФ. При ввозе товаров на таможенную территорию РФ в налоговую базу следует включать таможенную стоимость ввозимых товаров, таможенную пошлину и акцизы. Приказом Государственного Таможенного комитета РФ от 19 декабря 2000 г. N 01-06/36951 «О применении таможенными органами части второй Налогового кодекса Российской Федерации» утверждены Методические рекомендации о порядке применения налога на добавленную стоимость в отношении товаров, ввозимых на территорию РФ, в которых установлены правила взимания налога.</a:t>
            </a:r>
            <a:endParaRPr b="0" lang="en-US" sz="2000" spc="-1" strike="noStrike">
              <a:solidFill>
                <a:srgbClr val="ffffff"/>
              </a:solidFill>
              <a:latin typeface="Garamond"/>
            </a:endParaRPr>
          </a:p>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Не подлежат налогообложению следующие опе­рации:</a:t>
            </a:r>
            <a:endParaRPr b="0" lang="en-US" sz="2000" spc="-1" strike="noStrike">
              <a:solidFill>
                <a:srgbClr val="ffffff"/>
              </a:solidFill>
              <a:latin typeface="Garamond"/>
            </a:endParaRPr>
          </a:p>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сдача в аренду служебных и жилых помещений иностранным граж­данам или организациям, аккредитованным в РФ (если такая же льгота предоставляется российской стороне в стране пребывания);</a:t>
            </a:r>
            <a:endParaRPr b="0" lang="en-US" sz="2000" spc="-1" strike="noStrike">
              <a:solidFill>
                <a:srgbClr val="ffffff"/>
              </a:solidFill>
              <a:latin typeface="Garamond"/>
            </a:endParaRPr>
          </a:p>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реализация на территории РФ медицинского оборудования по перечню, утвержденному Постановлением правительства РФ от 17.01.2002 г. № 19 и медицинских товаров (по перечню, утверж­денному Правительством), технических средств для профилакти­ки инвалидности и реабилитации инвалидов, медицинских услуг, оказываемых организациями (за исключением косметических, ветеринарных и санитарно-эпидемиологических) и т. д.;</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по содержанию детей в дошкольных учреждениях, заня­тий с несовершеннолетними детьми в кружках и секциях;</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реализация продуктов питания, произведенных столовыми при учебных, медицинских заведениях, полностью или частично фи­нансируемых из бюджета или из средств фонда обязательного ме­дицинского страхования;</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по перевозке пассажиров транспортом общего пользова­ния (кроме такси);</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в сфере образования по проведению некоммерческими орга­низациями учебно-производственного процесса (за исключением консультационных услуг и услуг по сдаче помещений в аренду);</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реализация товаров и услуг, произведенных организациями ин­валидов, в которых инвалиды составляют не менее 80%, и органи­зациями, уставный капитал которых полностью состоит из вкла­дов общественных организаций и инвалидов, среднесписочная численность инвалидов — не менее 50%, а их доля в оплате труда — не менее 25%;</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банковские операции (за исключением инкассации);</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оказываемые учреждениями культуры и искусства в сфе­ре культуры и искусства и т. д.</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Перечисленные операции не подлежат налогообложению при нали­чии у налогоплательщиков лицензии на соответствующий вид деятель­ности. Если перечисленные виды деятельности осуществляются в пользу других организаций по договорам комиссии, поручения или агентских договоров, освобождение от налога не производится.</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3. Налоговая база, налоговый период, налоговые ставки</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ля определения размера НДС необходимо четко представлять порядок формирования нало­говой базы. Налоговая база для исчисления и упла­ты НДС определяется в зависимости от особенно­стей реализации произведенных налогоплатель­щиком или приобретенных на стороне товаров, работ и услуг. При этом важно иметь в виду, что в случае применения налогоплательщиком при реа­лизации, а также при передаче, выполнении или оказании для собственных нужд товаров, работ или услуг различных налоговых ставок налоговая база должна определяться отдельно по каждому виду товаров, работ и услуг, облагаемых по разным ставкам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реализации товаров, работ и услуг по сроч­ным сделкам, т. е. таким сделкам, которые предпола­гают поставку товаров, выполнение работ и оказа­ние услуг по истечении установленного договором или контрактом срока по указанной непосредствен­но в этом договоре или контракте цене, налоговая база определяется как стоимость этих товаров, работ и услуг, указанная непосредственно в договоре или контракте, но не ниже их стоимости, исчисленной исходя из рыночных цен (с учетом акцизов и без включения в них НДС).</a:t>
            </a:r>
            <a:endParaRPr b="0" lang="en-US" sz="2200" spc="-1" strike="noStrike">
              <a:solidFill>
                <a:srgbClr val="ffffff"/>
              </a:solidFill>
              <a:latin typeface="Garamond"/>
            </a:endParaRPr>
          </a:p>
          <a:p>
            <a:pPr marL="312120" indent="-3121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осуществлении налогоплательщиками пред­принимательской деятельности в интересах другого лица на основе договоров поручения, договоров ко­миссии или же агентских договоров налоговая база представляет собой сумму дохода, полученную ими в виде вознаграждений или любых других доходов при исполнении каждого из указанных договоров.</a:t>
            </a:r>
            <a:endParaRPr b="0" lang="en-US" sz="2200" spc="-1" strike="noStrike">
              <a:solidFill>
                <a:srgbClr val="ffffff"/>
              </a:solidFill>
              <a:latin typeface="Garamond"/>
            </a:endParaRPr>
          </a:p>
          <a:p>
            <a:pPr marL="312120" indent="-3121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выполнении строительно-монтажных работ для собственного потребления налоговая база пред­ставляет собой стоимость выполненных работ, ис­численную исходя из всех фактических расходов на­логоплательщика на их выполнение.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189000"/>
            <a:ext cx="8435880" cy="5937120"/>
          </a:xfrm>
          <a:prstGeom prst="rect">
            <a:avLst/>
          </a:prstGeom>
          <a:noFill/>
          <a:ln w="0">
            <a:noFill/>
          </a:ln>
        </p:spPr>
        <p:txBody>
          <a:bodyPr lIns="90000" rIns="90000" tIns="46800" bIns="46800" anchor="t">
            <a:normAutofit fontScale="92000"/>
          </a:bodyPr>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При реализации имущества, которое подлежит учету по стоимости, включая уплаченный налог, на­логовая база определяется как разница между ценой реализуемого имущества (с учетом НДС и акцизов) и его оста­точной стоимостью с учетом переоценок.</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Особый порядок определения налоговой базы установлен при ввозе товаров на российскую тамо­женную территорию. Общее правило гласит, что в этом случае налого­вая база определяется как сумма следующих вели­чин:</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 таможенная стоимость этих товаров;</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 подлежащая уплате таможенная пошлина;</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 подлежащие уплате акцизы.</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Включаются в налоговую базу также суммы аван­совых или других платежей, полученных в счет пред­стоящих поставок товаров, выполнения работ или оказания услуг. Но это положение не распространя­ется на авансовые или другие платежи, полученные в счет предстоящих поставок товаров, облагаемых по ставке 0 процентов, длительность производственно­го цикла изготовления которых составляет свыше шести месяцев. </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560" y="620640"/>
            <a:ext cx="8435880" cy="59040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 налоговой ставке в размере 10 процентов на­логообложение производится при реализации отдельных социально-значимых продовольственных товаров, а также товаров для детей. Перечень этих товаров установлен Налоговым кодек­сом. По указанной ставке в размере 10 процентов об­лагается НДС реализация детской одежды, обуви, детских кроватей и матрацев, колясок, школьных тетрадей и других школьно-письменных принад­лежностей, а также игрушек. По ставке 10 процентов облагается также реали­зация зерна, комбикормов, кормовых смесей, зер­новых отходов, маслосемян и продуктов их перера­ботки. Налоговая ставка в размере 10 процентов применяется при реализации учебной и научной книжной продукции и периодических пе­чатных изданий, за исключением периодических пе­чатных изданий рекламного или эротического ха­рактера. Кроме того, по ставке 10 процентов обла­гается реализация как отечественных, так и ино­странных лекарственных средств и изделий меди­цинского назначен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К числу центральных, наиболее употребимых и значимых налогов относится налог на добавленную стоимость. Как и любой другой налог, НДС выполняет, прежде всего, фискальную функцию, но его значение как источника бюджетного дохода по мере развития российской экономики постепенно изменялось. Помимо сугубо фискальных задач, НДС выполняет важнейшую задачу налогового регулятора экономики. Манипулирование такими инструментами налогового механизма, как налоговые ставки и льготы, позволяет стимулировать, а в определенных условиях - ограничивать развитие тех или иных видов деятельности. На основании вышеизложенного, можно судить об актуальности выбранной темы курсовой работы.</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Целью настоящей курсовой работы является рассмотрение практических аспектов исчисления и учета налога на добавленную стоимость, анализ действующей российской системы налогообложения НДС и методов его оптимизации. </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Для достижения поставленной в курсовой работе цели необходимо решить следующие задачи:</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определить значение налога в налоговой системе РФ;</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рассмотреть основные элементы налога, порядок исчисления и сроки уплаты;</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представить организационно-экономическую характеристику исследуемого предприятия;</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изучить порядок исчисления и уплаты налога на предприятии;</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предложить пути оптимизации налога на добавленную стоимость.</a:t>
            </a:r>
            <a:endParaRPr b="0" lang="en-US" sz="1700" spc="-1" strike="noStrike">
              <a:solidFill>
                <a:srgbClr val="ffffff"/>
              </a:solidFill>
              <a:latin typeface="Garamond"/>
            </a:endParaRPr>
          </a:p>
          <a:p>
            <a:pPr marL="332640" indent="-3326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Объект исследования в курсовой работе является Общество с ограниченной ответственностью «Гофротара», осуществляющее</a:t>
            </a:r>
            <a:r>
              <a:rPr b="0" lang="ru-RU" sz="1200" spc="-1" strike="noStrike">
                <a:solidFill>
                  <a:srgbClr val="ffffff"/>
                </a:solidFill>
                <a:latin typeface="Garamond"/>
              </a:rPr>
              <a:t> производство гофрированного картона и бумажной тары.</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8000"/>
          </a:bodyPr>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Реализация всех остальных товаров, работ и услуг, не освобожденных в соответствии с Россий­ским налоговым законодательством от уплаты НДС, с 1 января 2004 г. облагается налогом по ставке в размере 18 процентов. При ввозе большинства товаров на таможенную территорию России они облагаются по ставкам 18 процентов, а продовольственные товары первой необходимости и детская одежда и обувь - по ставке 10 процентов.</a:t>
            </a:r>
            <a:endParaRPr b="0" lang="en-US" sz="2100" spc="-1" strike="noStrike">
              <a:solidFill>
                <a:srgbClr val="ffffff"/>
              </a:solidFill>
              <a:latin typeface="Garamond"/>
            </a:endParaRPr>
          </a:p>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Налогообложение по указанным расчетным на­логовым ставкам производится при получении де­нежных средств, связанных с оплатой товаров, работ и услуг (авансовые платежи, финансовая помощь, процент или дисконт по векселям и т.д.), а также при удержании налоговыми агентами.</a:t>
            </a:r>
            <a:endParaRPr b="0" lang="en-US" sz="2100" spc="-1" strike="noStrike">
              <a:solidFill>
                <a:srgbClr val="ffffff"/>
              </a:solidFill>
              <a:latin typeface="Garamond"/>
            </a:endParaRPr>
          </a:p>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С 1 января 2006 года для всех налогоплательщиков устанавливается дата возникновения налогового обязательства по мере отгрузки и предъявления покупателю расчетных до­кументов.</a:t>
            </a:r>
            <a:endParaRPr b="0" lang="en-US" sz="2100" spc="-1" strike="noStrike">
              <a:solidFill>
                <a:srgbClr val="ffffff"/>
              </a:solidFill>
              <a:latin typeface="Garamond"/>
            </a:endParaRPr>
          </a:p>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Налоговый период при уплате НДС установлен Налоговым кодексом как календарный месяц. В то же время для налогоплательщиков с ежемесячными в течение квартала суммами выручки от реализации товаров, работ и услуг без учета налога на добавлен­ную стоимость и налога с продаж, не превышающи­ми 2 млн. рублей, налоговый период установлен как квартал.</a:t>
            </a: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260280"/>
            <a:ext cx="8229600" cy="5865840"/>
          </a:xfrm>
          <a:prstGeom prst="rect">
            <a:avLst/>
          </a:prstGeom>
          <a:noFill/>
          <a:ln w="0">
            <a:noFill/>
          </a:ln>
        </p:spPr>
        <p:txBody>
          <a:bodyPr anchor="t">
            <a:normAutofit fontScale="94000"/>
          </a:bodyPr>
          <a:p>
            <a:pPr marL="322200" indent="-322200" algn="ctr">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1.4. Счет-фактура. Отнесение сумм НДС на затраты</a:t>
            </a:r>
            <a:endParaRPr b="0" lang="en-US" sz="1900" spc="-1" strike="noStrike">
              <a:solidFill>
                <a:srgbClr val="ffffff"/>
              </a:solidFill>
              <a:latin typeface="Garamond"/>
            </a:endParaRPr>
          </a:p>
          <a:p>
            <a:pPr marL="322200" indent="-322200" algn="ctr">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по производству и реализации товаров</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В соответствии со статьей 169 Налогового кодекса Российской Федерации счет-фактура является документом, служащим основанием для принятия предъявленных сумм налога на добавленную стоимость к вычету или возмещению.</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Постановлениями Правительств Российской Федерации от 02.12.2000 №914 и от 15.03.2001 №189 утверждена форма счета-фактуры и Правила ведения журналов учета полученных и выставленных счетов-фактур, книг покупок и книг продаж при расчетах по налогу на добавленную стоимость.</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Согласно пункту 2 статьи 169 Кодекса счета-фактуры, составленные и выставленные с нарушением порядка, установленного пунктами 5 и 6 этой статьи, не могут являться основанием для принятия предъявленных покупателю продавцом сумм налога на добавленную стоимость к вычету или возмещению Изменения внешней формы счета-фактуры не должны нарушать последовательности расположения и числа показателей, утвержденных вышеуказанными постановлениями Правительства Российской Федерации в типовой форме счета-фактуры.</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Согласно пункту 3 статьи 168 Кодекса при реализации товаров (работ, услуг) налогоплательщик обязан выставить покупателю соответствующий счет-фактуру не позднее пяти дней, считая со дня отгрузки товара (выполнения работ, оказания услуг).</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8000"/>
          </a:bodyPr>
          <a:p>
            <a:pPr marL="301680" indent="-3016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этом следует учитывать особенности условий заключение договоров поставки, учета и расчетов при отгрузке товаров (оказания услуг) в отдельных отраслях, связанных с непрерывными долгосрочными поставками в адрес одного и того же покупателя, такими, как непрерывный отпуск товаров и оказание услуг по транспортировке одним и тем же покупателям электроэнергии, нефти, газа; оказание услуг электросвязи, банковских услуг; ежедневная многократная реализация в адрес одного покупателя хлеба и хлебобулочных изделий, скоропортящихся продуктов питания и т.д. В этих случаях допускается составление счетов-фактур в соответствии с условиями договора поставки, заключенного между продавцом и покупателем товаров (услуг), актами сверки осуществленных поставок и выставление счетов-фактур покупателям одновременно с платежно-расчетными документами, но не реже одного раза в месяц и не позднее 5-го числа месяца, следующего за истекшим месяцем. При этом необходимо иметь в виду, что составление счетов-фактур и регистрация их в книге продаж должны производится в том налоговом периоде, в котором состоялась реализация этих товаров (оказание услуг) в соответствии с принятой организацией учетной политикой для целей налогообложения.</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чета-фактуры, не соответствующие установленным нормам их заполнения, не могут регистрироваться в книге покупок.  Продавцы ведут книгу продаж, предназначенную для регистрации счетов-фактур (лент контрольно-кассовых машин, бланков строгой отчетности), составляемых продавцом при совершении операций, признаваемых объектами, которые облагаются налогом на добавленную стоимость, в том числе не подлежащих налогообложению (освобождаемых от налогообложения). Регистрация счетов-фактур в книге продаж производится в хронологическом порядке в том налоговом периоде, в котором возникает налоговое обязательство.</a:t>
            </a: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При получении денежных средств в виде авансовых или иных платежей в счет предстоящих поставок товаров (выполнения работ, оказания услуг) продавцом составляется счет-фактура, который регистрируется в книге продаж. В случае частичной оплаты за отгруженные товары (выполненные работы, оказанные услуги) при принятии учетной политики для целей налогообложения по мере поступления денежных средств регистрация продавцом счета-фактуры в книге продаж производится на каждую сумму, поступившую в порядке частичной оплаты, с указанием реквизитов счета-фактуры по этим отгруженным товарам (выполненным работам, оказанным услугам) и пометкой по каждой сумме «частичная оплат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алоговое законодательство предусматривает, что предъявленные налогоплательщику суммы налога не включаются в расходы, принимаемые к вычету при исчислении налога на прибыль организаций, а должны учитываться отдельно. Одновременно с этим российское налоговое законодательство предусмотрело и отдельные случаи, когда предъявленные налогоплательщику или уплаченные им суммы НДС включаются в затраты налогоплательщика на производство и реализацию продукции. Это имеет место в случае использования приобретенных или оплаченных товаров, работ и услуг при производстве или реализации товаров, работ и услуг, операции по реализации которых не подлежат налогообложению, т.е. освобождаются от налогообложения.</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Включаются в затраты производства предъявленные или уплаченные суммы НДС в случае использования приобретенной продукции при производстве или передаче товаров, работ и услуг, операции по передаче которых для собственных нужд являются объектом налогообложения, но не подлежат налогообложению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В случае когда приобретенные товары, работы или услуги частично используются в производстве товаров, работ и услуг, операции по реализации которых подлежат налогообложению, а частично - в производстве товаров, работ и услуг, операции по реализации которых освобождены от налогообложения, суммы налога, предъявленные продавцом указанных приобретенных товаров, работ и услуг, включаются в затраты, принимаемые к вычету при исчислении налога на доходы или подлежат налоговому вычету в той пропорции (в стоимостном выражении), в которой указанные приобретенные товары, работы и услуги использованы для производства или реализации продукции, операции по реализации которых подлежат налогообложению (освобождены от налогообложения). Указанная пропорция определяется исходя из стоимости товаров, работ и услуг, операции по реализации которых подлежат налогообложению или освобождены от налогообложения</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Но это положение не применяется в тех налоговых периодах, в которых доля товаров, работ и услуг, используемых для производства или реализации продукции, не подлежащих налогообложению, не превышает 5 процентов (в стоимостном выражении) общей стоимости приобретаемых товаров, работ и услуг, используемых для производства или реализации продукции. В этом случае все суммы налога, предъявленные продавцами указанных товаров, работ и услуг, должны учитываться отдельно и, соответственно, не включаться в издержки производства.</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1.5. Порядок исчисления налога, порядок и сроки уплаты налога</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ДС, как и большинства других установ­ленных российским налоговым законодательством налогов, должна определяться налогоплательщиком самостоятельно исходя из соответствующих ставок налога, налоговой базы с учетом установленных льгот, рассрочек и отсрочек.</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алога исчисляется как соответствующая налоговой ставке процентная доля налоговой базы. В том случае, если производится продукция, обла­гаемая по разным ставкам, общая сумма налога представляет собой результат сложения сумм нало­гов, исчисляемых отдельно как соответствующие налоговым ставкам процентные доли соответствую­щих налоговых баз [18, с. 145].</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При этом указанная сумма определяется по ито­гам каждого налогового периода применительно ко всем операциям по реализации товаров, работ или услуг, дата фактической реализации которых отно­сится к соответствующему налоговому периоду, а также по всем изменениям, увеличивающим или уменьшающим налоговую базу в соответствующем налоговом периоде.</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ДС, исчисленная со стоимости реали­зации товаров и услуг, может быть уменьшена на сумму НДС:</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1) уплаченную поставщикам товаров (работ, услуг), приобретае­мых для производственной деятельности или для перепродаж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2) удержанную из доходов иностранных лиц, не состоящих на нало­говом учете в ГН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3) по товарам, возвращенным покупателям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4) по расходам на командировк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5) по авансам и предоплатам по экспортным поставкам.</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ДС, подлежащая уплате в бюджет, определяется в виде разницы между суммой НДС по реализованным товарам и услугам и про­изведенными из нее вычетами.</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333000"/>
            <a:ext cx="8229600" cy="5792760"/>
          </a:xfrm>
          <a:prstGeom prst="rect">
            <a:avLst/>
          </a:prstGeom>
          <a:noFill/>
          <a:ln w="0">
            <a:noFill/>
          </a:ln>
        </p:spPr>
        <p:txBody>
          <a:bodyPr anchor="t">
            <a:normAutofit fontScale="88000"/>
          </a:bodyPr>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ри этом законодательством установлено, что вычеты осуществляются по всем суммам налога, предъявленным налогоплательщику и уплаченным им при приобретении товаров, работ и услуг или фактически уплаченным им при ввозе товаров на российскую таможенную территорию, но только по­сле принятия на учет соответствующих товароматериальных ценностей, включая работы и услуги, а также при наличии соответствующих первичных документов.</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ычеты сумм налога по приобретенным основ­ным средствам и нематериальным объектам также производятся в полном размере после принятия на учет этих основных средств или нематериальных объектов.</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 результате осуществления всех положенных по закону вычетов остается сумма налога, подлежащая уплате налогоплательщиком в бюджет. Если сумма произведенных вычетов окажется больше суммы НДС с реализованных товаров, то сумма НДС, подлежащая уплате в бюд­жет в данном налоговом периоде, принимается равной нулю. Остав­шаяся сумма превышения вычетов направляется на погашение за­долженности по НДС в последующие три налоговых периода, а также на уплату присужденных налогоплательщику штрафов, пени, сумм недоимок. Если в течение трех налоговых периодов сумма не была зачтена, она возвращается плательщику по его заявлению в течение двух недель с даты подачи заявления (при нарушении указанного срока начисляются проценты исходя из ставки рефинансирования ЦБ РФ).</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64984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едприятия на основе данных бухгалтерского учета и отчетности вносят НДС в виде фактических платежей, периодичность и сроки уплаты которых зависят от размера их оборотов по реализации про­дукции, работ или услуг. В отличие от налога на при­быль организаций, который уплачивается платель­щиком нарастающим итогом с начала года, НДС рассчитывается за каждый налоговый период.</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плата налога производится исходя из фактиче­ской реализации товаров, выполнения работ, оказа­ния услуг за истекший налоговый период не позднее 20-го числа месяца, следующего за этим месяцем.</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404280"/>
            <a:ext cx="8229600" cy="5721480"/>
          </a:xfrm>
          <a:prstGeom prst="rect">
            <a:avLst/>
          </a:prstGeom>
          <a:noFill/>
          <a:ln w="0">
            <a:noFill/>
          </a:ln>
        </p:spPr>
        <p:txBody>
          <a:bodyPr anchor="t">
            <a:normAutofit fontScale="89000"/>
          </a:bodyPr>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АВА 2. ИСЧИСЛЕНИЕ НАЛОГА НА ДОБАВЛЕННУЮ СТОИМОСТЬ </a:t>
            </a:r>
            <a:endParaRPr b="0" lang="en-US" sz="2000" spc="-1" strike="noStrike">
              <a:solidFill>
                <a:srgbClr val="ffffff"/>
              </a:solidFill>
              <a:latin typeface="Garamond"/>
            </a:endParaRPr>
          </a:p>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ООО «ГОФРОТАРА»</a:t>
            </a:r>
            <a:endParaRPr b="0" lang="en-US" sz="2000" spc="-1" strike="noStrike">
              <a:solidFill>
                <a:srgbClr val="ffffff"/>
              </a:solidFill>
              <a:latin typeface="Garamond"/>
            </a:endParaRPr>
          </a:p>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2.1. Организационно-экономическая характеристика предприятия</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бщество с ограниченной о ответственностью «Гофротара» создано на основе добровольного соглашения лиц, объединивших свои средства, для совместной хозяйственной деятельности и достижения целей, определенных в Уставе Общества.</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бщество является юридическим лицом, имеет право от своего имени заключать договоры, приобретать имущественные и личные неимущественные права, исполнять обязанности, быть истцом и ответчиком в суде, арбитражном суде, Третейском суде.</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бщество имеет самостоятельный баланс, обособленное имущество в собственности, круглую печать, штампы, товарный знак, другие необходимые реквизиты, вправе открывать счета в банках. Имущество Общества формируется за счет вкладов его участников, полученных доходов и других законных источников. Общество отвечает по своим обязательствам всем принадлежащим ему имуществом.</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ОО «Гофротара» образовано 14 октября 2002 года. Свидетельством о внесении в Единый государственный реестр юридических лиц присвоен основной государственный регистрационный номер - 2762. </a:t>
            </a:r>
            <a:endParaRPr b="0" lang="en-US" sz="2000" spc="-1" strike="noStrike">
              <a:solidFill>
                <a:srgbClr val="ffffff"/>
              </a:solidFill>
              <a:latin typeface="Garamond"/>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едметом исследования в курсовой работе является методика исчисления налога на добавленную стоимость в соответствии с действующим законодательством.</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и подготовке материала для данной курсовой работы в основном был сделан упор на литературу таких ведущих экономистов, как Юткиной Т.Ф., Окучено Л.П., Русаковой И.Г., Мельника А.А., Воронина А.Г., Лапина В.А., Широкова А.Н., Горского И.В., Палковой И.Ю., Тишкова И.О., Лаврова А.Д., Мельника А.А., Емельянова Н.А. и других авторов.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Основным видом деятельности организации является производство гофрированного картона, бумажной и картонной тары. Также Общество вправе осуществлять любые виды деятельности, не запрещенные законом.</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В условиях реформирования экономики предприятие взяло курс на переориентацию и расширение производства, на выпуск только конкурентно-способной продукции, имеющей спрос на рынке сбыта.</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В организации существует ОТК, который ведет контроль за технологическим режимом: входящий контроль сырья, промежуточный, контроль готовой продукции.</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В ООО «Гофротара» наблюдается высокая степень автоматизации производства и высокий уровень технологии. Это приводит к сокращению потерь на всех стадиях производственного процесса, повышению производительности труда, улучшению качественных показателей готовой продукции.</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Ресурсный потенциал организации представлен материальными, трудовыми и финансовыми ресурсами.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549000"/>
            <a:ext cx="8713800" cy="604836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В соответствии с учетной политикой, бухгалтерский учет осуществляется бухгалтерией, являющейся самостоятельным структурным подразделением. Аппарат бухгалтерии возглавляет главный бухгалтер. В его обязанности входит не только осуществление руководства бухгалтерской службой и контроль за ее деятельностью, но и ведение Главной книги, оборотных ведомостей, учет расчетов с подотчетными лицами и прочими дебиторами и кредиторами. </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ия состоит из 7 человек:</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Главный бухгалтер.</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Заместитель главного бухгалтера.</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материалам.</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расчетам с работниками предприятия.</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расчетам с покупателями и поставщиками.</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Экономист.</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кассир.</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Заместитель главного бухгалтера осуществляет расчеты с бюджетом по налогам, ведет учет остальных операций, составляет сводные и обобщающие документы.</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материалам отвечает за учет приобретения материальных ценностей, их поступления и расходования. Проверяет правильность ведения складского учета материальных ценностей, составляет отчет о наличии и движении материальных и других имущественных ценностей.</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расчетам с работниками осуществляет начисление заработной платы работникам, контроль за использованием фонда оплаты труда, учет всех остальных расчетов с работниками. </a:t>
            </a: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Экономист ведет учет затрат на производство, калькулирует себестоимость продукции.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ухгалтер по расчетам с покупателями и поставщиками  ведет учет готовой продукции, ее реализации, производит учет расчетов с поставщиками и покупателями, осуществляет контроль за правильностью и своевременностью поступлений платежей от них.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ухгалтер-кассир ведет учет кассовых операций, операций по расчетному счету, организует бухгалтерский архив.</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ведении бухгалтерского учета применяется автоматизированная форма учета с применением бухгалтерской программы «1С: Предприятие».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ухгалтерский учет на предприятии ведется в соответствии с учётной политикой, которая разрабатывается главным бухгалтером и утверждается руководителем предприятия на основании ПБУ 1/98 «Учётная политика организации». Бухгалтерский учёт в ООО «Гофротара» ведётся по рабочему плану счетов. Так же в обществе разработана и утверждена учетная политика для целей бухгалтерского учета и целей налогообложения (Приложение 1).</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ервичные учетные документы принимаются к учету по факту их предъявления. Движение документов на предприятии осуществляется в соответствии с утверждённым графиком документооборота.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сновные показатели хозяйственной деятельности предприятия составлены на основании данных Бухгалтерского баланса (Приложение 2), Отчета о прибылях и убытках (Приложение 3) и представлены в таблице 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04280"/>
            <a:ext cx="8229600" cy="572148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По данным таблицы 3 видно, что за анализируемый период благодаря модернизации производства и ввода новых линий выручка от продажи продукции увеличилась на 9615 тыс.руб., или на 7,56%. Повышение цен на сырье и материалы вызвало увеличение себестоимости на 7036 тыс.руб., или на 5,71%. Более высокие темпы роста выручки по сравнению с темпами роста себестоимости привели к росту прибыли от продаж на 2579 тыс.руб., или на 65,18%.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Аналогичная тенденция наблюдается и в отношении рентабельности продаж: 2007 году она выросла на 1,81 пункт, однако  все равно находится на достаточно низком уровне – 5,02. Затраты на 1 руб. продукции снизились на 0,02 коп. и составили 0,95 коп.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За 2007 год улучшились показатели использования основных средств, а именно: рост фондоотдачи составил 124,51%, что довольно высокий показатель, а среднегодовая стоимость основных средств уменьшилась на 2797 тыс.руб. за счет ликвидации и продажи неиспользуемого оборудования.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За 2007 год произошло сокращение среднесписочной численности работников на 14 человек, или на 3,94%. Сокращение численности стало возможным в связи с модернизацией технологической линии № 3 и реконструкции бегунов № 5 и 12. Эти обстоятельства повлияли на рост производительности труда на 42,9 тыс.руб., или на 11,98%.</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Фонд заработной платы за анализируемый период имеет устойчивую тенденцию к росту: в 2007 году он увеличился на 4125 тыс.руб., или на 14%.  Анализ показал, что темпы роста оплаты труда опережают темпы роста производительности труда, что способствует увеличению себестоимости продукции за счет перерасхода фонда заработной платы.</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Среднемесячная заработная плата на предприятии также увеличивается: за 2007 году она выросла на 18,86% и составила на одного работника 8209 руб. Постоянное совершенствование системы премирования стимулирует выполнение производственной программы и повышение качества продукции.</a:t>
            </a: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260280"/>
            <a:ext cx="8229600" cy="5865840"/>
          </a:xfrm>
          <a:prstGeom prst="rect">
            <a:avLst/>
          </a:prstGeom>
          <a:noFill/>
          <a:ln w="0">
            <a:noFill/>
          </a:ln>
        </p:spPr>
        <p:txBody>
          <a:bodyPr anchor="t">
            <a:normAutofit fontScale="88000"/>
          </a:bodyPr>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a:t>
            </a:r>
            <a:r>
              <a:rPr b="0" lang="ru-RU" sz="1800" spc="-1" strike="noStrike">
                <a:solidFill>
                  <a:srgbClr val="ffffff"/>
                </a:solidFill>
                <a:latin typeface="Garamond"/>
              </a:rPr>
              <a:t>2.2. Анализ учетной политики для целей налогообложения</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 1 января 2002 года организации обязаны вести бухгалтерский учет для определения финансового результата и составления бухгалтерской отчётности и налоговый учёт с целью определения финансового результата для расчёта налога на прибыль.</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овый учёт осуществляется в целях формирования полной и достоверной информации о порядке учёта для целей налогообложения хозяйственных операций, осуществлённых налогоплательщиком в течение отчётного (налогового) периода, а также обеспечения информацией внутренних и внешних пользователей для контроля за правильностью исчисления, полнотой и своевременностью уплаты в бюджет налога.</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Таким образом, ООО «Гофротара» имеет две учетные политики. Одну учётную политику в целях бухгалтерского учёта и вторую учётную политику в целях налогообложения. Учётная политика для целей налогообложения разработана для определения налоговой базы по налогу на прибыль и по налогу на добавленную стоимость согласно требованиям п.12 ст.167 НК РФ. Формируя учётную политику в целях налогообложения организация руководствуется и правилами ведения бухгалтерского учёта, и требованиями НК РФ. </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каз по учетной политике организации для целей налогообложения, должен содержать обоснования по таким группам вопросов:</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выбранные организацией способы формирования налоговой базы, предусмотренные законодательством о налогах и сборах;</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пособы формирования налоговой базы, не предусмотренные законодательством о налогах и сборах;</a:t>
            </a:r>
            <a:endParaRPr b="0" lang="en-US" sz="1800" spc="-1" strike="noStrike">
              <a:solidFill>
                <a:srgbClr val="ffffff"/>
              </a:solidFill>
              <a:latin typeface="Garamond"/>
            </a:endParaRPr>
          </a:p>
          <a:p>
            <a:pPr marL="301680" indent="-3016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пособы формирования налоговой базы, вариантность которых обусловлена противоречивостью законодательства о налогах и сборах</a:t>
            </a:r>
            <a:r>
              <a:rPr b="0" lang="ru-RU" sz="1900" spc="-1" strike="noStrike">
                <a:solidFill>
                  <a:srgbClr val="ffffff"/>
                </a:solidFill>
                <a:latin typeface="Garamond"/>
              </a:rPr>
              <a:t>.</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учетной политике для целей налогообложения ООО «Гофротара» отражается методика определения величин, формирующих налоговую базу (методологические приемы и способы налогового учета), и общий порядок ведения налогового учета (организационно-технические способы ведения налогового учета). Одновременно приложениями к учетной политике для целей налогообложения утверждаются формы аналитических регистров налогового учета, которые предприятия разрабатывает самостоятельно.</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соответствии с учетной политикой ООО «Гофротара»  на 2007 год налоговый учет на предприятии осуществляется заместителем главного бухгалтера. За правильность отражения данных бухгалтерского учета в регистрах налогового учета по исчислению налогов и сборов ответственность несет главный бухгалтер. </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Учет расчетов по налогам и сборам ведется на счетах бухгалтерского учета непрерывно нарастающим итогом раздельно по каждому налогу и сбору, в разрезе уровней бюджетов (федеральный, бюджет субъекта РФ, местный бюджет), а также в разрезе вида задолженности (недоимка по основной сумме налога или сбора, пени, штрафы, недоимка по реструктуризированной сумме налога или сбора, пени, штрафы). </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логовый учет на предприятии ведется на основании общих принципов, закрепленных частью 2 НК РФ.</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ата получения дохода в целях исчисления налога на прибыль определяется по методу начисления.</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Для определения сумм доходов и расходов и составления Декларации по налогу на прибыль организация использует данные бухгалтерского учета, аналитических регистров. Состав и порядок ведения налоговых регистров определяется главным бухгалтером по мере необходимости.</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Налог на прибыль уплачивается ежеквартально.</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Амортизация объектов основных средств для целей налогообложения производится линейным методом. Для амортизируемых основных средств, которые являются предметом договора финансовой аренды к основной норме амортизации применяется специальный коэффициент 3. Срок полезного использования ОС принять минимальный как в налоговом так и в бухгалтерском отчете с учетом сроков эксплуатации у предыдущего собственника.</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Стоимость объектов основных средств стоимостью до 20 тыс.руб. за   единицу учитываются на счете 10 «Производственные запасы» и списываются на себестоимость продукции в момент передачи их в эксплуатацию. </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Расходы организации делятся на прямые и косвенные. В состав прямых включаются расходы, поименованные в ст.318 НК РФ. Прямые расходы в целях налогообложения определяются на основании данных налогового учета амортизационных отчислений по имуществу, используемому при производстве готовой продукции, и данных бухгалтерского учета прямых затрат, произведенных за отчетный (налоговый) период по следующим статьям: материальные  расходы (в части материалов и полуфабрикатов, используемых для изготовления продукции), учтенные на счете 20 «Основное производство», расходов по уплате единого социального налога и оплате труда персонала, непосредственно участвующего в процессе производства продукции (выполнения работ, оказания услуг), учтенных на счете 20 «Основное производство».</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333000"/>
            <a:ext cx="8229600" cy="5792760"/>
          </a:xfrm>
          <a:prstGeom prst="rect">
            <a:avLst/>
          </a:prstGeom>
          <a:noFill/>
          <a:ln w="0">
            <a:noFill/>
          </a:ln>
        </p:spPr>
        <p:txBody>
          <a:bodyPr anchor="t">
            <a:normAutofit fontScale="90000"/>
          </a:bodyPr>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Оценка остатков готовой продукции в налоговом учете определяется как разница между суммой прямых затрат, приходящейся на остатки готовой продукции на начало налогового периода, увеличенной на сумму прямых затрат, приходящейся на выпуск продукции налоговом периоде и суммой прямых затрат, приходящейся на отгруженную в налоговом периоде продукцию пропорционально доле прямых затрат в нормативной стоимости продукции..</a:t>
            </a:r>
            <a:endParaRPr b="0" lang="en-US" sz="2200" spc="-1" strike="noStrike">
              <a:solidFill>
                <a:srgbClr val="ffffff"/>
              </a:solidFill>
              <a:latin typeface="Garamond"/>
            </a:endParaRPr>
          </a:p>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Командировочные расходы оплачиваются в полной сумме произведенных расходов, для целей налогообложения суточные принимаются в пределах установленных приказом руководителя.</a:t>
            </a:r>
            <a:endParaRPr b="0" lang="en-US" sz="2200" spc="-1" strike="noStrike">
              <a:solidFill>
                <a:srgbClr val="ffffff"/>
              </a:solidFill>
              <a:latin typeface="Garamond"/>
            </a:endParaRPr>
          </a:p>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аво подписи счетов-фактур на отпуск товаров принадлежит лицам согласно приказу директора.</a:t>
            </a:r>
            <a:endParaRPr b="0" lang="en-US" sz="2200" spc="-1" strike="noStrike">
              <a:solidFill>
                <a:srgbClr val="ffffff"/>
              </a:solidFill>
              <a:latin typeface="Garamond"/>
            </a:endParaRPr>
          </a:p>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В целях более равномерного распределения расходов на проведение ремонта по отчетным (налоговым) периодам, предприятие создает резервы расходов на ремонт основных средств в размере 1 200 000 рублей с ежемесячным начисление в размере 100 000 рублей. При образовании резерва в состав затрат включается сумма отчислений, исчисленная исходя из сметы ремонта основных средств в течение года.</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280"/>
            <a:ext cx="8229600" cy="5721480"/>
          </a:xfrm>
          <a:prstGeom prst="rect">
            <a:avLst/>
          </a:prstGeom>
          <a:noFill/>
          <a:ln w="0">
            <a:noFill/>
          </a:ln>
        </p:spPr>
        <p:txBody>
          <a:bodyPr anchor="t">
            <a:normAutofit fontScale="94000"/>
          </a:bodyPr>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2.3. Организация учета расчетов по НДС в ООО «Гофротара»</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Учет налога на добавленную стоимость ведется на счетах 19 «Налог на до­бавленную стоимость по приобретенным ценностям» по соответствующим суб­счетам, 68 «Расчеты по налогам и сборам», субсчете «Расчеты по налогу на до­бавленную стоимость».</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 на добавленную стоимость, полученный от покупателей, отражается по кредиту счета 68 в корреспонденции со счетами учета продаж: (Дебет счетов  90, 91, Кредит 68).</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получении авансов (предоплат) организации с полученных сумм начис­ляют НДС (Дебет счетов 76, 62 Кредит 68); затем после отгрузки товаров (работ, услуг), под которые был получен аванс (предоплата), производится начисление НДС по осуществленной отгрузке (Дебет 90, Кредит 68) и зачет ранее начисленного НДС по авансу или предоплате (Дебет 68, Кредит счетов 76, 62).</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 на добавленную стоимость, подлежащий уплате поставщикам и подрядчикам за приобретенные у них материальные ценности, выполненные работы, оказанные услуги производственного назначения отражается по дебету счета 19. Списание налога на добавленную стоимость со счета 19 производится после оприходования материальных ценностей, принятых работ, услуг и при наличии счета-фактуры в уменьшение задолженности бюджету по данному налогу. В случае использования материальных ценностей, работ, услуг для непроизводственных целей сумма налога на добавленную стоимость, ранее списанная в зачет бюджету и приходящаяся на эти ценности, работы, услуги, восстанавливается как задолженность бюджету.</a:t>
            </a: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260280"/>
            <a:ext cx="8229600" cy="586584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продаже товаров (работ, услуг), облагаемых НДС, сумма НДС полученного отражается по кредиту счета 68, сумма НДС уплаченного отражается по дебету счета 68; в бюджет уплачивается разница между НДС полученным и НДС уплаченным; в случае, если НДС уплаченный окажется больше НДС полученного, бюджет засчитывает свой долг в счет уплаты других налогов в данный бюджет либо возвращает НДС из бюджета.</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о окончании отчетного (налогового) периода составляется налоговая декларации по форме утвержденной Приказом Минфина РФ от 07.11.2006 г. № 136н.</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 всех первичных учетных и расчетных документах НДС выделяется отдельной строкой. В течение 5 дней со дня отгрузки продукции поставщик обязан выставить покупателю счет-фактуру, который является основанием для предоставления покупателем НДС к возмещению из бюджета.</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ООО «Гофротара» счета-фактуры на отгруженную продукцию (Приложение 4) регистрируются в книге продаж (Приложение 5), а счета-фактуры по оприходованным товарно-материальным ценностям, или услугам (Приложение 6) регистрируются в книге покупок (Приложение 7). На основании данных книги продаж и книги покупок заполняется налоговая декларация (Приложение 8).</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8000"/>
          </a:bodyPr>
          <a:p>
            <a:pPr marL="335880" indent="-335880" algn="ct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ГЛАВА 1. ПОНЯТИЕ И ХАРАКТЕРИСТИКА НАЛОГА </a:t>
            </a:r>
            <a:endParaRPr b="0" lang="en-US" sz="2400" spc="-1" strike="noStrike">
              <a:solidFill>
                <a:srgbClr val="ffffff"/>
              </a:solidFill>
              <a:latin typeface="Garamond"/>
            </a:endParaRPr>
          </a:p>
          <a:p>
            <a:pPr marL="335880" indent="-335880" algn="ct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 ДОБАВЛЕННУЮ СТОИМОСТЬ</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 Значение налога в налоговой системе РФ</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 Российской Федерации НДС появился в начале 90-х. годов двадцатого века. Причиной его включения в налоговую систему страны стала не только необходимость существенно увеличить доходы бюджета, но и желание вступить в ЕЭС. НДС был введен Законом РСФСР от 06.12.1991 №1992-1 «О налоге на добавленную стоимость» и начал взиматься с 01.01.1992. Закон утратил силу с 01.01.2001 в соответствии с Федеральным законом от 05.08.2000 №118-ФЗ «О введении в действие части второй Налогового кодекса Российской Федерации о налогах».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92760"/>
          </a:xfrm>
          <a:prstGeom prst="rect">
            <a:avLst/>
          </a:prstGeom>
          <a:noFill/>
          <a:ln w="0">
            <a:noFill/>
          </a:ln>
        </p:spPr>
        <p:txBody>
          <a:bodyPr anchor="t">
            <a:normAutofit fontScale="92000"/>
          </a:bodyPr>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В октябре 2007 г. в ООО «Гофротара» осуществлены следующие операции:</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Оприходованы материалы:</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окупная стоимость (Дебет 10 Кредит 60) – 617433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НДС по ним поставлен к возмещению (Дт 19 Кт 60) – 111138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риняты услуги сторонних организаций по производственной деятельности (коммунальные услуги, реклама, транспортные услуги, аренда и т.д.):</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стоимость услуг (Дебет счетов 20, 25, 26, 44 Кредит 60) – 323444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НДС по услугам принят к вычету (Дебет 19 Кредит 60) – 58220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родано продукции за октябрь, облагаемой налогом по ставке 18%:</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всего (Дебет 62 Кредит 90) – 2615850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начислен НДС (Дебет 90 Кредит 68) – 399028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Кроме того, отгружено продукции в счет ранее поступивших авансов – 22689 руб., в т.ч. НДС 148740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олучено авансов в счет предстоящих поставок продукции на сумму 1084600 тыс.руб., в т.ч. НДС – 165447 тыс.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Рассчитывается сумма НДС, начисленная к уплате в бюджет и отражается в налоговой декларации в разделе 3 следующим образом:</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по проданной продукции - 399028 руб. – отражается по строке 020;</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получено авансов от покупателей – 165447 руб. – отражается по строке 140 </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33000"/>
            <a:ext cx="8229600" cy="5792760"/>
          </a:xfrm>
          <a:prstGeom prst="rect">
            <a:avLst/>
          </a:prstGeom>
          <a:noFill/>
          <a:ln w="0">
            <a:noFill/>
          </a:ln>
        </p:spPr>
        <p:txBody>
          <a:bodyPr anchor="t">
            <a:normAutofit fontScale="88000"/>
          </a:bodyPr>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сего начислено:</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99028 руб. + 165447 руб. = 564475 руб. – отражается по строке 21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Определяются суммы, принимаемые в уменьшение задолженности организации в бюджет по НДС, которые отражаются по следующим строкам раздела 3 Налоговой декларации:</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по товарно-материальным ценностям оприходованным - 111138 руб.;</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по услугам, оказанным - 58220 руб.; </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по авансам, полученным  – 148740 руб. - отражается по строке 30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сего к возмещению из бюджета причитается сумма: </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1138 + 58220 + 148740  = 318098 руб. – отражается по строке 34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Итого к уплате НДС в бюджет за октябрь 2007 года составит:</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64475 руб.  – 318098 руб.  = 246377 руб. – отражается по строке 35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Эта же сумма переносится в строку 040 раздела 1 налоговой декларации.</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Таким образом, НДС, подлежащий уплате организацией в бюджет определяется как разница между налогом, подлежащим получению от покупателей по проданной им продукции, работам, услугам и другим объектам налогообложения и налогом, уплаченным поставщикам и подрядчикам за приобретенные у них материальные ценности, работы, услуги, стоимость которых относится на издержки производства.</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2.4. Методы оптимизации налога на добавленную стоимость</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ервые исследования по проблемам налоговой оптимизации как элемента избежания налогов появились в западной литературе в 70 - 80-х гг. предыдущего столетия. Налоговая оптимизация рассматривалась в первую очередь как экономическое явление и изучалась в рамках финансового менеджмента. С организацией новой налоговой системы в РФ данное явление и понятие стало предметом исследования в отечественной экономической и правовой литературе.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дним из методов налоговой оптимизации является получение отсрочки или рассрочки обязательных платежей в бюджет, что позволяет произвести платеж в более поздние срок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о экономическому эффекту отсрочку и рассрочку уплаты налога можно сравнить с получением заемных средств. В этом случае в текущем периоде налогоплательщик может направить свои средства на хозяйственные нужды вместо уплаты налога.</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 НК РФ гл.9 регулирует порядок изменения срока уплаты налога и сбора, а также пен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Так, изменение срока уплаты налога и сбора осуществляется в форме: отсрочки; рассрочки; налогового кредита; инвестиционного налогового кредита.</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тсрочка по уплате налога может быть от одного до шести месяцев с единовременной уплатой налогоплательщиком суммы задолженност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Рассрочка по уплате налога может составлять от одного до шести месяцев с поэтапной уплатой налогоплательщиком суммы задолженност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овый кредит - это изменение срока уплаты налога от трех месяцев до одного года.</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Инвестиционный налоговый кредит представляет собой такое изменение срока уплаты налога, при котором организации предоставляется возможность в течение определенного срока и в определенных пределах уменьшать свои платежи по налогу с последующей поэтапной уплатой суммы кредита и начисленных процентов. Инвестиционный налоговый кредит может быть предоставлен на срок от одного года до 5 лет.</a:t>
            </a:r>
            <a:endParaRPr b="0" lang="en-US" sz="2100" spc="-1" strike="noStrike">
              <a:solidFill>
                <a:srgbClr val="ffffff"/>
              </a:solidFill>
              <a:latin typeface="Garamond"/>
            </a:endParaRPr>
          </a:p>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По общему правилу, установленному п.5 ст.61 НК РФ, изменение срока уплаты налога и сбора может производиться под залог имущества либо при наличии поручительства. Однако могут быть и исключения из этого правила. </a:t>
            </a:r>
            <a:endParaRPr b="0" lang="en-US" sz="2100" spc="-1" strike="noStrike">
              <a:solidFill>
                <a:srgbClr val="ffffff"/>
              </a:solidFill>
              <a:latin typeface="Garamond"/>
            </a:endParaRPr>
          </a:p>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Как правило, за изменение срока уплаты налога взимаются проценты, которые ниже, чем при выплате пени. В некоторых случаях проценты не взимаются.</a:t>
            </a:r>
            <a:endParaRPr b="0" lang="en-US" sz="2100" spc="-1" strike="noStrike">
              <a:solidFill>
                <a:srgbClr val="ffffff"/>
              </a:solidFill>
              <a:latin typeface="Garamond"/>
            </a:endParaRPr>
          </a:p>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Как говорилось выше, отсрочка по уплате налога представляет собой изменение срока уплаты налога на срок от одного до шести месяцев с единовременной уплатой налогоплательщиком суммы задолженности. Рассрочка по уплате налога представляет собой изменение срока уплаты налога на срок от одного до шести месяцев с поэтапной уплатой налогоплательщиком суммы задолженности (ст.64 НК РФ).</a:t>
            </a: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90000"/>
          </a:bodyPr>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Инвестиционный налоговый кредит представляет собой такое изменение срока уплаты налога, при котором организации предоставляется возможность в течение определенного срока и в определенных пределах уменьшать свои платежи по налогу с последующей поэтапной уплатой суммы кредита и начисленных процентов. Инвестиционный налоговый кредит может быть предоставлен на срок от одного года до пяти лет. Организация, получившая инвестиционный налоговый кредит, вправе уменьшать свои платежи по соответствующему налогу в течение срока действия договора о таком кредите.</a:t>
            </a:r>
            <a:endParaRPr b="0" lang="en-US" sz="2300" spc="-1" strike="noStrike">
              <a:solidFill>
                <a:srgbClr val="ffffff"/>
              </a:solidFill>
              <a:latin typeface="Garamond"/>
            </a:endParaRPr>
          </a:p>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Уменьшение производится по каждому платежу соответствующего налога, по которому предоставлен инвестиционный налоговый кредит, за каждый отчетный период, до тех пор, пока сумма, не уплаченная организацией в результате всех таких уменьшений (накопленная сумма кредита), не станет равной сумме кредита, предусмотренной соответствующим договором. Конкретный порядок уменьшения налоговых платежей определяется заключенным договором об инвестиционном налоговом кредите (п.2 ст.66 НК РФ).</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260280"/>
            <a:ext cx="8229600" cy="5865840"/>
          </a:xfrm>
          <a:prstGeom prst="rect">
            <a:avLst/>
          </a:prstGeom>
          <a:noFill/>
          <a:ln w="0">
            <a:noFill/>
          </a:ln>
        </p:spPr>
        <p:txBody>
          <a:bodyPr anchor="t">
            <a:normAutofit fontScale="91000"/>
          </a:bodyPr>
          <a:p>
            <a:pPr marL="312120" indent="-3121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Garamond"/>
              </a:rPr>
              <a:t>Таким образом, если сумма инвестиционного налогового кредита установлена в размере 1 млн руб., то организация вправе уменьшать текущие платежи по налогам (на которые распространяется кредит) до тех пор, пока сумма кредита не достигнет величины в 1 млн руб.</a:t>
            </a:r>
            <a:endParaRPr b="0" lang="en-US" sz="2300" spc="-1" strike="noStrike">
              <a:solidFill>
                <a:srgbClr val="ffffff"/>
              </a:solidFill>
              <a:latin typeface="Garamond"/>
            </a:endParaRPr>
          </a:p>
          <a:p>
            <a:pPr marL="312120" indent="-3121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Garamond"/>
              </a:rPr>
              <a:t>Кроме того, установлены дополнительные условия для применения инвестиционного налогового кредита.</a:t>
            </a:r>
            <a:endParaRPr b="0" lang="en-US" sz="2300" spc="-1" strike="noStrike">
              <a:solidFill>
                <a:srgbClr val="ffffff"/>
              </a:solidFill>
              <a:latin typeface="Garamond"/>
            </a:endParaRPr>
          </a:p>
          <a:p>
            <a:pPr marL="312120" indent="-3121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Garamond"/>
              </a:rPr>
              <a:t>В каждом отчетном периоде суммы, на которые уменьшаются платежи по налогу, не могут превышать 50% размеров соответствующих платежей по налогу, определенных по общим правилам без учета наличия договоров об инвестиционном налоговом кредите. При этом накопленная в течение налогового периода сумма кредита не может превышать 50% размеров суммы налога, подлежащего уплате организацией за этот налоговый период. Если накопленная сумма кредита превышает предельные размеры, на которые допускается уменьшение налога, для такого отчетного периода, то разница между этой суммой и предельно допустимой суммой переносится на следующий отчетный период. </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260280"/>
            <a:ext cx="8229600" cy="5865840"/>
          </a:xfrm>
          <a:prstGeom prst="rect">
            <a:avLst/>
          </a:prstGeom>
          <a:noFill/>
          <a:ln w="0">
            <a:noFill/>
          </a:ln>
        </p:spPr>
        <p:txBody>
          <a:bodyPr anchor="t">
            <a:normAutofit fontScale="89000"/>
          </a:bodyPr>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ЗАКЛЮЧЕНИЕ</a:t>
            </a:r>
            <a:endParaRPr b="0" lang="en-US" sz="20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алог на добавленную стоимость является косвенным федеральным налогом, который представляет собой форму изъятия в бюджет части добавленной стоимости, создаваемой на всех стадиях производства и определяемой как разница между стоимостью реализованных товаров, работ и услуг и стоимостью материальных затрат, отнесенных на издержки производства; причем бремя уплаты налога на добавленную стоимость реально падает на потребителя товаров (работ, услуг). </a:t>
            </a: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ДС является на сегодняшний день самым значимым налогом в РФ, так как его доля в налоговых сборах в федеральный бюджет является самой большей, она составила в 2006 году 36% от всех налоговых поступлений в федеральный бюджет РФ.</a:t>
            </a: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Объектом налогообложения НДС являются реализация това­ров (работ, услуг) на территории Российской Федерации, передача на товаров (выполнение работ, оказание услуг) для собственных нужд, расходы на которые не принимаются к вычету при исчислении налога на прибыль организаций; выполнение строительно-монтажных работ для собственного потребления; ввоз товаров на таможенную территорию Российской Федерации.</a:t>
            </a:r>
            <a:endParaRPr b="0" lang="en-US" sz="2200" spc="-1" strike="noStrike">
              <a:solidFill>
                <a:srgbClr val="ffffff"/>
              </a:solidFill>
              <a:latin typeface="Garamond"/>
            </a:endParaRPr>
          </a:p>
          <a:p>
            <a:pPr marL="3052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Для исчисления НДС применяются налоговые ставки в раз­мере 0, 10 и 18%. Кроме того, при реализации товаров, (работ, услуг) по ценам и тарифам, включающим в себя НДС, а также в случаях, предусмотренных НК РФ, организации вправе при­менять расчетный метод определения налоговой ставки.</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Налоговая база по налогу на добавленную стоимость определяется исхо­дя из свободных цен либо исходя из государственных регулируемых цен (тарифов) без НДС. Исключения составля­ют реализация имущества, подлежащего учету по ценам, включающим сумму уплаченного НДС; реализация сельско­хозяйственной продукции, закупленной у физических лиц (не являющихся плательщиками НДС).</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Сумма налога, предъявляемая покупателю, опре­деляется как процентное отношение установленной налого­вой ставки от налоговой базы. </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Суммы НДС, предъявленные налогоплательщику поставщикам при приобретении им товаров, работ, услуг, либо уплаченные им на таможне при ввозе товаров на территорию РФ подлежат включению в состав налоговых вычетов, уменьшающих задолженность организации по НДС. НДС, подлежащий уплате организацией в бюджет, определяется как разница между налогом, подлежащим получению от покупателей по проданной им продукции, работам, услугам и другим объектам налогообложения и налогом, уплаченным поставщикам и подрядчикам за приобретенные у них материальные ценности, работы, услуги, стоимость которых относится на издержки производства. </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С 1 января 2008 года для всех налогоплательщиков налоговым периодом по НДС является кварта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33000"/>
            <a:ext cx="8229600" cy="5792760"/>
          </a:xfrm>
          <a:prstGeom prst="rect">
            <a:avLst/>
          </a:prstGeom>
          <a:noFill/>
          <a:ln w="0">
            <a:noFill/>
          </a:ln>
        </p:spPr>
        <p:txBody>
          <a:bodyPr anchor="t">
            <a:normAutofit fontScale="89000"/>
          </a:bodyPr>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курсовой работе на примере ООО «Гофротара» рассмотрен расчет НДС к уплате в бюджет за октябрь 2007 года. По итогам расчета определена сумма начисленного налога – 564 475 руб. и сумма налога, подлежащая возмещению из бюджета – 318 098 руб. Как разница между этими показателями определяется сумма налога, подлежащая к уплате в федеральный бюджет – 246 377 руб.</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качестве методов оптимизации платежей по налогу на добавленную стоимость в ООО «Гофротара» предложены два метода: получение инвестиционного налогового кредита, который позволяет в течение определенного времени направлять средства не на уплату налога, а на собственные нужды и отсрочка налогового платежа, которая позволяет экономить оборотные средств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6048720"/>
          </a:xfrm>
          <a:prstGeom prst="rect">
            <a:avLst/>
          </a:prstGeom>
          <a:noFill/>
          <a:ln w="0">
            <a:noFill/>
          </a:ln>
        </p:spPr>
        <p:txBody>
          <a:bodyPr anchor="t">
            <a:normAutofit fontScale="94000"/>
          </a:bodyPr>
          <a:p>
            <a:pPr marL="322200" indent="-3222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есмотря на колебания уровня НДС в доходах бюджетов, этот налог является главным источником пополнения казны государства. Это основной косвенный налог. Он был введен со ставкой 28%. В последующие годы ставка НДС снижалась, но продолжает оставаться высокой по сравнению с другими странами. НДС заменил действо­вавшие до него налог с оборота и налог с продаж. Развитие этого налога шло в России по линии унификации мето­дики его исчисления разными налогоплательщиками. К 2000 г. были устранены практически все особенности исчисления суммы НДС, вносимой в бюджет промышленными, торговыми, строительными и другими предприятиями.</a:t>
            </a:r>
            <a:endParaRPr b="0" lang="en-US" sz="2200" spc="-1" strike="noStrike">
              <a:solidFill>
                <a:srgbClr val="ffffff"/>
              </a:solidFill>
              <a:latin typeface="Garamond"/>
            </a:endParaRPr>
          </a:p>
          <a:p>
            <a:pPr marL="322200" indent="-3222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История российской правоприменительной практики в отноше­нии исчисления и уплаты НДС дает два основных свидетельства. Во-первых, с точки зрения корпоративных финансовых интересов этот налог отвлекает существенные ресурсы из оборота предприятий и все последние годы подвергался жесткой критике, вплоть до требо­ваний его отмены. Во-вторых, с позиции публичных финансовых интересов НДС необходим как основной и наиболее стабильный доходный источник российского бюджета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8" name="" descr=""/>
          <p:cNvPicPr/>
          <p:nvPr/>
        </p:nvPicPr>
        <p:blipFill>
          <a:blip r:embed="rId1"/>
          <a:stretch/>
        </p:blipFill>
        <p:spPr>
          <a:xfrm>
            <a:off x="4648320" y="1600200"/>
            <a:ext cx="4038480" cy="2185920"/>
          </a:xfrm>
          <a:prstGeom prst="rect">
            <a:avLst/>
          </a:prstGeom>
          <a:ln w="0">
            <a:noFill/>
          </a:ln>
        </p:spPr>
      </p:pic>
      <p:pic>
        <p:nvPicPr>
          <p:cNvPr id="149" name="" descr=""/>
          <p:cNvPicPr/>
          <p:nvPr/>
        </p:nvPicPr>
        <p:blipFill>
          <a:blip r:embed="rId2"/>
          <a:stretch/>
        </p:blipFill>
        <p:spPr>
          <a:xfrm>
            <a:off x="4648320" y="3938760"/>
            <a:ext cx="4038480" cy="2187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0" name=""/>
          <p:cNvGraphicFramePr/>
          <p:nvPr/>
        </p:nvGraphicFramePr>
        <p:xfrm>
          <a:off x="457200" y="404280"/>
          <a:ext cx="8229600" cy="5721480"/>
        </p:xfrm>
        <a:graphic>
          <a:graphicData uri="http://schemas.openxmlformats.org/drawingml/2006/table"/>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189000"/>
            <a:ext cx="8435880" cy="5937120"/>
          </a:xfrm>
          <a:prstGeom prst="rect">
            <a:avLst/>
          </a:prstGeom>
          <a:noFill/>
          <a:ln w="0">
            <a:noFill/>
          </a:ln>
        </p:spPr>
        <p:txBody>
          <a:bodyPr anchor="t">
            <a:normAutofit fontScale="90000"/>
          </a:bodyPr>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В настоящее время этот налог определен как форма изъятия в бюджет части добавленной стоимости, которая создается на всех стадиях производства, обращения и определяется как разница между сто­имостью реализованных товаров (работ, услуг) и стоимостью матери­альных затрат, относимых на издержки производства и обращения. </a:t>
            </a:r>
            <a:endParaRPr b="0" lang="en-US" sz="2300" spc="-1" strike="noStrike">
              <a:solidFill>
                <a:srgbClr val="ffffff"/>
              </a:solidFill>
              <a:latin typeface="Garamond"/>
            </a:endParaRPr>
          </a:p>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В части второй НК РФ порядку исчисления и уплаты НДС отведена глава 21, принятая в первом чтении 12 июля 2000 г. Нормативные положения этих доку­ментов к настоящему времени откорректированы 15 Законами и несколькими ведомственными положениями МНС РФ, издаваемыми во исполнение указов Президента РФ и постановлений Правительства РФ. Более того, в орбиту налогообложения вовлечены суммы, не имеющие отно­шения к добавленной стоимости: финансовая помощь, суммы пред­оплаты, авансовые взносы, суммы штрафов, акцизные надбавки и т.д. Тем самым новая редакция инструктивных рекомендаций по исчислению и уплате НДС в бюджет сохранила ориентацию ранее действующих положений на повсеместный и всеобъемлющий охват результатов товарообменных операций.</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04280"/>
            <a:ext cx="8229600" cy="5721480"/>
          </a:xfrm>
          <a:prstGeom prst="rect">
            <a:avLst/>
          </a:prstGeom>
          <a:noFill/>
          <a:ln w="0">
            <a:noFill/>
          </a:ln>
        </p:spPr>
        <p:txBody>
          <a:bodyPr anchor="t">
            <a:normAutofit fontScale="91000"/>
          </a:bodyPr>
          <a:p>
            <a:pPr marL="312120" indent="-3121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Garamond"/>
              </a:rPr>
              <a:t>Косвенные налоги по своей экономической природе, назначению и способам взимания на практике приобрели несколько сущност­ных характеристик. Эти налоги являются налогами на потребление, они крайне перелагаемы, а потому несправедливы, антисоциальны. Вместе с тем эти налоги наиболее стабильные доходные источники бюджета всех уровней, они препятствуют налоговому уклонизму по причине очевидности в бухгалтерском учете величины облагаемой базы. Такие налоги служат основной экономической опорой развития государств с переходной (трансформационной) экономикой. В России на косвенные налоги приходится наибольший удельный вес как по отношению к совокупным бюджетным доходам, так и по отноше­нию к валовому внутреннему продукту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В ныне действующей в России налоговой системе НДС занимает важное место. Он служит инструментом перераспределения национального дохода и является одним из главных доходных источников федерального бюджета, Если рассматривать структуру доходов бюджета Российской Федерации, то будет видно, что доля НДС составляет основную часть консолидированного бюджета РФ. Показатели удельного веса НДС в общей сумме доходов бюджета РФ и соотноше­ние НДС и косвенных налогов (налог на прибыль и акцизов) в доходах федераль­ного бюджета представлены в таблице 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gn="ctr">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1.2. Налогоплательщики, объект налогообложения</a:t>
            </a:r>
            <a:endParaRPr b="0" lang="en-US" sz="1600" spc="-1" strike="noStrike">
              <a:solidFill>
                <a:srgbClr val="ffffff"/>
              </a:solidFill>
              <a:latin typeface="Garamond"/>
            </a:endParaRPr>
          </a:p>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логоплательщиками НДС являются организации, индивидуальные предприниматели и лица, признаваемые налогоплательщиками НДС в связи с перемещением товаров через таможенную границу РФ, которые определяются в соответствии с Таможенным кодексом РФ. Филиалы и обособленные подразделения юридических лиц могут исполнять полномочия плательщиков налога Налогоплательщики, за исключением иностранных организаций, подлежат обязательной постановке на учет в налоговом органе. Порядок постановки на учет определен Приказом Министра РФ по налогам и сборам от 31 октября 2000 г. N БГ-3-12/375, в соответствии с которым налогоплательщикам в течение трех дней с момента предоставления соответствующих деклараций по НДС выдаются свидетельства о постановке на учет в налоговом органе по установленным формам.</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6:08:06Z</dcterms:created>
  <dc:creator>111</dc:creator>
  <dc:description/>
  <dc:language>en-US</dc:language>
  <cp:lastModifiedBy>111</cp:lastModifiedBy>
  <dcterms:modified xsi:type="dcterms:W3CDTF">2008-04-14T17:32:37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