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787-3CF6-4C7A-ACD2-BF52BE31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7CE9-A07B-40A1-82CC-638A2E7C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13EB-DB7E-4422-BCAE-5D32BCA6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C4CF-FDB5-40E2-B822-3AD0FB65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15C-A6A6-4840-9FE3-4D9382F2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79D-6063-428B-AB3C-8FE3B34C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DA4-FC65-45D8-9BDC-94E08DFA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6CFB-0B9C-4EED-B327-A14E6E4A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75D-888F-4F61-95F2-9A4E7C6F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684A-76DC-4017-A8FE-A9B1770E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F11-A45C-49EB-8BA5-9CEA5CBF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597E-F347-473D-A049-A4C1B30A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41AC-D31D-4DCA-BF29-ABD6F57D9E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58920" y="765000"/>
            <a:ext cx="69850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Развитие быстроты у детей среднего школьного</a:t>
            </a:r>
            <a:br>
              <a:rPr sz="5000"/>
            </a:b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возраста на учебно-тренировочных занятиях по футбол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306440"/>
                <a:gridCol w="1306440"/>
                <a:gridCol w="1306800"/>
                <a:gridCol w="1304640"/>
                <a:gridCol w="1306800"/>
                <a:gridCol w="1306440"/>
                <a:gridCol w="1306440"/>
              </a:tblGrid>
              <a:tr h="253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ок испытуем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измер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измер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1" lang="ru-RU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А</a:t>
                      </a:r>
                      <a:r>
                        <a:rPr b="1" lang="ru-RU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</a:t>
                      </a:r>
                      <a:r>
                        <a:rPr b="1" lang="ru-RU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de-DE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Абрамов Русл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Авфеев Ант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Бобров Валер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Ванехин Ил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Васильев Владим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Домохин Ил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Зуев Алекс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Иванов Серг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Лысаков Ники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Лысаков Серг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Мурин Ил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Неуступов Ил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Нифанов Алекс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Осипов Андр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 Софронов Алекс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 Сычев Ники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 Тарасов Ив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 Труханов Ил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Тюмаков Алекс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 Тюрин Ив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 Харев Паве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 Хлебников Ил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908000" y="1557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50920" y="476280"/>
            <a:ext cx="8569080" cy="59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м образом, в выпускной квалификационной работе мы раскрыли цель поставленную перед нами. Проведя собственные исследования, получили определённые результаты, что быстроту на учебно – тренировочных занятиях по футболу  можно развивать через упражнения, которые соответствуют интересам и двигательным потребностям  детей среднего школьного возраста, стимулируют их эмоционально-волевые проявления и приучают к мобилизации максимальных усилий в нужный моме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755640" y="1125360"/>
            <a:ext cx="7489800" cy="45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явить развитие быстроты у детей среднего школьного возраста на учебно-тренировочных занятиях по футбол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116000" y="1052640"/>
            <a:ext cx="698508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Объект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и среднего школьного возра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Предмет</a:t>
            </a: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итие быстроты на учебно-тренировочных занятиях по футбол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258920" y="1052640"/>
            <a:ext cx="7058160" cy="52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учащиеся среднего школьного возраста будут регулярно заниматься футболом, то это может способствовать развитию быстро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0"/>
            <a:ext cx="914400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оанализировать существующую психолого-педагогическую литературу по данной проблеме исследо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исать процесс развития быстроты у детей среднего школьного возраста на учебно-тренировочных занятиях по футбол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ределить влияние занятий футболом на развитие быстроты у детей среднего школьного возраста на учебно-тренировочных занятиях по футбол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оанализировать динамику развития быстроты у детей среднего школьного возраста на учебно-тренировочных занятиях по футбол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0"/>
            <a:ext cx="9144000" cy="59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 анализа и обобщения литературных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иро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 наблю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971640" y="260280"/>
            <a:ext cx="7416720" cy="69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иболее известным показателем связи является ранговый коэффициент корреляции Спирмена, определяемый по следующей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 суммир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разность между рангами рассматриваемых призна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е число наблюдений (парны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11"/>
              <p:cNvSpPr txBox="1"/>
              <p:nvPr/>
            </p:nvSpPr>
            <p:spPr>
              <a:xfrm>
                <a:off x="2050920" y="2565360"/>
                <a:ext cx="4572000" cy="18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0" y="0"/>
            <a:ext cx="91440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Этапы исследований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тап ВК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анализ научно-методической литературы;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та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подбор методов исследова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та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- организация и проведение собственных исследован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та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описание и обработка результатов собственных исследований и выв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33 0.037 -0.04267 C 0.075 -0.03867 0.09 -0.00933 0.125 -0.03867 C 0.147 -0.056 0.173 -0.1 0.192 -0.09867 C 0.235 -0.09733 0.244 -0.052 0.244 -0.01067 C 0.245 0.048 0.189 0.09733 0.121 0.10267 C 0.052 0.10667 -0.005 0.044 0 0 Z">
                                      <p:cBhvr>
                                        <p:cTn id="132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8893080" cy="46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База исследования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У «Вожегодская СОШ №1» на учащихся 5 классов, которые посещают секционное занятие по футболу в количестве 22 челов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37-06-16T09:19:37Z</dcterms:created>
  <dc:creator>1</dc:creator>
  <dc:description/>
  <dc:language>en-US</dc:language>
  <cp:lastModifiedBy>Максим</cp:lastModifiedBy>
  <dcterms:modified xsi:type="dcterms:W3CDTF">2010-10-30T18:19:23Z</dcterms:modified>
  <cp:revision>6</cp:revision>
  <dc:subject/>
  <dc:title>Слайд 1</dc:title>
</cp:coreProperties>
</file>