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2.xml.rels" ContentType="application/vnd.openxmlformats-package.relationships+xml"/>
  <Override PartName="/ppt/notesSlides/notesSlide8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12.jpeg" ContentType="image/jpeg"/>
  <Override PartName="/ppt/media/image34.png" ContentType="image/png"/>
  <Override PartName="/ppt/media/image33.png" ContentType="image/png"/>
  <Override PartName="/ppt/media/image3.png" ContentType="image/png"/>
  <Override PartName="/ppt/media/image29.png" ContentType="image/png"/>
  <Override PartName="/ppt/media/image47.png" ContentType="image/png"/>
  <Override PartName="/ppt/media/image1.jpeg" ContentType="image/jpeg"/>
  <Override PartName="/ppt/media/image14.png" ContentType="image/png"/>
  <Override PartName="/ppt/media/image10.jpeg" ContentType="image/jpeg"/>
  <Override PartName="/ppt/media/image15.jpeg" ContentType="image/jpeg"/>
  <Override PartName="/ppt/media/image18.wmf" ContentType="image/x-wmf"/>
  <Override PartName="/ppt/media/image2.wmf" ContentType="image/x-wmf"/>
  <Override PartName="/ppt/media/image57.png" ContentType="image/png"/>
  <Override PartName="/ppt/media/image20.wmf" ContentType="image/x-wmf"/>
  <Override PartName="/ppt/media/image63.png" ContentType="image/png"/>
  <Override PartName="/ppt/media/image65.png" ContentType="image/png"/>
  <Override PartName="/ppt/media/image48.png" ContentType="image/png"/>
  <Override PartName="/ppt/media/image58.png" ContentType="image/png"/>
  <Override PartName="/ppt/media/image19.wmf" ContentType="image/x-wmf"/>
  <Override PartName="/ppt/media/image60.png" ContentType="image/png"/>
  <Override PartName="/ppt/media/image64.png" ContentType="image/png"/>
  <Override PartName="/ppt/media/image21.wmf" ContentType="image/x-wmf"/>
  <Override PartName="/ppt/media/image62.png" ContentType="image/png"/>
  <Override PartName="/ppt/media/image23.wmf" ContentType="image/x-wmf"/>
  <Override PartName="/ppt/media/image25.png" ContentType="image/png"/>
  <Override PartName="/ppt/media/image11.jpeg" ContentType="image/jpeg"/>
  <Override PartName="/ppt/media/image24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61.png" ContentType="image/png"/>
  <Override PartName="/ppt/media/image27.png" ContentType="image/png"/>
  <Override PartName="/ppt/media/image6.png" ContentType="image/png"/>
  <Override PartName="/ppt/media/image9.jpeg" ContentType="image/jpeg"/>
  <Override PartName="/ppt/media/image36.png" ContentType="image/png"/>
  <Override PartName="/ppt/media/image4.png" ContentType="image/png"/>
  <Override PartName="/ppt/media/image16.png" ContentType="image/png"/>
  <Override PartName="/ppt/media/image7.jpeg" ContentType="image/jpe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32.png" ContentType="image/png"/>
  <Override PartName="/ppt/media/image37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  <p:sldId id="338" r:id="rId101"/>
    <p:sldId id="339" r:id="rId102"/>
    <p:sldId id="340" r:id="rId103"/>
    <p:sldId id="341" r:id="rId104"/>
    <p:sldId id="342" r:id="rId105"/>
    <p:sldId id="343" r:id="rId106"/>
    <p:sldId id="344" r:id="rId107"/>
    <p:sldId id="345" r:id="rId108"/>
    <p:sldId id="346" r:id="rId109"/>
    <p:sldId id="347" r:id="rId110"/>
    <p:sldId id="348" r:id="rId111"/>
    <p:sldId id="349" r:id="rId112"/>
    <p:sldId id="350" r:id="rId1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slide" Target="slides/slide83.xml"/><Relationship Id="rId102" Type="http://schemas.openxmlformats.org/officeDocument/2006/relationships/slide" Target="slides/slide84.xml"/><Relationship Id="rId103" Type="http://schemas.openxmlformats.org/officeDocument/2006/relationships/slide" Target="slides/slide85.xml"/><Relationship Id="rId104" Type="http://schemas.openxmlformats.org/officeDocument/2006/relationships/slide" Target="slides/slide86.xml"/><Relationship Id="rId105" Type="http://schemas.openxmlformats.org/officeDocument/2006/relationships/slide" Target="slides/slide87.xml"/><Relationship Id="rId106" Type="http://schemas.openxmlformats.org/officeDocument/2006/relationships/slide" Target="slides/slide88.xml"/><Relationship Id="rId107" Type="http://schemas.openxmlformats.org/officeDocument/2006/relationships/slide" Target="slides/slide89.xml"/><Relationship Id="rId108" Type="http://schemas.openxmlformats.org/officeDocument/2006/relationships/slide" Target="slides/slide90.xml"/><Relationship Id="rId109" Type="http://schemas.openxmlformats.org/officeDocument/2006/relationships/slide" Target="slides/slide91.xml"/><Relationship Id="rId110" Type="http://schemas.openxmlformats.org/officeDocument/2006/relationships/slide" Target="slides/slide92.xml"/><Relationship Id="rId111" Type="http://schemas.openxmlformats.org/officeDocument/2006/relationships/slide" Target="slides/slide93.xml"/><Relationship Id="rId112" Type="http://schemas.openxmlformats.org/officeDocument/2006/relationships/slide" Target="slides/slide94.xml"/><Relationship Id="rId113" Type="http://schemas.openxmlformats.org/officeDocument/2006/relationships/slide" Target="slides/slide95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dt" idx="4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 type="ftr" idx="4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 type="sldNum" idx="4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AB58-C44B-41DC-9670-C00C4DD18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orgar una calificación que indique el desempeño financiero y posibles riesgos que enfrenta en un mediano plaz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mostrar la solidez de IMFs a los bancos e inversionistas para la consecución de recursos en el mercado financiero y de capi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ablecer indicadores y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benchmark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para un mejor conocimiento y administración más efectiva de las institu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71A-8C22-4F58-B98E-00C98BAD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980E-4236-4DEE-AEC0-E639AC04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A213D-2252-4DC0-BE1B-D52B1242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6D7C9-7D32-41D8-B15C-43CBC289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2D27D-B81B-4305-8D8D-A6124034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22A96-D5FF-4042-8A06-6B5E8B42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3D1F0-6D4A-41F9-A9F0-151C0AE5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A46A7-5459-4D21-9FCE-847A9A3E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95EF9-4080-4483-B344-15EC677C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37253-9C3D-4508-9114-1677CC7B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40AB5-759D-4624-B478-A9F80A2E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29300-B5AA-418E-B06A-45217077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C67F-2546-4BEA-9099-45EC2A49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D19E7-EBEF-42DB-9CD2-87D87C66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7FCD3-E422-42B2-9746-EA2F6140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532FE-13E4-47B5-9A8C-2B1BB6BE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CE7D2-45E8-461A-94BC-5D4810C7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5380C-44DA-4238-BA13-6104AEE1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A45BC-AC19-4B75-BAC0-30A2B9C9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E4148-3F90-421F-9037-F0D2A8C3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05806-ACD3-4C17-9CC4-A39866FD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16D53-9AEC-4279-9692-493CD240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1256D-A5B4-4295-845E-4C8C0A95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176B-F783-4100-9E9A-7AAC74A8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8368E-C1A3-4347-9A34-AD1EF1BB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269F-2806-4EB5-A413-BFDEA861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1E90-62B7-4A1C-B77B-3A2EAF54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C4D4E-B936-4673-8B49-1E9B6A09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BF826-1BF4-4288-9F33-A0E9A24E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3D71B-B62D-4914-9AA9-EB5EE39D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C2AEA-26A3-4D5C-A5AC-9FB14CEA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EE324-1754-4407-80D6-D369B76B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7059-54E7-4CA5-8C4F-8945FD96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9F3B8-4D3F-408F-9BA6-0B3991A9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277B7-07BC-481B-BEF9-4372A57A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D740A-A57B-4DF7-A55E-F92AAA6B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51E40-855B-4192-B944-5D1F77D7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6BFAE-DDBA-4BB3-AB10-2464329D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36D6B-087B-44F8-8E9A-C1136E12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A1CA9-B6B8-4EDE-AA4C-DD6EBB58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95811F-7B95-4FC7-9128-96F6539F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BC688E-9F28-4D17-BB1E-7E7D9E21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DE6A8A-29CF-4ED1-8632-5AA396ED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0934-4AD3-4735-80B9-C73116D5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7B0F01-90FD-41BB-8A46-9C05244E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04C011-D6FE-416D-996B-597CFC1C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DAD59A-6547-43A9-AB0D-4BFB9F1C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37B789-4482-43C2-BF04-FB0224C7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3676E9-0B30-4CA1-BA59-86792E2C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30418E-1945-4DB3-B761-56271270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8EA518-6F8E-4CDC-98A1-3410B45D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DC562A-B235-4BF8-BE0B-CDBCA1CF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B83396-3905-4237-BFD7-04B3EBFA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908367-3322-43D6-8DE4-656A12E2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4875-E38A-4113-990C-1CE746A3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19B02A-0D8F-42E0-9657-3FF5BE23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CC5113-E0E8-4B3F-9882-24946E82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10CCF4-C063-4730-B914-F0C7932F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62E0E5-AC33-4565-91B8-4D3B0048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E42000-D8DF-4F9D-9844-D2ABE72C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5BEAC5-11C6-4E53-B3A8-B1C605BF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A79085-7456-4519-9A4D-70F78D40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BB5971-2AA8-4C52-8CC4-F08CBBE9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B2A4ED-8AD2-4AA7-9925-2C94A6C4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7B1323-F355-4CA3-8E90-ED339122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6C00-72C4-483B-BD15-06B64AEF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0DFE05-62C4-4A4C-9871-DD1DC9E2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816CF4-1253-4D42-9D33-5ABEAB42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FA43B2-B924-456C-A68C-53E6C706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FDCA05-7331-41B8-B6C8-3448E0D2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CA08CC-C962-47B9-9626-C08F2A47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097C97-4999-4555-9CD5-47AA47EC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A9A0DB-7BD1-4CD0-84F3-583F9DCE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08EF6B-2EB6-4D52-A663-81AB34A9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11DE2-DA3D-4CC8-8DB0-E7AA508E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A12517-4286-4858-AEA1-525D1B12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8EF6-893B-4835-82DB-D1DBC5F1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2207CF-0852-4211-A300-AB112A1A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C8B264-2869-4237-8ADE-C21AFD7B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CE5216-9150-4A7B-BADD-31E90EE2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716-FB7B-4857-8B87-FCF92E80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9BB7-7AD2-469C-9506-5BD177CE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69B1-A8F8-46B1-AD9B-52DC8238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DD03-6E71-4637-BD9A-5DE847BD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F24E-A453-479C-97B3-F1D8E2C0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2A53-4068-4C2F-BAE7-D4E761A7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A71B8-3C8F-4E9C-84C9-54669BCD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B84FA-9518-4BF2-B01E-0C4A82E5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71140-2FA2-4F56-9502-0EBC503C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69433-C15A-48BF-84DA-AAB488B5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1CD4E-AECB-4CAB-A18D-9F2B1922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BD57-DEBC-46D2-BEC1-40493E24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B00D2-584F-4F73-915C-5623B5A9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523A3-092F-4FB3-933D-8B4E96F2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2E32C-559C-41FD-AE7F-36BCE9CB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48797-8801-42EA-9943-BF4F5E90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4F639-23DB-4B15-A76A-89E53B59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D524F-279D-450A-99E2-461B1B91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C42BB-1F3E-4BA3-B090-E0EAD249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BD13D-1973-42E8-943E-CD72311E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51231-90D4-4E36-B294-E4D19BE2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EE94F-5C94-47F6-881B-C58C117F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0E29-0EEB-41B7-9B2D-E646B9DE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7D12E-59CB-4711-9898-469B4D56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0D369-E3CD-499F-9270-6D4249B9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34789-F450-4E10-A865-F764FDDC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A1177-77A1-4C8F-BFDD-BC45E766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AC1C7-E7EE-4F6D-A3D3-72C06DC0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CCBC9-DAAF-443D-8896-E9F82202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4C3C3-8428-4DC2-8B1C-2D63CE0E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565D4-3D09-46D8-AE61-1CD7E2C9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10914-D833-406F-B466-4F6C36E7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E6DA7-9815-4A6F-B192-028F2B57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219B-0F92-4C7F-BA49-718E11E7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751F7-7ED6-47BC-AD1F-B980F8B5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3740D-FF05-4CE8-AF02-081A0A0D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D191A-448C-4393-A0D2-E75CD12F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72193-5801-4FC9-A291-D7CBCAFE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DA8C2-689B-4BD5-9675-A93A441D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9ABE5-B189-4A16-89E9-F86C749A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EAF49-6CC7-40BE-A593-C1E527CA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E54D3-E82A-4457-B43B-EC54BA3F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0EBC8-C02B-4DE3-8E37-93A8F70B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C78D0-B1A9-4CCA-8D10-7415DFDC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BC8F-BE52-45F2-BF6D-7CF85BD2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BCC5E-E957-4AB5-BFC1-D290C86A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E1677-0685-4F0E-94FE-A18CACB1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64367-43CE-435B-8E24-34F6EADD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252AF-988D-411D-933F-E4DF5ECA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5A459-9E55-410E-BC10-FDEDA0B7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67575-5160-42A4-A95D-1964CCCC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1980D-59B6-46C7-9BAD-DF898303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041B6-3D35-4DF9-9647-0C6CC73B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56F90-9E2A-4CB0-AD6B-CF687A53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D367D-E9DB-4C61-A4F8-82FFFD59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F4CD-DCDC-4041-9001-55CDE787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27DB8-A501-4D80-BDE5-65E9EE18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1D366-25A7-4066-A647-E2C935A9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A0901-8C30-4DA6-8C49-8D7732E8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18E7E-085C-4C19-AD0D-DDDC0F35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98BE6-9EE5-449E-A2E6-5EA6B97D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93557-A52B-42FB-BC4A-AF010E84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C1216-D1EC-4B30-AE26-C0969877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EB9EF-E349-490C-AF14-12485647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4AF26-D9BD-4B1E-B45A-39F525F5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F5F13-7B70-4DD7-9B90-FF87C86B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4506-AEC2-4554-8FAA-3B6CAC66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BD470-C495-453A-AC85-AD2D954F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2523E-24FA-4F07-9F51-F7CB76D4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1A13F-1EA0-4A64-96E3-A8EFC5E1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32367-A81B-4497-8F2A-650B5B82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8DE72-05B1-4EF0-B0E3-675F18D7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CC9E7-3E54-44AC-8986-443A3CAF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C7175-7F8C-40A7-8E88-ADAF8773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22C95-88A6-4CE8-9CB7-2E2E3C93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89F3C-0B8C-4967-93E9-CA6AFE1E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1A828-24A1-443A-82B0-0B229986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F64B-8B99-4A73-822C-C5C8A779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757FD-1B8A-4A20-A36A-6E1E3728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E58D9-7982-4650-A514-18551C81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E5B8C-3CFF-418C-A122-86FA6166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5995D-8E06-4E43-97C0-D31C1EAF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885DF-F697-46FB-B4FC-17801C88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35F18-0CBB-4C17-B2D5-71F4294A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39A0F-1586-4F2D-893D-8313F751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5D493-EA77-48F5-94A4-81C0D342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6B84B-BB7C-4E5F-80B2-E743C2F1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14312-23C4-4514-B72F-D91F068B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09.xml"/><Relationship Id="rId32" Type="http://schemas.openxmlformats.org/officeDocument/2006/relationships/slideLayout" Target="../slideLayouts/slideLayout110.xml"/><Relationship Id="rId33" Type="http://schemas.openxmlformats.org/officeDocument/2006/relationships/slideLayout" Target="../slideLayouts/slideLayout111.xml"/><Relationship Id="rId34" Type="http://schemas.openxmlformats.org/officeDocument/2006/relationships/slideLayout" Target="../slideLayouts/slideLayout112.xml"/><Relationship Id="rId35" Type="http://schemas.openxmlformats.org/officeDocument/2006/relationships/slideLayout" Target="../slideLayouts/slideLayout113.xml"/><Relationship Id="rId36" Type="http://schemas.openxmlformats.org/officeDocument/2006/relationships/slideLayout" Target="../slideLayouts/slideLayout114.xml"/><Relationship Id="rId37" Type="http://schemas.openxmlformats.org/officeDocument/2006/relationships/slideLayout" Target="../slideLayouts/slideLayout115.xml"/><Relationship Id="rId38" Type="http://schemas.openxmlformats.org/officeDocument/2006/relationships/slideLayout" Target="../slideLayouts/slideLayout116.xml"/><Relationship Id="rId39" Type="http://schemas.openxmlformats.org/officeDocument/2006/relationships/slideLayout" Target="../slideLayouts/slideLayout117.xml"/><Relationship Id="rId40" Type="http://schemas.openxmlformats.org/officeDocument/2006/relationships/slideLayout" Target="../slideLayouts/slideLayout118.xml"/><Relationship Id="rId41" Type="http://schemas.openxmlformats.org/officeDocument/2006/relationships/slideLayout" Target="../slideLayouts/slideLayout119.xml"/><Relationship Id="rId4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ECB4-3491-473B-B1F9-A1E3A1AD00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0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0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0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0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1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61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2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2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4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C09C-EA8A-4C01-95DB-59A235E8763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1"/>
    <p:sldLayoutId id="2147483767" r:id="rId32"/>
    <p:sldLayoutId id="2147483768" r:id="rId33"/>
    <p:sldLayoutId id="2147483769" r:id="rId34"/>
    <p:sldLayoutId id="2147483770" r:id="rId35"/>
    <p:sldLayoutId id="2147483771" r:id="rId36"/>
    <p:sldLayoutId id="2147483772" r:id="rId37"/>
    <p:sldLayoutId id="2147483773" r:id="rId38"/>
    <p:sldLayoutId id="2147483774" r:id="rId39"/>
    <p:sldLayoutId id="2147483775" r:id="rId40"/>
    <p:sldLayoutId id="2147483776" r:id="rId41"/>
    <p:sldLayoutId id="2147483777" r:id="rId4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7499520" y="768240"/>
            <a:ext cx="1644480" cy="45108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0" y="6340320"/>
            <a:ext cx="9144000" cy="51768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0" y="6338880"/>
            <a:ext cx="9144000" cy="0"/>
          </a:xfrm>
          <a:prstGeom prst="line">
            <a:avLst/>
          </a:prstGeom>
          <a:ln w="9360">
            <a:solidFill>
              <a:srgbClr val="fff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2743200"/>
            <a:ext cx="9144000" cy="41148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4920" y="3428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11760" cy="261792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0" y="2438280"/>
            <a:ext cx="9144000" cy="3049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2438280"/>
            <a:ext cx="9144000" cy="0"/>
          </a:xfrm>
          <a:prstGeom prst="line">
            <a:avLst/>
          </a:prstGeom>
          <a:ln w="9360">
            <a:solidFill>
              <a:srgbClr val="fff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9360">
            <a:solidFill>
              <a:srgbClr val="fff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0" y="6340320"/>
            <a:ext cx="9144000" cy="517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0" y="6338880"/>
            <a:ext cx="9144000" cy="0"/>
          </a:xfrm>
          <a:prstGeom prst="line">
            <a:avLst/>
          </a:prstGeom>
          <a:ln w="9360">
            <a:solidFill>
              <a:srgbClr val="fff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1AD9-8FEB-4775-B0B5-7B17C79E38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6D17-25F0-4EA4-9DD5-3BAD512E90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6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9D7C-8D65-484C-8528-498E35949C6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3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C584-CF23-4A03-9CFC-37D478BFBBA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BAB4-B326-40C8-BDF3-9747F257BC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A212-979C-4A29-848F-D8E4DF53DE3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5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4EA1-A758-43E4-BE34-EB0F415F2A2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3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619B-AAEC-4288-8B05-77BA7C0506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9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8FB6-7A88-41F6-B829-03FAE9ADDD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5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5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8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9187-ABE9-4BDB-BBD1-D7E438EEF58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3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3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6BE5-8102-4CD2-AEFB-2DD3F00A9E5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0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1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52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3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3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5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DF7E-934D-4B30-A5A4-3A51BCFCDE4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2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2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2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2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2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2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2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2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2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2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2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2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2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2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2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2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2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2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4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2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2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2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2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2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2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2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2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2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2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2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Рейтинговая оценка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                                        деятельности коммерческих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                  бан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окладчик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колаенков Евгений Павлович, ф 41 групп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52ae"/>
                </a:solidFill>
                <a:latin typeface="Times New Roman"/>
              </a:rPr>
              <a:t>И ещё один вид рейтинга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438280" y="1295280"/>
            <a:ext cx="645156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 Индивидуальные рейтинги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 (присваиваются международным рейтинговым агентством «</a:t>
            </a: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Fitch IBCA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»)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Индивидуальный рейтинг является индикатором воз­можности самого финансового посредника «погло­тить» ряд возникших в процессе его деятельности финансовых и банковских рисков. Основными инди­каторами, на базе которых эксперты рейтингового агентства принимают решение о присвоении соответ­ствующего рейтинга, являются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• 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прибыльность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полнота, достоверность и оперативность баланса финансовой организации, включая уровень капитализации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наличие/отсутствие каких-либо льгот со стороны государственных или регулирующих органов или уч­реждений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качество менеджмента, включая степень прора­ботки стратегии, политики и тактики деятельности в статике, динамике и с элементами прогноза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• 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оперативная внутренняя и внешняя среда осуще­ствления деятельности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последовательность, логичность управления капи­талом финансовой организации, в том числе его ди­версификация по географическим и функциональным направлениям деятельности финансового учреждения.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84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Из каких коэффициентов состоит математическая модель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2800" spc="-1" strike="noStrike">
                <a:solidFill>
                  <a:srgbClr val="996600"/>
                </a:solidFill>
                <a:latin typeface="Arial"/>
              </a:rPr>
              <a:t>Коэффициента достаточности капитала</a:t>
            </a:r>
            <a:br>
              <a:rPr sz="2800"/>
            </a:br>
            <a:r>
              <a:rPr b="1" i="1" lang="ru-RU" sz="2800" spc="-1" strike="noStrike">
                <a:solidFill>
                  <a:srgbClr val="996600"/>
                </a:solidFill>
                <a:latin typeface="Arial"/>
              </a:rPr>
              <a:t>Коэффициента ликвидности КБ</a:t>
            </a:r>
            <a:br>
              <a:rPr sz="2800"/>
            </a:br>
            <a:r>
              <a:rPr b="1" i="1" lang="ru-RU" sz="2800" spc="-1" strike="noStrike">
                <a:solidFill>
                  <a:srgbClr val="996600"/>
                </a:solidFill>
                <a:latin typeface="Arial"/>
              </a:rPr>
              <a:t>Коэффициента рентабельности Коэффициента качества активов</a:t>
            </a:r>
            <a:br>
              <a:rPr sz="2800"/>
            </a:br>
            <a:r>
              <a:rPr b="1" i="1" lang="ru-RU" sz="2800" spc="-1" strike="noStrike">
                <a:solidFill>
                  <a:srgbClr val="996600"/>
                </a:solidFill>
                <a:latin typeface="Arial"/>
              </a:rPr>
              <a:t>Коэффициента качества пассивов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430360" y="1731960"/>
            <a:ext cx="65358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ee9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92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ee941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Arial"/>
              </a:rPr>
              <a:t>Процедура присвоения рейтинга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286000" y="1371600"/>
            <a:ext cx="6680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286000" y="784440"/>
            <a:ext cx="6858000" cy="6665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Этапы типовой процедуры присвоения рейтинг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1. Запрос на присвоение рейтинг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2.  Формирование аналитической группы рейтинговым агентством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3.  Запрос у эмитента базового комплекта документов и информации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4.  Предоставление эмитентом базового комплекта документов (рейтинговой книги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5.  Проведение предварительного исследования эмитент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6.  Подготовка встречи с руководством эмитента. Дополнитель­ный перечень тем для обсуждения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7.   Встреча аналитической группы с руководством эмитент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8.   Подготовка отчета аналитической группы для рейтингового комитет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9.  Рассмотрение результатов анализа на рейтинговом комитете и присвоение рейтинг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10.  Уведомление эмитента о рейтинге; согласование и определе­ние статуса рейтинг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11.   Публикация рейтинга или инициализация процедуры апелляции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12.  Наблюдение за рейтингом. Организация и проведение еже­годной встречи с эмитентом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430360" y="1731960"/>
            <a:ext cx="65358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f8a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86000" y="738000"/>
            <a:ext cx="6858000" cy="4940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9900"/>
                </a:solidFill>
                <a:latin typeface="Tahoma"/>
              </a:rPr>
              <a:t>При получении от эмитента запроса на присвоение рейтин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йтинговое агентство формирует аналитическую группу, состоящую из аналитиков, обладающих знаниями в соответствующих областях биз­неса. В этой группе назначается ведущий аналитик, который руководит процессом и служит главным контактным лицом для эмитен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д очной официальной встречей группа анализирует финансовую отчетность за предшествующие периоды, прогнозы финансовых показателей и денежных потоков, документацию по сделкам, юридические заключения и прочие данные, которые имеют отношение к предме­ту. При этом рейтинговое агентство не осуществляет дополнительной аудиторской проверки предоставляемой эмитентом информ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Динамика суверенных рейтингов Росси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pic>
        <p:nvPicPr>
          <p:cNvPr id="1104" name="" descr=""/>
          <p:cNvPicPr/>
          <p:nvPr/>
        </p:nvPicPr>
        <p:blipFill>
          <a:blip r:embed="rId2"/>
          <a:stretch/>
        </p:blipFill>
        <p:spPr>
          <a:xfrm>
            <a:off x="914400" y="923760"/>
            <a:ext cx="8229600" cy="593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Характеристики деятельности международных рейтинговых агентств в Росси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430360" y="1295280"/>
            <a:ext cx="671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286000" y="2708280"/>
            <a:ext cx="6629400" cy="3375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362320" y="3225960"/>
            <a:ext cx="67816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5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ee9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solidFill>
            <a:srgbClr val="ee941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Классификация рейтингов агентства </a:t>
            </a:r>
            <a:r>
              <a:rPr b="0" i="1" lang="en-US" sz="3200" spc="-1" strike="noStrike">
                <a:solidFill>
                  <a:srgbClr val="990033"/>
                </a:solidFill>
                <a:latin typeface="Arial"/>
              </a:rPr>
              <a:t>Moody's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430360" y="1295280"/>
            <a:ext cx="671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286000" y="2708280"/>
            <a:ext cx="6629400" cy="3375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5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9372600" cy="669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33"/>
                </a:solidFill>
                <a:latin typeface="Tahoma"/>
              </a:rPr>
              <a:t>Шкала рейтингов агентства «Рус-Рейтинг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"/>
          <p:cNvSpPr/>
          <p:nvPr/>
        </p:nvSpPr>
        <p:spPr>
          <a:xfrm>
            <a:off x="2430360" y="1295280"/>
            <a:ext cx="671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286000" y="2708280"/>
            <a:ext cx="6629400" cy="3375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5" name=""/>
          <p:cNvGraphicFramePr/>
          <p:nvPr/>
        </p:nvGraphicFramePr>
        <p:xfrm>
          <a:off x="0" y="1219320"/>
          <a:ext cx="9372240" cy="6171840"/>
        </p:xfrm>
        <a:graphic>
          <a:graphicData uri="http://schemas.openxmlformats.org/drawingml/2006/table">
            <a:tbl>
              <a:tblPr/>
              <a:tblGrid>
                <a:gridCol w="1874160"/>
                <a:gridCol w="7498080"/>
              </a:tblGrid>
              <a:tr h="73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ВВВ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равнительно высокая степень кредитоспособ­ности. Финансовое со­стояние оценивается как устойчивое и стабильное в среднесрочной перс­пектив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ВВ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редняя степень креди­тоспособности. Финансо­вое состояние оценивает­ся как удовлетворитель­ное и стабильное в крат­косрочной перспектив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В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тепень кредитоспособ­ности незначительно ниже средней. Основные пока­затели финансового со­стояния оцениваются как удовлетворительные и ста­бильные в краткосрочной перспектив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СС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тепень кредитоспособ­ности ниже средней. Ос­новные показатели финан­сового состояния оценива­ются как удовлетворитель­ные, но их стабильность сомнительн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С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изкая степень креди­тоспособности. Основные показатели финансового состояния оцениваются как близкие к удовлетво­рительным, но их стабиль­ность сомнительн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едопустимо низкая сте­пень кредитоспособности. Финансовое состояние оценивается как неудов­летворительное или близ­кое к удовлетворительно­му, но его стабильность со­мнительн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изшая степень оценки кредитоспособности. Фи­нансовое состояние оце­нивается как стабильно неудовлетворительное (близкое к дефолту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Рейтинг аннулирован по требованию банк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14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Кредитный спрэд для каждого уровня рейтинга </a:t>
            </a:r>
            <a:r>
              <a:rPr b="1" i="1" lang="en-US" sz="2400" spc="-1" strike="noStrike">
                <a:solidFill>
                  <a:srgbClr val="660033"/>
                </a:solidFill>
                <a:latin typeface="Times New Roman"/>
              </a:rPr>
              <a:t>RusRating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 в 2004 - 2007 гг.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430360" y="1295280"/>
            <a:ext cx="671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286000" y="2708280"/>
            <a:ext cx="6629400" cy="3375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2"/>
          <a:stretch/>
        </p:blipFill>
        <p:spPr>
          <a:xfrm>
            <a:off x="2286000" y="1233360"/>
            <a:ext cx="6858000" cy="5624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-9907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imes New Roman"/>
              </a:rPr>
              <a:t>Формирование в России рейтинговой систем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149" name=""/>
          <p:cNvSpPr/>
          <p:nvPr/>
        </p:nvSpPr>
        <p:spPr>
          <a:xfrm>
            <a:off x="0" y="614880"/>
            <a:ext cx="9144000" cy="5796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а сегодняшний день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наиболее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звитым сектором рейтинговых продуктов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является сектор банковских рейтингов. Это объясняется не только большей регламентированностью деятельности, но и относительной доступностью и прозрачностью отчетности кредитных учреждений, острым общественным интересом, порожденным возрастающим разнообразием предлагаемых банковских продуктов и услуг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овременная банковская система Росси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- одна из самых молодых. По сути дела, она насчитывает всего 15 лет. Поэтому практика рейтингования банков также относительно невелика. Естественно, первые рэнкинги были ориентированы на представление хотя бы какой-то инфор­мации для возникающего бизнеса и клиентов, которые привыкли до это­го иметь дело лишь с четырьмя государственными банками, когда проблемы выбора не существовало как таковой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Вопрос создания банковских рейтингов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риобрел актуальность к середине 1990-х гг., когда конкуренция между банками приобрела реальные очертания, а бизнесу потребовались четкие ориентиры при выборе обслуживающих банков. В 1995-1998 гг. рейтинговые услуги были представлены на рынке уже тремя-четырьмя агентствами. По­степенно на российском рынке стали появляться крупнейшие запад­ные компании, одна из них -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or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успела открыть пред­ставительство в России, другая -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mpson Bank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 Watch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- пыталась активно у нас работать, но после кризиса была поглощена крупной международной компанией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tch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BCA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 При этом неадекватность оценок во время кризиса в России и развивающихся странах стала одной из причин такого поглощения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ee9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solidFill>
            <a:srgbClr val="ee941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Что такое кредитный рейтинг?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430360" y="1523880"/>
            <a:ext cx="65358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362320" y="1193400"/>
            <a:ext cx="7010280" cy="5702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редитные рейтинг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— самые распространенные и широко используемые. Они присваиваются всеми ведущими международными рейтинговыми агентствам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редитный рейтинг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— это мнение экспертов агентств относительно общей кредитоспособности заемщика или кредитоспособности заемщика в отношении конкретных долговых обязательств, основанное на анализе достаточно стандартизованных факто­ров риск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едитные рейтинги бываю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лгосрочным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ат­косрочным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сваиваются по международной или по национальной шкал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едитный рейтинг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едставляет собой информацию, которую инвесторы могут использовать при совершении операций с финансо­выми инструментами и ценными бумагами. Долго- и краткосрочные кредитные рейтинги присваиваются на суверенном, субсуверенном уровнях, а также финансовым и нефинансовым экономическим субъектам в национальной и иностранной валюта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Банковские рейтинговые продукты в России до кризиса 1998г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430360" y="1295280"/>
            <a:ext cx="671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f8a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286000" y="2708280"/>
            <a:ext cx="6629400" cy="3375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8915400" cy="541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9144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Основные рейтинговые продукты для банков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839080" cy="6248520"/>
          </a:xfrm>
          <a:prstGeom prst="rect">
            <a:avLst/>
          </a:prstGeom>
          <a:ln w="0">
            <a:noFill/>
          </a:ln>
        </p:spPr>
      </p:pic>
      <p:pic>
        <p:nvPicPr>
          <p:cNvPr id="1162" name="" descr=""/>
          <p:cNvPicPr/>
          <p:nvPr/>
        </p:nvPicPr>
        <p:blipFill>
          <a:blip r:embed="rId2"/>
          <a:stretch/>
        </p:blipFill>
        <p:spPr>
          <a:xfrm>
            <a:off x="-26676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Некоторые достижения..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0" y="2638440"/>
            <a:ext cx="7924680" cy="1739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том 2004г. британский журнал 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Banker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 опубликовал оче­редной рейтинг 1000 крупнейших банков мира. Банки в этом списке ранжированы по величине капитала. Американские и российские банки демонстрируют рост. Большинство новых участников списка - из России и США. И все это - несмотря на снижение темпов мирово­го экономического рос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Times New Roman"/>
              </a:rPr>
              <a:t>Заключение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010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Arial"/>
              </a:rPr>
              <a:t>Рейтинги стран, региональных и муниципальных образований, субъектов финансового сектора экономики, нефинансовых организаций и предприятий стали важным информационным средством установления и поддержания деловых отношений в рамках хозяйственной деятельности и регулирования делового общения. Многообразие субъектов  и отношений между ними потребовало создания комплекса понятных, достаточно прозрачных и общепризнанных шкал, который позволил бы оценить финансовую устойчивость институциональных единиц в статике, динамике и с элементами прогноза. Подходы к этой проблемы породили разнообразие методик рейтинговых оценок, которые представляют на рынок рейтинговые агентства</a:t>
            </a: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4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Дополнительная информация!!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363060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спределение банковских рейтингов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стория и прогноз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1" name=""/>
          <p:cNvGraphicFramePr/>
          <p:nvPr/>
        </p:nvGraphicFramePr>
        <p:xfrm>
          <a:off x="88920" y="1608120"/>
          <a:ext cx="896616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608120"/>
                    <a:ext cx="896616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3" name=""/>
          <p:cNvSpPr/>
          <p:nvPr/>
        </p:nvSpPr>
        <p:spPr>
          <a:xfrm flipV="1">
            <a:off x="4800600" y="3200040"/>
            <a:ext cx="1676520" cy="1260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5181480" y="3632040"/>
            <a:ext cx="1676520" cy="1296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5511960" y="4127400"/>
            <a:ext cx="1676160" cy="1296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648320" y="2654280"/>
            <a:ext cx="20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рогноз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0" y="1849320"/>
            <a:ext cx="183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исло рейтинг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68436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Рейтинги российских банков сдерживаются структурными недостатками банковского сектора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179" name=""/>
          <p:cNvGraphicFramePr/>
          <p:nvPr/>
        </p:nvGraphicFramePr>
        <p:xfrm>
          <a:off x="436680" y="1498680"/>
          <a:ext cx="8423280" cy="47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498680"/>
                    <a:ext cx="842328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1" name=""/>
          <p:cNvSpPr/>
          <p:nvPr/>
        </p:nvSpPr>
        <p:spPr>
          <a:xfrm flipV="1">
            <a:off x="7823160" y="2361960"/>
            <a:ext cx="622440" cy="1104840"/>
          </a:xfrm>
          <a:prstGeom prst="line">
            <a:avLst/>
          </a:prstGeom>
          <a:ln cap="rnd" w="22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924680" y="3886200"/>
            <a:ext cx="838440" cy="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8674200" y="1892160"/>
            <a:ext cx="304560" cy="2324160"/>
          </a:xfrm>
          <a:prstGeom prst="ellipse">
            <a:avLst/>
          </a:prstGeom>
          <a:noFill/>
          <a:ln w="22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8369280" y="2514600"/>
            <a:ext cx="177840" cy="1282680"/>
          </a:xfrm>
          <a:prstGeom prst="ellipse">
            <a:avLst/>
          </a:prstGeom>
          <a:noFill/>
          <a:ln w="22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Позитивные факторы, влияющие на рейтинги банков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2050920"/>
            <a:ext cx="822960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Экономический рост</a:t>
            </a:r>
            <a:r>
              <a:rPr b="1" lang="fr-FR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Рост ВВП: 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7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3%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в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 2003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г.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рогноз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 6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8%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на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 2004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г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Высокий потенциал роста банковской отрасли в силу низкого уровня финансового посредничеств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Кредиты к ВВП в 2003 г.: 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21%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в России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, 29%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в Польше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44%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в Венгрии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и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 75%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во Франци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cc0000"/>
              </a:buClr>
              <a:buSzPct val="150000"/>
              <a:buFont typeface="Arial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ысокий уровень экономических и отраслевых рисков делает российский банковский сектор одним из самых высокорисковых в мир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гативные факторы, влияющие на рейтинги банков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Концентрация экономики</a:t>
            </a:r>
            <a:r>
              <a:rPr b="1" lang="en-US" sz="20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Доминирующее положение Сбербанка</a:t>
            </a:r>
            <a:r>
              <a:rPr b="1" lang="fr-FR" sz="20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1" i="1" lang="fr-FR" sz="2000" spc="-1" strike="noStrike">
                <a:solidFill>
                  <a:srgbClr val="000000"/>
                </a:solidFill>
                <a:latin typeface="Bodoni MT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Bodoni MT"/>
              </a:rPr>
              <a:t>более</a:t>
            </a:r>
            <a:r>
              <a:rPr b="1" i="1" lang="fr-FR" sz="2000" spc="-1" strike="noStrike">
                <a:solidFill>
                  <a:srgbClr val="000000"/>
                </a:solidFill>
                <a:latin typeface="Bodoni MT"/>
              </a:rPr>
              <a:t> 60% </a:t>
            </a:r>
            <a:r>
              <a:rPr b="1" i="1" lang="ru-RU" sz="2000" spc="-1" strike="noStrike">
                <a:solidFill>
                  <a:srgbClr val="000000"/>
                </a:solidFill>
                <a:latin typeface="Bodoni MT"/>
              </a:rPr>
              <a:t>рынка частных депозитов и более</a:t>
            </a:r>
            <a:r>
              <a:rPr b="1" i="1" lang="fr-FR" sz="2000" spc="-1" strike="noStrike">
                <a:solidFill>
                  <a:srgbClr val="000000"/>
                </a:solidFill>
                <a:latin typeface="Bodoni MT"/>
              </a:rPr>
              <a:t> 30% </a:t>
            </a:r>
            <a:r>
              <a:rPr b="1" i="1" lang="ru-RU" sz="2000" spc="-1" strike="noStrike">
                <a:solidFill>
                  <a:srgbClr val="000000"/>
                </a:solidFill>
                <a:latin typeface="Bodoni MT"/>
              </a:rPr>
              <a:t>рынка корпоративного кредитования</a:t>
            </a:r>
            <a:r>
              <a:rPr b="1" i="1" lang="fr-FR" sz="2000" spc="-1" strike="noStrike">
                <a:solidFill>
                  <a:srgbClr val="000000"/>
                </a:solidFill>
                <a:latin typeface="Bodoni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Высокая концентрация кредитных ри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Преобладание операций со связанными сторо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Непрозрачная структура собств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Большое число мелких бан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Высокая доля доходов от торговых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Неопределенная и непредсказуемая правов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684396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йтинг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ndard &amp; Poor’s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российских финансовых институтов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318960" y="1368360"/>
          <a:ext cx="8632800" cy="4837320"/>
        </p:xfrm>
        <a:graphic>
          <a:graphicData uri="http://schemas.openxmlformats.org/drawingml/2006/table">
            <a:tbl>
              <a:tblPr/>
              <a:tblGrid>
                <a:gridCol w="2576520"/>
                <a:gridCol w="1371600"/>
                <a:gridCol w="3111480"/>
                <a:gridCol w="157320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шторг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B+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зпром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+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нты-Мансийский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ый Московский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+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ргутнефтегаз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к Русский Стандар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/CW Positi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мсвязь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ьфа-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пэкс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+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ДМ-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вропейский Трастовый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к Петрокоммерц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ьский Банк Реконструкции и Развит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ый Промышленный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Positi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ый Банк Санкт-Петербург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нессанс Капита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Positi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к Союз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к ДельтаКреди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эб-инвест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о-Сибирский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ьба Альянс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Кредит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1" name=""/>
          <p:cNvSpPr/>
          <p:nvPr/>
        </p:nvSpPr>
        <p:spPr>
          <a:xfrm>
            <a:off x="6006960" y="609480"/>
            <a:ext cx="313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На 1 сентября 2004 г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13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Кредитный рейтинг - это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430360" y="1447920"/>
            <a:ext cx="67136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f8a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362320" y="1547280"/>
            <a:ext cx="6781680" cy="5336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рейтинг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комплексная оценка состояния анализируемого субъекта, которая дает возможность отнести его к некоторому классу или категории. Результаты исследова­ния деятельности экономических субъектов выражают­ся комбинацией символов, на базе которой осуществ­ляется определенная кластеризация, дающая возмож­ность проведения текущей и сравнительной оце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йтинги являютс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достаточно значимой составляющей в области деловой информации - они необходимы как д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держания уровня делового до­верия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 и в качестве индикатора перспективных на­правлений размещения финансовых ресурсов, вложения инвестиционных потенциал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йтинг по своей сути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полняет функцию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еобразования достаточно больших объемов информации в мнения и рекомендации по принятию решения наиболее компактным образ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2" name=""/>
          <p:cNvGrpSpPr/>
          <p:nvPr/>
        </p:nvGrpSpPr>
        <p:grpSpPr>
          <a:xfrm>
            <a:off x="0" y="2286000"/>
            <a:ext cx="9144000" cy="360360"/>
            <a:chOff x="0" y="2286000"/>
            <a:chExt cx="9144000" cy="360360"/>
          </a:xfrm>
        </p:grpSpPr>
        <p:sp>
          <p:nvSpPr>
            <p:cNvPr id="1193" name=""/>
            <p:cNvSpPr/>
            <p:nvPr/>
          </p:nvSpPr>
          <p:spPr>
            <a:xfrm>
              <a:off x="0" y="2357280"/>
              <a:ext cx="9144000" cy="28908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0" y="2286000"/>
              <a:ext cx="9144000" cy="7308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5" name=""/>
          <p:cNvSpPr/>
          <p:nvPr/>
        </p:nvSpPr>
        <p:spPr>
          <a:xfrm>
            <a:off x="304920" y="2819520"/>
            <a:ext cx="86104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Georgia"/>
              </a:rPr>
              <a:t>Использование кредитных рейтингов в деятельности коммерческого банк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Georgia"/>
              </a:rPr>
              <a:t>Опыт АКБ «Союз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57200" y="510552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Банковские рейтинги и анализ финансового состояния бан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Arial Black"/>
              </a:rPr>
              <a:t>Круглый стол «Банковские рейтинги и анализ финансового состояния банка»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Москв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Торгово-промышленная палата Р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23 мая 2006 год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3195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8" name="Souz_logo_gor" descr=""/>
          <p:cNvPicPr/>
          <p:nvPr/>
        </p:nvPicPr>
        <p:blipFill>
          <a:blip r:embed="rId1"/>
          <a:stretch/>
        </p:blipFill>
        <p:spPr>
          <a:xfrm>
            <a:off x="324000" y="76320"/>
            <a:ext cx="8534160" cy="220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"/>
          <p:cNvGrpSpPr/>
          <p:nvPr/>
        </p:nvGrpSpPr>
        <p:grpSpPr>
          <a:xfrm>
            <a:off x="0" y="404640"/>
            <a:ext cx="9144000" cy="360360"/>
            <a:chOff x="0" y="404640"/>
            <a:chExt cx="9144000" cy="360360"/>
          </a:xfrm>
        </p:grpSpPr>
        <p:sp>
          <p:nvSpPr>
            <p:cNvPr id="1200" name=""/>
            <p:cNvSpPr/>
            <p:nvPr/>
          </p:nvSpPr>
          <p:spPr>
            <a:xfrm>
              <a:off x="0" y="475920"/>
              <a:ext cx="9144000" cy="28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0" y="404640"/>
              <a:ext cx="9144000" cy="73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0" y="653724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1"/>
          <a:stretch/>
        </p:blipFill>
        <p:spPr>
          <a:xfrm>
            <a:off x="7524720" y="5734080"/>
            <a:ext cx="1357200" cy="615960"/>
          </a:xfrm>
          <a:prstGeom prst="rect">
            <a:avLst/>
          </a:prstGeom>
          <a:ln w="0">
            <a:noFill/>
          </a:ln>
        </p:spPr>
      </p:pic>
      <p:sp>
        <p:nvSpPr>
          <p:cNvPr id="1204" name=""/>
          <p:cNvSpPr/>
          <p:nvPr/>
        </p:nvSpPr>
        <p:spPr>
          <a:xfrm>
            <a:off x="609480" y="10666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Кредитные рейтинги корпоративных заемщи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500720" y="2205000"/>
            <a:ext cx="44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09480" y="5013360"/>
            <a:ext cx="821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По данным на 22.05.2006 кредитные рейтинги имели более 65 компаний, более 80 банков и финансовых организац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7" name=""/>
          <p:cNvGraphicFramePr/>
          <p:nvPr/>
        </p:nvGraphicFramePr>
        <p:xfrm>
          <a:off x="1447920" y="1801800"/>
          <a:ext cx="6095880" cy="2998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801800"/>
                    <a:ext cx="60958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9" name=""/>
          <p:cNvGrpSpPr/>
          <p:nvPr/>
        </p:nvGrpSpPr>
        <p:grpSpPr>
          <a:xfrm>
            <a:off x="0" y="380880"/>
            <a:ext cx="9144000" cy="360360"/>
            <a:chOff x="0" y="380880"/>
            <a:chExt cx="9144000" cy="360360"/>
          </a:xfrm>
        </p:grpSpPr>
        <p:sp>
          <p:nvSpPr>
            <p:cNvPr id="1210" name=""/>
            <p:cNvSpPr/>
            <p:nvPr/>
          </p:nvSpPr>
          <p:spPr>
            <a:xfrm>
              <a:off x="0" y="452160"/>
              <a:ext cx="9144000" cy="28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0" y="380880"/>
              <a:ext cx="9144000" cy="73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2" name=""/>
          <p:cNvSpPr/>
          <p:nvPr/>
        </p:nvSpPr>
        <p:spPr>
          <a:xfrm>
            <a:off x="0" y="653724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3" name="" descr=""/>
          <p:cNvPicPr/>
          <p:nvPr/>
        </p:nvPicPr>
        <p:blipFill>
          <a:blip r:embed="rId1"/>
          <a:stretch/>
        </p:blipFill>
        <p:spPr>
          <a:xfrm>
            <a:off x="7380360" y="5734080"/>
            <a:ext cx="1547640" cy="701640"/>
          </a:xfrm>
          <a:prstGeom prst="rect">
            <a:avLst/>
          </a:prstGeom>
          <a:ln w="0">
            <a:noFill/>
          </a:ln>
        </p:spPr>
      </p:pic>
      <p:sp>
        <p:nvSpPr>
          <p:cNvPr id="1214" name=""/>
          <p:cNvSpPr/>
          <p:nvPr/>
        </p:nvSpPr>
        <p:spPr>
          <a:xfrm>
            <a:off x="1332000" y="2637000"/>
            <a:ext cx="7010280" cy="1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граниченное число заемщиков, получивших кредитные рейтинг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ктуальность кредитных рейтинг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ложности сопоставления оценок различных рейтинговых агент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ложность сопоставления оценок по различным шкалам (национальным/международным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067280" y="1844640"/>
            <a:ext cx="8650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52280" y="98100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Использование рейтингов при принятии решений об инвестирова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50920" y="515772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В России кредитные рейтинги пока не стали инструментом для принятия инвестиционных реш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40360" y="4365720"/>
            <a:ext cx="8650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"/>
          <p:cNvGrpSpPr/>
          <p:nvPr/>
        </p:nvGrpSpPr>
        <p:grpSpPr>
          <a:xfrm>
            <a:off x="0" y="260280"/>
            <a:ext cx="9144000" cy="360360"/>
            <a:chOff x="0" y="260280"/>
            <a:chExt cx="9144000" cy="360360"/>
          </a:xfrm>
        </p:grpSpPr>
        <p:sp>
          <p:nvSpPr>
            <p:cNvPr id="1220" name=""/>
            <p:cNvSpPr/>
            <p:nvPr/>
          </p:nvSpPr>
          <p:spPr>
            <a:xfrm>
              <a:off x="0" y="331560"/>
              <a:ext cx="9144000" cy="28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0" y="260280"/>
              <a:ext cx="9144000" cy="73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2" name="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258920" y="2421000"/>
            <a:ext cx="7010280" cy="1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розрачность методик оценки заемщик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убликация полных рейтинговых отче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одготовка качественной отраслевой информац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редоставление информации о всех присвоенных рейтинговых оценках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067280" y="1557360"/>
            <a:ext cx="8650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0" y="90792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еобходимая рейтинговая информаци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50920" y="515772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Раскрытие подобной информации будет способствовать большему доверию к рейтинговым оценк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140360" y="4149720"/>
            <a:ext cx="8650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"/>
          <p:cNvGrpSpPr/>
          <p:nvPr/>
        </p:nvGrpSpPr>
        <p:grpSpPr>
          <a:xfrm>
            <a:off x="0" y="380880"/>
            <a:ext cx="9144000" cy="360360"/>
            <a:chOff x="0" y="380880"/>
            <a:chExt cx="9144000" cy="360360"/>
          </a:xfrm>
        </p:grpSpPr>
        <p:sp>
          <p:nvSpPr>
            <p:cNvPr id="1229" name=""/>
            <p:cNvSpPr/>
            <p:nvPr/>
          </p:nvSpPr>
          <p:spPr>
            <a:xfrm>
              <a:off x="0" y="452160"/>
              <a:ext cx="9144000" cy="28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0" y="380880"/>
              <a:ext cx="9144000" cy="73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1" name=""/>
          <p:cNvSpPr/>
          <p:nvPr/>
        </p:nvSpPr>
        <p:spPr>
          <a:xfrm>
            <a:off x="0" y="653724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403280" y="1197000"/>
            <a:ext cx="691380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Standard &amp; Poor`s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1 сентября 2005 года             ССС+/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                                                    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24 сентября 2003 года           ССС/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52280" y="6922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Кредитный рейтинг АКБ «Союз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50920" y="5661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Низкий уровень кредитного рейтинга ограничивает возможности для публичных заимствова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708360" y="1916280"/>
            <a:ext cx="8650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239840" y="3255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7" name=""/>
          <p:cNvGraphicFramePr/>
          <p:nvPr/>
        </p:nvGraphicFramePr>
        <p:xfrm>
          <a:off x="457200" y="2819520"/>
          <a:ext cx="7345080" cy="2608200"/>
        </p:xfrm>
        <a:graphic>
          <a:graphicData uri="http://schemas.openxmlformats.org/drawingml/2006/table">
            <a:tbl>
              <a:tblPr/>
              <a:tblGrid>
                <a:gridCol w="3672360"/>
                <a:gridCol w="3672720"/>
              </a:tblGrid>
              <a:tr h="26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озитивные факторы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рочные связи с компаниями группы «Базовый Элемент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Укрепление рыночных пози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Хорошая структура доход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егативные факторы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ысокая концентрация размещаемых и привлекаемых средст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изкий уровень капитализ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ебольшая клиентская б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Умеренная прибы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8" name=""/>
          <p:cNvGrpSpPr/>
          <p:nvPr/>
        </p:nvGrpSpPr>
        <p:grpSpPr>
          <a:xfrm>
            <a:off x="0" y="476280"/>
            <a:ext cx="9144000" cy="360360"/>
            <a:chOff x="0" y="476280"/>
            <a:chExt cx="9144000" cy="360360"/>
          </a:xfrm>
        </p:grpSpPr>
        <p:sp>
          <p:nvSpPr>
            <p:cNvPr id="1239" name=""/>
            <p:cNvSpPr/>
            <p:nvPr/>
          </p:nvSpPr>
          <p:spPr>
            <a:xfrm>
              <a:off x="0" y="547560"/>
              <a:ext cx="9144000" cy="28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c16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0" y="476280"/>
              <a:ext cx="9144000" cy="73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c16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1" name="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2" name="" descr=""/>
          <p:cNvPicPr/>
          <p:nvPr/>
        </p:nvPicPr>
        <p:blipFill>
          <a:blip r:embed="rId1"/>
          <a:stretch/>
        </p:blipFill>
        <p:spPr>
          <a:xfrm>
            <a:off x="7197840" y="5705640"/>
            <a:ext cx="1755720" cy="795240"/>
          </a:xfrm>
          <a:prstGeom prst="rect">
            <a:avLst/>
          </a:prstGeom>
          <a:ln w="0">
            <a:noFill/>
          </a:ln>
        </p:spPr>
      </p:pic>
      <p:sp>
        <p:nvSpPr>
          <p:cNvPr id="1243" name=""/>
          <p:cNvSpPr/>
          <p:nvPr/>
        </p:nvSpPr>
        <p:spPr>
          <a:xfrm>
            <a:off x="324000" y="105264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3399"/>
                </a:solidFill>
                <a:uFillTx/>
                <a:latin typeface="Arial"/>
              </a:rPr>
              <a:t>Типичная схема сделки: опыт Банка СОЮЗ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5303880" y="2363760"/>
            <a:ext cx="1374840" cy="581400"/>
            <a:chOff x="5303880" y="2363760"/>
            <a:chExt cx="1374840" cy="581400"/>
          </a:xfrm>
        </p:grpSpPr>
        <p:sp>
          <p:nvSpPr>
            <p:cNvPr id="1245" name=""/>
            <p:cNvSpPr/>
            <p:nvPr/>
          </p:nvSpPr>
          <p:spPr>
            <a:xfrm>
              <a:off x="5303880" y="2440080"/>
              <a:ext cx="1374840" cy="47628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27280" y="2363760"/>
              <a:ext cx="125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rs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Менеджеры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326880" y="3247920"/>
            <a:ext cx="2362320" cy="582840"/>
            <a:chOff x="326880" y="3247920"/>
            <a:chExt cx="2362320" cy="582840"/>
          </a:xfrm>
        </p:grpSpPr>
        <p:sp>
          <p:nvSpPr>
            <p:cNvPr id="1248" name=""/>
            <p:cNvSpPr/>
            <p:nvPr/>
          </p:nvSpPr>
          <p:spPr>
            <a:xfrm>
              <a:off x="326880" y="3316320"/>
              <a:ext cx="2362320" cy="51444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01400" y="3247920"/>
              <a:ext cx="223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ck-up Servicer</a:t>
              </a:r>
              <a:r>
                <a:rPr b="0" lang="ru-RU" sz="1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Запасной сервисный агент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207360" y="2033640"/>
            <a:ext cx="595800" cy="1104480"/>
            <a:chOff x="207360" y="2033640"/>
            <a:chExt cx="595800" cy="1104480"/>
          </a:xfrm>
        </p:grpSpPr>
        <p:sp>
          <p:nvSpPr>
            <p:cNvPr id="1251" name=""/>
            <p:cNvSpPr/>
            <p:nvPr/>
          </p:nvSpPr>
          <p:spPr>
            <a:xfrm rot="5400000">
              <a:off x="-25560" y="2271960"/>
              <a:ext cx="1067040" cy="59040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 rot="16200000">
              <a:off x="-41400" y="2308320"/>
              <a:ext cx="107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ligors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Должники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2708280" y="2095560"/>
            <a:ext cx="2743200" cy="1068840"/>
            <a:chOff x="2708280" y="2095560"/>
            <a:chExt cx="2743200" cy="1068840"/>
          </a:xfrm>
        </p:grpSpPr>
        <p:sp>
          <p:nvSpPr>
            <p:cNvPr id="1254" name=""/>
            <p:cNvSpPr/>
            <p:nvPr/>
          </p:nvSpPr>
          <p:spPr>
            <a:xfrm>
              <a:off x="3146400" y="2135160"/>
              <a:ext cx="1828800" cy="99000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708280" y="209556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V Purchaser/</a:t>
              </a:r>
              <a:br>
                <a:rPr sz="1900"/>
              </a:b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suer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Покупатель/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Эмитент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6480360" y="3727440"/>
            <a:ext cx="2210760" cy="676080"/>
            <a:chOff x="6480360" y="3727440"/>
            <a:chExt cx="2210760" cy="676080"/>
          </a:xfrm>
        </p:grpSpPr>
        <p:sp>
          <p:nvSpPr>
            <p:cNvPr id="1257" name=""/>
            <p:cNvSpPr/>
            <p:nvPr/>
          </p:nvSpPr>
          <p:spPr>
            <a:xfrm>
              <a:off x="6556320" y="3782880"/>
              <a:ext cx="2057400" cy="60948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480360" y="3727440"/>
              <a:ext cx="221076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Manager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Управляющий денежными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средствами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6851520" y="2373480"/>
            <a:ext cx="1851120" cy="659880"/>
            <a:chOff x="6851520" y="2373480"/>
            <a:chExt cx="1851120" cy="659880"/>
          </a:xfrm>
        </p:grpSpPr>
        <p:sp>
          <p:nvSpPr>
            <p:cNvPr id="1260" name=""/>
            <p:cNvSpPr/>
            <p:nvPr/>
          </p:nvSpPr>
          <p:spPr>
            <a:xfrm>
              <a:off x="6927840" y="2373480"/>
              <a:ext cx="1676520" cy="62856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851520" y="2391120"/>
              <a:ext cx="185112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teholders</a:t>
              </a:r>
              <a:br>
                <a:rPr sz="15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Держатели долговых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ценных бумаг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7059600" y="1343160"/>
            <a:ext cx="1460160" cy="779400"/>
            <a:chOff x="7059600" y="1343160"/>
            <a:chExt cx="1460160" cy="779400"/>
          </a:xfrm>
        </p:grpSpPr>
        <p:sp>
          <p:nvSpPr>
            <p:cNvPr id="1263" name=""/>
            <p:cNvSpPr/>
            <p:nvPr/>
          </p:nvSpPr>
          <p:spPr>
            <a:xfrm>
              <a:off x="7059600" y="1411200"/>
              <a:ext cx="1430280" cy="70452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080120" y="1343160"/>
              <a:ext cx="1439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ustee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Доверительный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собственник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6859440" y="3095640"/>
            <a:ext cx="1764000" cy="581400"/>
            <a:chOff x="6859440" y="3095640"/>
            <a:chExt cx="1764000" cy="581400"/>
          </a:xfrm>
        </p:grpSpPr>
        <p:sp>
          <p:nvSpPr>
            <p:cNvPr id="1266" name=""/>
            <p:cNvSpPr/>
            <p:nvPr/>
          </p:nvSpPr>
          <p:spPr>
            <a:xfrm>
              <a:off x="6859440" y="3164040"/>
              <a:ext cx="1754280" cy="45720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889680" y="3095640"/>
              <a:ext cx="173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ying Agents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Платежные агенты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4983120" y="2706840"/>
            <a:ext cx="304920" cy="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688080" y="2706840"/>
            <a:ext cx="220680" cy="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1041480" y="2085840"/>
            <a:ext cx="1600200" cy="1047960"/>
            <a:chOff x="1041480" y="2085840"/>
            <a:chExt cx="1600200" cy="1047960"/>
          </a:xfrm>
        </p:grpSpPr>
        <p:grpSp>
          <p:nvGrpSpPr>
            <p:cNvPr id="1271" name=""/>
            <p:cNvGrpSpPr/>
            <p:nvPr/>
          </p:nvGrpSpPr>
          <p:grpSpPr>
            <a:xfrm>
              <a:off x="1041480" y="2552400"/>
              <a:ext cx="1600200" cy="581400"/>
              <a:chOff x="1041480" y="2552400"/>
              <a:chExt cx="1600200" cy="581400"/>
            </a:xfrm>
          </p:grpSpPr>
          <p:sp>
            <p:nvSpPr>
              <p:cNvPr id="1272" name=""/>
              <p:cNvSpPr/>
              <p:nvPr/>
            </p:nvSpPr>
            <p:spPr>
              <a:xfrm>
                <a:off x="1041480" y="2630160"/>
                <a:ext cx="1600200" cy="457200"/>
              </a:xfrm>
              <a:prstGeom prst="rect">
                <a:avLst/>
              </a:prstGeom>
              <a:noFill/>
              <a:ln cap="sq" w="1260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1096560" y="2552400"/>
                <a:ext cx="1499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icer</a:t>
                </a:r>
                <a:br>
                  <a:rPr sz="1900"/>
                </a:br>
                <a:r>
                  <a:rPr b="0" lang="ru-RU" sz="1300" spc="-1" strike="noStrike">
                    <a:solidFill>
                      <a:srgbClr val="ffffff"/>
                    </a:solidFill>
                    <a:latin typeface="Arial"/>
                  </a:rPr>
                  <a:t>Сервисный агент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1041480" y="2085840"/>
              <a:ext cx="1600200" cy="581400"/>
              <a:chOff x="1041480" y="2085840"/>
              <a:chExt cx="1600200" cy="581400"/>
            </a:xfrm>
          </p:grpSpPr>
          <p:sp>
            <p:nvSpPr>
              <p:cNvPr id="1275" name=""/>
              <p:cNvSpPr/>
              <p:nvPr/>
            </p:nvSpPr>
            <p:spPr>
              <a:xfrm>
                <a:off x="1041480" y="2172960"/>
                <a:ext cx="1600200" cy="457200"/>
              </a:xfrm>
              <a:prstGeom prst="rect">
                <a:avLst/>
              </a:prstGeom>
              <a:noFill/>
              <a:ln cap="sq" w="1260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193760" y="2085840"/>
                <a:ext cx="1314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iginator</a:t>
                </a:r>
                <a:br>
                  <a:rPr sz="1900"/>
                </a:br>
                <a:r>
                  <a:rPr b="0" lang="ru-RU" sz="1300" spc="-1" strike="noStrike">
                    <a:solidFill>
                      <a:srgbClr val="ffffff"/>
                    </a:solidFill>
                    <a:latin typeface="Arial"/>
                  </a:rPr>
                  <a:t>Оригинатор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7" name=""/>
          <p:cNvSpPr/>
          <p:nvPr/>
        </p:nvSpPr>
        <p:spPr>
          <a:xfrm>
            <a:off x="4366440" y="365904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6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955240" y="337356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5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764800" y="253512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761560" y="271620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4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774160" y="232560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019120" y="243684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8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662160" y="245592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8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419240" y="214164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7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87360" y="3621240"/>
            <a:ext cx="2606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08080" y="3938760"/>
            <a:ext cx="335268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uto Loan Agreements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Автокредиты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sset Sale Agreement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продажи активов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ervicing Agreement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б обслуживании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forcement Services Agreement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б оказании услуг по взысканию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Back-up Servicing Agreement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 запасном сервисном агенте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817560" y="2414520"/>
            <a:ext cx="228600" cy="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4746240" y="1792440"/>
            <a:ext cx="2305080" cy="342720"/>
            <a:chOff x="4746240" y="1792440"/>
            <a:chExt cx="2305080" cy="342720"/>
          </a:xfrm>
        </p:grpSpPr>
        <p:sp>
          <p:nvSpPr>
            <p:cNvPr id="1289" name=""/>
            <p:cNvSpPr/>
            <p:nvPr/>
          </p:nvSpPr>
          <p:spPr>
            <a:xfrm flipH="1">
              <a:off x="4746240" y="1792440"/>
              <a:ext cx="2305080" cy="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746600" y="1792440"/>
              <a:ext cx="0" cy="34272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1" name=""/>
          <p:cNvSpPr/>
          <p:nvPr/>
        </p:nvSpPr>
        <p:spPr>
          <a:xfrm>
            <a:off x="5752800" y="1535040"/>
            <a:ext cx="57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7. + 9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623920" y="3160800"/>
            <a:ext cx="37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10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817560" y="2163600"/>
            <a:ext cx="29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649600" y="2554200"/>
            <a:ext cx="496800" cy="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382920" y="3938760"/>
            <a:ext cx="34545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sh Management Agreement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б управлении денежными средствами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ust Deed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 доверительной собственности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lass A, B, C Notes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лговые ценные бумаги классов А, В, С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ecurity Deed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б обеспечении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aying Agency Agreement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 платежном агенте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718400" y="2125800"/>
            <a:ext cx="0" cy="22860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651040" y="2744640"/>
            <a:ext cx="496800" cy="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649600" y="2935440"/>
            <a:ext cx="496800" cy="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2689200" y="3116160"/>
            <a:ext cx="838080" cy="466560"/>
            <a:chOff x="2689200" y="3116160"/>
            <a:chExt cx="838080" cy="466560"/>
          </a:xfrm>
        </p:grpSpPr>
        <p:sp>
          <p:nvSpPr>
            <p:cNvPr id="1300" name=""/>
            <p:cNvSpPr/>
            <p:nvPr/>
          </p:nvSpPr>
          <p:spPr>
            <a:xfrm>
              <a:off x="3527280" y="3116160"/>
              <a:ext cx="0" cy="45720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689200" y="3582720"/>
              <a:ext cx="838080" cy="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4108320" y="3135240"/>
            <a:ext cx="2438640" cy="771480"/>
            <a:chOff x="4108320" y="3135240"/>
            <a:chExt cx="2438640" cy="771480"/>
          </a:xfrm>
        </p:grpSpPr>
        <p:sp>
          <p:nvSpPr>
            <p:cNvPr id="1303" name=""/>
            <p:cNvSpPr/>
            <p:nvPr/>
          </p:nvSpPr>
          <p:spPr>
            <a:xfrm flipV="1">
              <a:off x="4108320" y="3135240"/>
              <a:ext cx="0" cy="76176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108320" y="3906720"/>
              <a:ext cx="2438640" cy="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5" name=""/>
          <p:cNvGrpSpPr/>
          <p:nvPr/>
        </p:nvGrpSpPr>
        <p:grpSpPr>
          <a:xfrm>
            <a:off x="4687560" y="3125880"/>
            <a:ext cx="2173320" cy="237960"/>
            <a:chOff x="4687560" y="3125880"/>
            <a:chExt cx="2173320" cy="237960"/>
          </a:xfrm>
        </p:grpSpPr>
        <p:sp>
          <p:nvSpPr>
            <p:cNvPr id="1306" name=""/>
            <p:cNvSpPr/>
            <p:nvPr/>
          </p:nvSpPr>
          <p:spPr>
            <a:xfrm flipH="1">
              <a:off x="4687560" y="3363840"/>
              <a:ext cx="2173320" cy="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689360" y="3125880"/>
              <a:ext cx="0" cy="22824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8" name=""/>
          <p:cNvGrpSpPr/>
          <p:nvPr/>
        </p:nvGrpSpPr>
        <p:grpSpPr>
          <a:xfrm>
            <a:off x="0" y="404640"/>
            <a:ext cx="9144000" cy="360360"/>
            <a:chOff x="0" y="404640"/>
            <a:chExt cx="9144000" cy="360360"/>
          </a:xfrm>
        </p:grpSpPr>
        <p:sp>
          <p:nvSpPr>
            <p:cNvPr id="1309" name=""/>
            <p:cNvSpPr/>
            <p:nvPr/>
          </p:nvSpPr>
          <p:spPr>
            <a:xfrm>
              <a:off x="0" y="475920"/>
              <a:ext cx="9144000" cy="28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0" y="404640"/>
              <a:ext cx="9144000" cy="73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1" name=""/>
          <p:cNvSpPr/>
          <p:nvPr/>
        </p:nvSpPr>
        <p:spPr>
          <a:xfrm>
            <a:off x="0" y="656100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50920" y="83664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3399"/>
                </a:solidFill>
                <a:uFillTx/>
                <a:latin typeface="Times New Roman"/>
              </a:rPr>
              <a:t>Параметры секьюритизации Банка СОЮЗ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3" name=""/>
          <p:cNvGraphicFramePr/>
          <p:nvPr/>
        </p:nvGraphicFramePr>
        <p:xfrm>
          <a:off x="228600" y="1295280"/>
          <a:ext cx="7620120" cy="5332680"/>
        </p:xfrm>
        <a:graphic>
          <a:graphicData uri="http://schemas.openxmlformats.org/drawingml/2006/table">
            <a:tbl>
              <a:tblPr/>
              <a:tblGrid>
                <a:gridCol w="2362320"/>
                <a:gridCol w="525780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n Auto Loans Finance B.V. (Нидерланды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лужива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к СОЮ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. Обслужива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к Русский Стандар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ы бума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-1, A-2, B, 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выпус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800 000 долларов США, из них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 нот класса А-1 и А-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 нот класса 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 нот класса 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автокредит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оло 37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размещ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июля 2005 го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огаш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ль 2010 го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йтинг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ody’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А-1: Ваа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ы А-2, С: без рейтинг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В: В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ка купон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ы А-1 и А-2: 1ml+175 б.п., верхняя граница 8.7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B: 8.7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C: банк выкупает самостоятель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понный пери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есяц, выплата 10 числа каждого месяц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торы и андерайтер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kovsky Narodny Ban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5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316" name="" descr=""/>
          <p:cNvPicPr/>
          <p:nvPr/>
        </p:nvPicPr>
        <p:blipFill>
          <a:blip r:embed="rId2"/>
          <a:stretch/>
        </p:blipFill>
        <p:spPr>
          <a:xfrm>
            <a:off x="299880" y="642960"/>
            <a:ext cx="8544240" cy="5572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сять повышений за семь лет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eec94"/>
                </a:solidFill>
                <a:latin typeface="Times New Roman"/>
              </a:rPr>
              <a:t>Суверенный рейтинг России -результат взвешенности всех фактор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0" name="" descr=""/>
          <p:cNvPicPr/>
          <p:nvPr/>
        </p:nvPicPr>
        <p:blipFill>
          <a:blip r:embed="rId1"/>
          <a:stretch/>
        </p:blipFill>
        <p:spPr>
          <a:xfrm>
            <a:off x="0" y="1308240"/>
            <a:ext cx="9144000" cy="554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286000" y="0"/>
            <a:ext cx="6400800" cy="45720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22" name=""/>
          <p:cNvSpPr/>
          <p:nvPr/>
        </p:nvSpPr>
        <p:spPr>
          <a:xfrm flipV="1">
            <a:off x="2286000" y="1218960"/>
            <a:ext cx="6629400" cy="6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057040" y="-914400"/>
            <a:ext cx="7543800" cy="91440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Bodoni MT"/>
              </a:rPr>
              <a:t>Что даёт наличие рейтинга?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430360" y="609480"/>
            <a:ext cx="67136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f8a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2133720" y="0"/>
          <a:ext cx="7467480" cy="6978600"/>
        </p:xfrm>
        <a:graphic>
          <a:graphicData uri="http://schemas.openxmlformats.org/drawingml/2006/table">
            <a:tbl>
              <a:tblPr/>
              <a:tblGrid>
                <a:gridCol w="3524040"/>
                <a:gridCol w="394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663300"/>
                          </a:solidFill>
                          <a:latin typeface="Rockwell Extra Bold"/>
                          <a:ea typeface="Times New Roman"/>
                        </a:rPr>
                        <a:t>Финансовому посредник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663300"/>
                          </a:solidFill>
                          <a:latin typeface="Rockwell Extra Bold"/>
                          <a:ea typeface="Times New Roman"/>
                        </a:rPr>
                        <a:t>инвестор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</a:tr>
              <a:tr h="60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6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 </a:t>
                      </a: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рокий доступ на рынок капиталов.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рейтинга у субъекта финансового сектор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106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ьно часто на практике улучшает условия доступа на финансовые рынки за счет по­вышения доверия инвесторов и кредиторов к его долговым обя­зательствам. Это может приве­сти к снижению издержек фи­нансирования. Многие институ­циональные инвесторы не при­обретают долговых обяза­тельств у субъектов, не имею­щих рейтинга. В условиях рас­тущей глобализации рынков рей­тинги стали ориентирами, помо­гающими эмитентам размещать свои ценные бумаги во всем мире, расширяя рынок привле­чения капитала;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106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 </a:t>
                      </a: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тоимостью кре­дитных ресурсов.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посредник, имеющий кредитный рейтинг, получает более широ­кий выбор на рынках капитала. У него больше альтернатив в ис­точниках финансирования, чему банка, не имеющего рейтинга. Это дает возможность финансо­вым организациям выбирать наи­более эффективные формы за­имствования и оптимизировать его стоимость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6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принятия осознанного инвестиционно­го решения.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рей­тинга у финансовой органи­зации позволяет инвестору оценить, приемлемо ли для него соотношение риск/до­ходность для данного вложе­ния, и сравнить с альтерна­тивным вариантом. Очевид­но, что при прочих равных соотношениях риска и доход­ности инвестор выберет фи­нансового посредника, име­ющего рейтинг ведущего международного рейтингово­го агентства;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106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ая открытость эми­тента.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равило, наличие кредитного рейтинга у бан­ка означает большую инфор­мационную прозрачность его деятельности. Это связано с тем, что банк при подготов­ке рейтингового заключения и в процессе процедуры под­держания рейтинга представ­ляет рейтинговому агентству больший объем информации, чем другие компании, и в большинстве случаев эта ин­формация становится откры­той для всех потенциальных инвесторов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2e2e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Что и говорить, Российский рост впечатляет!!!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Но удастся ли сохранить в среднесрочной перспективе?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4" name="" descr=""/>
          <p:cNvPicPr/>
          <p:nvPr/>
        </p:nvPicPr>
        <p:blipFill>
          <a:blip r:embed="rId1"/>
          <a:stretch/>
        </p:blipFill>
        <p:spPr>
          <a:xfrm>
            <a:off x="0" y="1309680"/>
            <a:ext cx="9448920" cy="55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bd71"/>
                </a:solidFill>
                <a:latin typeface="Arial"/>
              </a:rPr>
              <a:t>Не исключено, что опасная «голландская болезнь» ещё даст знать о себе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326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долгосрочной перспективе на состояние экономики повлияет неблагоприятная демографическая ситуация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8" name="" descr=""/>
          <p:cNvPicPr/>
          <p:nvPr/>
        </p:nvPicPr>
        <p:blipFill>
          <a:blip r:embed="rId1"/>
          <a:stretch/>
        </p:blipFill>
        <p:spPr>
          <a:xfrm>
            <a:off x="-152280" y="1523880"/>
            <a:ext cx="9448560" cy="6400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ефть и газ обеспечивают России профицит по внешнему платежному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балансу ...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0" name="" descr=""/>
          <p:cNvPicPr/>
          <p:nvPr/>
        </p:nvPicPr>
        <p:blipFill>
          <a:blip r:embed="rId1"/>
          <a:stretch/>
        </p:blipFill>
        <p:spPr>
          <a:xfrm>
            <a:off x="-1143000" y="1490760"/>
            <a:ext cx="10591920" cy="64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380880" y="-457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позицию нетто-кредитор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2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... хотя существует риск увеличения внебюджетных обязательств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хиллесова пята России: институциональная слабость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Чего ждать после выборов 2008 г.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риложение: Некоторые показатели суверенного риска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31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82296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f52ae"/>
                </a:solidFill>
                <a:latin typeface="Arial"/>
              </a:rPr>
              <a:t>Как влияют кредитные рейтинги на выпуск долговых обязательств 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62320" y="1295280"/>
            <a:ext cx="67816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362320" y="1249920"/>
            <a:ext cx="6781680" cy="509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 выпуске долговых обязательств кредитный и прочие рейтинг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нижают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имость заимствований, так как, с точки зрения инвесторов, риск по облигациям снижается с неопределенно высокого до зафиксированного на понятном для них уровн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•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расширяю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круг потенциальных инвесторов за счет консервативных участников рынка капитала, имеющих ограничения на уровень риска по финансовым вло­жения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пособствую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росту известности компании и её долговых обязательств за счет распространения информации по каналам рейтингового агентств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•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демонстрирую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мерения эмитента строить свои отношения с инвесторами на принципах информаци­онной открытости в соответствии с международными стандарт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Какие факторы способствуют росту рейтингов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российских банков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5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овень рейтингов российских банков по-прежнему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стает от уровня суверенного рейтинга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7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Распределение рейтингов банков России,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азахстана и Украины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9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Средние рейтинги банков России и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других стран, относящихся к категории «ВВВ»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Банковская система России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– основные рейтинговые факторы</a:t>
            </a:r>
            <a:br>
              <a:rPr sz="3200"/>
            </a:b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3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bd71"/>
                </a:solidFill>
                <a:latin typeface="Arial Rounded MT Bold"/>
              </a:rPr>
              <a:t>Экономический прогресс в России,</a:t>
            </a:r>
            <a:br>
              <a:rPr sz="2400"/>
            </a:br>
            <a:r>
              <a:rPr b="1" i="1" lang="ru-RU" sz="2400" spc="-1" strike="noStrike">
                <a:solidFill>
                  <a:srgbClr val="dbbd71"/>
                </a:solidFill>
                <a:latin typeface="Arial Rounded MT Bold"/>
              </a:rPr>
              <a:t>Казахстане и Украине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355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Bodoni MT"/>
              </a:rPr>
              <a:t>Тенденция роста совокупных внутренних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Bodoni MT"/>
              </a:rPr>
              <a:t>кредитов, в процентах к ВВП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7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Bodoni MT"/>
              </a:rPr>
              <a:t>Рост финансового посредничества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eec94"/>
                </a:solidFill>
                <a:latin typeface="Blackadder ITC"/>
              </a:rPr>
              <a:t>Доходность активов банковской системы</a:t>
            </a:r>
            <a:br>
              <a:rPr sz="2800"/>
            </a:br>
            <a:r>
              <a:rPr b="0" i="1" lang="ru-RU" sz="2800" spc="-1" strike="noStrike">
                <a:solidFill>
                  <a:srgbClr val="feec94"/>
                </a:solidFill>
                <a:latin typeface="Blackadder ITC"/>
              </a:rPr>
              <a:t>России в сравнении со странами «группы</a:t>
            </a:r>
            <a:br>
              <a:rPr sz="2800"/>
            </a:br>
            <a:r>
              <a:rPr b="0" i="1" lang="ru-RU" sz="2800" spc="-1" strike="noStrike">
                <a:solidFill>
                  <a:srgbClr val="feec94"/>
                </a:solidFill>
                <a:latin typeface="Blackadder ITC"/>
              </a:rPr>
              <a:t>равных»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Виды рейтингов, присваиваемые ведущими рейтинговыми агентствам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30360" y="1295280"/>
            <a:ext cx="671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286000" y="2708280"/>
            <a:ext cx="6629400" cy="3375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209680" y="1721880"/>
            <a:ext cx="6934320" cy="4574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63504" dir="3183908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Рейтинги финансовой устойчивости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исваиваются агентствами 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od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» и 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tch IBCA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»). -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м. след. слай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нные рейтинги отражают позицию агентства в от­ношении устойчивости и надежности финансовых посредников, исключая определенные внешние кре­дитные риски и факторы внешней поддержки. Поми­мо кредитных организаций, эти рейтинги могут при­меняться и к другим типам финансовых учреждений, а именно: международные банки развития, правитель­ственные финансовые учреждения и национальные финансовые институты развития. Данные рейтинги не рассматривают своевременность выполнения обязательств финансового учреждения, а отражают вероятность того, что банку потребуется помощь третьей сторо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odoni MT"/>
              </a:rPr>
              <a:t>Классифицированные ссуды, в % от совокупной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Bodoni MT"/>
              </a:rPr>
              <a:t>ссудной задолженности в банковской системе России</a:t>
            </a: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3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Банковская система России: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основные рейтинговые факторы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5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bbd71"/>
                </a:solidFill>
                <a:latin typeface="Arial Rounded MT Bold"/>
              </a:rPr>
              <a:t>Российские банки подвергаются рискам из-за</a:t>
            </a:r>
            <a:br>
              <a:rPr sz="2400"/>
            </a:br>
            <a:r>
              <a:rPr b="0" i="1" lang="ru-RU" sz="2400" spc="-1" strike="noStrike">
                <a:solidFill>
                  <a:srgbClr val="dbbd71"/>
                </a:solidFill>
                <a:latin typeface="Arial Rounded MT Bold"/>
              </a:rPr>
              <a:t>слабости системы банковского регулирования</a:t>
            </a:r>
            <a:br>
              <a:rPr sz="2400"/>
            </a:br>
            <a:r>
              <a:rPr b="0" i="1" lang="ru-RU" sz="2400" spc="-1" strike="noStrike">
                <a:solidFill>
                  <a:srgbClr val="dbbd71"/>
                </a:solidFill>
                <a:latin typeface="Arial Rounded MT Bold"/>
              </a:rPr>
              <a:t>и надзора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367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6019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Rounded MT Bold"/>
              </a:rPr>
              <a:t>Доминирование банков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Rounded MT Bold"/>
              </a:rPr>
              <a:t>контролируемых государством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вление на капитал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1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915400" cy="594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-3571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3200" spc="-1" strike="noStrike">
                <a:solidFill>
                  <a:srgbClr val="660033"/>
                </a:solidFill>
                <a:latin typeface="Arial Black"/>
              </a:rPr>
              <a:t>Среднесрочные перспективы российских банков</a:t>
            </a:r>
            <a:br>
              <a:rPr sz="28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bbd71"/>
                </a:solidFill>
                <a:latin typeface="Arial"/>
              </a:rPr>
              <a:t>Структурные сделки, отрейтингованные в 2006 г.</a:t>
            </a:r>
            <a:br>
              <a:rPr sz="24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37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e7ff"/>
                </a:solidFill>
                <a:latin typeface="Arial"/>
              </a:rPr>
              <a:t>Пример трансграничной структуры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80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09480" y="-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 2007 г. ожидается рост рынка секьюритизации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524880" cy="682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60" y="-1143000"/>
            <a:ext cx="10363320" cy="91440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Рейтинги финансовой устойчивости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2430360" y="1731960"/>
            <a:ext cx="65358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f8a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4" name=""/>
          <p:cNvGraphicFramePr/>
          <p:nvPr/>
        </p:nvGraphicFramePr>
        <p:xfrm>
          <a:off x="0" y="-228600"/>
          <a:ext cx="10363320" cy="8088480"/>
        </p:xfrm>
        <a:graphic>
          <a:graphicData uri="http://schemas.openxmlformats.org/drawingml/2006/table">
            <a:tbl>
              <a:tblPr/>
              <a:tblGrid>
                <a:gridCol w="3800520"/>
                <a:gridCol w="1379520"/>
                <a:gridCol w="518328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ласс рейтинг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Рейтинг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Толкование рейтинга (степень устойчив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инвестиционный уровень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А+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ысокая финансовая стабильност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не вызывает сомнений, вне зависимости от внешних условий 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роков выполнения обязательст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ысокая финансовая стабильность не вызывает сомнений, может измениться только при резком ухудшении макроэкономической ситуаци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А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не вызывает сомне­ний, сроки обеспечения плате­жеспособности по обязательствам зависят от макроэкономической ситуаци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нижний инвестиционный уровень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+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обеспечена, сроки обеспечения платежеспособнос­ти зависят от внешних услови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обеспечена, но сроки обеспечения платежеспо­собности могут отличаться для краткосрочных и долгосрочных обязательст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обеспечена при благоприятных внешних условиях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уровень спекулятивный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+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зависит от внешних условий, возможно ухудшени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зависит от внешних условий, в ближайшей перспек­тиве существует вероятность по­вышения финансовой уязвим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зависит от внешних условий, в ближайшей перспек­тиве существует вероятность по­вышения финансовой уязвимости, необходима внешняя поддерж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уровень достаточно высокой уязвимости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+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Финансовая стабильность пробле­матична, необходима внешняя поддерж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вызывает большие сомнен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не обеспечен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высокая уязвимость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ысокая финансовая уязвимост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bd71"/>
                </a:solidFill>
                <a:latin typeface="Arial"/>
              </a:rPr>
              <a:t>Основные вилы рисков при анализе структурной сделки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384" name="" descr=""/>
          <p:cNvPicPr/>
          <p:nvPr/>
        </p:nvPicPr>
        <p:blipFill>
          <a:blip r:embed="rId1"/>
          <a:stretch/>
        </p:blipFill>
        <p:spPr>
          <a:xfrm>
            <a:off x="914400" y="1989000"/>
            <a:ext cx="6553080" cy="486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doni MT"/>
              </a:rPr>
              <a:t>Кредитный риск: Уровень дефолтных активов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редитный риск: Влияние риска обесценения рубля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редитный риск: Возврат по дефолтным активам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уктурные риски: Риск смешения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урктурные риски: Валютный и процентный риски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трановые риски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авовые риски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8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/>
          </p:nvPr>
        </p:nvSpPr>
        <p:spPr>
          <a:xfrm>
            <a:off x="228240" y="1636560"/>
            <a:ext cx="891540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64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ahoma"/>
              </a:rPr>
              <a:t>Более</a:t>
            </a:r>
            <a:r>
              <a:rPr b="0" lang="es-CO" sz="3300" spc="-1" strike="noStrike">
                <a:solidFill>
                  <a:srgbClr val="000000"/>
                </a:solidFill>
                <a:latin typeface="Tahoma"/>
              </a:rPr>
              <a:t> 30</a:t>
            </a:r>
            <a:r>
              <a:rPr b="0" lang="ru-RU" sz="3300" spc="-1" strike="noStrike">
                <a:solidFill>
                  <a:srgbClr val="000000"/>
                </a:solidFill>
                <a:latin typeface="Tahoma"/>
              </a:rPr>
              <a:t> лет</a:t>
            </a:r>
            <a:r>
              <a:rPr b="0" lang="es-CO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300" spc="-1" strike="noStrike">
                <a:solidFill>
                  <a:srgbClr val="000000"/>
                </a:solidFill>
                <a:latin typeface="Tahoma"/>
              </a:rPr>
              <a:t>опыта в области микрофинансо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93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ahoma"/>
              </a:rPr>
              <a:t>Отдел финансового управления</a:t>
            </a:r>
            <a:r>
              <a:rPr b="1" i="1" lang="es-CO" sz="31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4640">
              <a:lnSpc>
                <a:spcPct val="90000"/>
              </a:lnSpc>
              <a:spcBef>
                <a:spcPts val="1874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Автономный отдел, основной целью которого является финансовая оценка</a:t>
            </a:r>
            <a:r>
              <a:rPr b="0" i="1" lang="es-CO" sz="3000" spc="-1" strike="noStrike">
                <a:solidFill>
                  <a:srgbClr val="000000"/>
                </a:solidFill>
                <a:latin typeface="Tahoma"/>
              </a:rPr>
              <a:t> (ACCION CAMEL),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мониторинг показателей</a:t>
            </a:r>
            <a:r>
              <a:rPr b="0" i="1" lang="es-CO" sz="3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финансовые прогнозы</a:t>
            </a:r>
            <a:r>
              <a:rPr b="0" i="1" lang="es-CO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и другие аналитические 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Goudy Old Style"/>
              </a:rPr>
              <a:t>ACCION </a:t>
            </a:r>
            <a:r>
              <a:rPr b="1" i="1" lang="es-CO" sz="4000" spc="-1" strike="noStrike">
                <a:solidFill>
                  <a:srgbClr val="ffffff"/>
                </a:solidFill>
                <a:latin typeface="Goudy Old Style"/>
              </a:rPr>
              <a:t>Internationa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55760" y="1270080"/>
            <a:ext cx="77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0" y="0"/>
            <a:ext cx="91440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CCION CAMEL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ервые буквы английских слов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666880" y="1542960"/>
            <a:ext cx="647712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35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достаточность капитал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(качество активо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руководство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доходы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управление ликвидностью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22360" y="774720"/>
            <a:ext cx="805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0" y="1676520"/>
            <a:ext cx="2590560" cy="3770280"/>
            <a:chOff x="0" y="1676520"/>
            <a:chExt cx="2590560" cy="3770280"/>
          </a:xfrm>
        </p:grpSpPr>
        <p:pic>
          <p:nvPicPr>
            <p:cNvPr id="1406" name="" descr=""/>
            <p:cNvPicPr/>
            <p:nvPr/>
          </p:nvPicPr>
          <p:blipFill>
            <a:blip r:embed="rId1"/>
            <a:stretch/>
          </p:blipFill>
          <p:spPr>
            <a:xfrm>
              <a:off x="14400" y="1694160"/>
              <a:ext cx="2576160" cy="37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"/>
            <p:cNvSpPr/>
            <p:nvPr/>
          </p:nvSpPr>
          <p:spPr>
            <a:xfrm>
              <a:off x="0" y="1676520"/>
              <a:ext cx="2581200" cy="3757680"/>
            </a:xfrm>
            <a:prstGeom prst="rect">
              <a:avLst/>
            </a:prstGeom>
            <a:noFill/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286000" y="0"/>
            <a:ext cx="6858000" cy="609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286000" y="-639720"/>
            <a:ext cx="6858000" cy="1279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/>
          <p:nvPr/>
        </p:nvSpPr>
        <p:spPr>
          <a:xfrm>
            <a:off x="2286000" y="68580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-914400"/>
            <a:ext cx="82296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f52ae"/>
                </a:solidFill>
                <a:latin typeface="Tahoma"/>
              </a:rPr>
              <a:t>Виды рейтингов. продол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"/>
          <p:cNvSpPr/>
          <p:nvPr/>
        </p:nvSpPr>
        <p:spPr>
          <a:xfrm>
            <a:off x="2362320" y="685800"/>
            <a:ext cx="67816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286000" y="1299240"/>
            <a:ext cx="6858000" cy="56109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. Рейтинги поддержки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сваиваются веду­щими международными рейтинговыми компаниями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Fitch IBCA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» и 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Standard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Poor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»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Рейтинг поддержки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исваиваемый агентством 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tch IBC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представляет собой оценку финансовой возможности субъекта (государства или организации), который готов оказать финансовую поддержку конкретному субъекту финансового сектора. Для этой цели аналитики агентства рассматривают уровень и динамику долгосрочного кредитного «поддерживающего» рейтинга в иностранной, а при необходимости и в национальной валюте. В соответствии с методикой анализа при присвоении рейтинга поддержки необходимо, чтобы поддерживающая сторона была достаточно устойчива и могла оказывать поддержку фи­нансовому учреждению до тех пор, пока оно не смо­жет самостоятельно отвечать по своим обязательствам. Но при этом не учитывается качество внутреннего кре­дита (это происходит при присвоении индивидуаль­ного рейтинг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0" y="6336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CCION CAMEL: 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Что это такое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0" y="1828800"/>
            <a:ext cx="9144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1880" indent="-4618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струмент внутреннего контроля и финансовой оценки для микрофинансовых организац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Ф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лубленный анализ всех сфер деятельности МФ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ивает рекомендациями для усовершенствования системы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/>
          <p:nvPr/>
        </p:nvSpPr>
        <p:spPr>
          <a:xfrm>
            <a:off x="0" y="1752480"/>
            <a:ext cx="9796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09480" y="1752480"/>
            <a:ext cx="1800" cy="85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27160" y="137160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04920" y="2590920"/>
            <a:ext cx="187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0" y="2438280"/>
            <a:ext cx="220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здание традиционного инструмент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AMEL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едеральным Резервным Банком СШ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905120" y="1752480"/>
            <a:ext cx="6120" cy="3754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447920" y="13716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80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143000" y="4495680"/>
            <a:ext cx="220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онд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IO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Латинская Америк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897280" y="1752480"/>
            <a:ext cx="4680" cy="214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514600" y="13716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057400" y="3200400"/>
            <a:ext cx="22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здание инструментов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CCION CAMEL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МФ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581280" y="1371600"/>
            <a:ext cx="18781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3 –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505320" y="4495680"/>
            <a:ext cx="22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ION CAMEL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водит оценку только членов сет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715000" y="5181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дача методологи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CCION CAMEL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гентствам, осуществляющим надзор, и кредитным учреждения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848720" y="1766880"/>
            <a:ext cx="1440" cy="85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086600" y="2376360"/>
            <a:ext cx="220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ширение использова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CCION CAMEL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не рамок сети и Латинской Амер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248520" y="1371600"/>
            <a:ext cx="13064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9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467480" y="1371600"/>
            <a:ext cx="1224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0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419720" y="1752480"/>
            <a:ext cx="1440" cy="3326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705720" y="1752480"/>
            <a:ext cx="1440" cy="4827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04920" y="380880"/>
            <a:ext cx="947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Garamond"/>
              </a:rPr>
              <a:t>История</a:t>
            </a:r>
            <a:r>
              <a:rPr b="1" lang="en-US" sz="4400" spc="-1" strike="noStrike">
                <a:solidFill>
                  <a:srgbClr val="996600"/>
                </a:solidFill>
                <a:latin typeface="Garamond"/>
              </a:rPr>
              <a:t> CAM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257800" y="13716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876920" y="3200400"/>
            <a:ext cx="22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бликация технического руководств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ION CAM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638680" y="1752480"/>
            <a:ext cx="5040" cy="214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0" y="1143000"/>
            <a:ext cx="91440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1880" indent="-461880">
              <a:lnSpc>
                <a:spcPct val="95000"/>
              </a:lnSpc>
              <a:spcBef>
                <a:spcPts val="649"/>
              </a:spcBef>
              <a:spcAft>
                <a:spcPts val="13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изучения рейтинга финансовых показателей и возможных рисков, с которыми сталкиваются МФО в среднесрочной перспектив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5000"/>
              </a:lnSpc>
              <a:spcBef>
                <a:spcPts val="649"/>
              </a:spcBef>
              <a:spcAft>
                <a:spcPts val="13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Чтобы продемонстрировать финансовую надежность МФО банкам и потенциальным инвесторам языком общепринятых показателей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5000"/>
              </a:lnSpc>
              <a:spcBef>
                <a:spcPts val="649"/>
              </a:spcBef>
              <a:spcAft>
                <a:spcPts val="13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Чтобы обеспечить высококачественной информацией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оценкой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повышения уровня руководства МФ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5000"/>
              </a:lnSpc>
              <a:spcBef>
                <a:spcPts val="649"/>
              </a:spcBef>
              <a:spcAft>
                <a:spcPts val="13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Чтобы разработать индикаторы и эталонные показатели для повышения уровня руководства МФ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04920" y="1522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Garamond"/>
              </a:rPr>
              <a:t>Для чего был создан</a:t>
            </a:r>
            <a:r>
              <a:rPr b="1" lang="en-US" sz="4400" spc="-1" strike="noStrike">
                <a:solidFill>
                  <a:srgbClr val="000099"/>
                </a:solidFill>
                <a:latin typeface="Garamond"/>
              </a:rPr>
              <a:t> ACCION CAME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44520" y="1676520"/>
            <a:ext cx="88916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ение ключевых переме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ключая определение того,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как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х измеря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ение стандар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ступность необходимой информ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ликатное отношение МФО к рейтинговой оценке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01480" y="146160"/>
            <a:ext cx="72234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роблемы в процессе создания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ACCION CAM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0" y="15969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"/>
          <p:cNvSpPr/>
          <p:nvPr/>
        </p:nvSpPr>
        <p:spPr>
          <a:xfrm>
            <a:off x="4572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CCION CAMEL: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Верс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0" name=""/>
          <p:cNvGraphicFramePr/>
          <p:nvPr/>
        </p:nvGraphicFramePr>
        <p:xfrm>
          <a:off x="0" y="1295280"/>
          <a:ext cx="9144000" cy="5904000"/>
        </p:xfrm>
        <a:graphic>
          <a:graphicData uri="http://schemas.openxmlformats.org/drawingml/2006/table">
            <a:tbl>
              <a:tblPr/>
              <a:tblGrid>
                <a:gridCol w="2057400"/>
                <a:gridCol w="2500200"/>
                <a:gridCol w="2605320"/>
                <a:gridCol w="19810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АДИЦИОННЫЙ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M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ЙТИНГОВЫЙ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MEL (“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Н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CAMEL”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ОВЕРШЕНСТ-ВОВАНЫЙ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AM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ая направленность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глубленный анализ всех сфер работы МФ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нансы -слабые и сильные сторон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нее выявленные рис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ая цель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ковод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монстрация финансового состоя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ценка прогрес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отношение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%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ичеств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%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честв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%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ичественны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40%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чественны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акой же как предыдущи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AM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яя нагрузка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ичество рабочих дней консультантов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сультан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й - кажд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сультант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й - кажд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сульта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4572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5400" spc="-1" strike="noStrike">
                <a:solidFill>
                  <a:srgbClr val="ccecff"/>
                </a:solidFill>
                <a:latin typeface="Garamond"/>
              </a:rPr>
              <a:t>ACCION CAMEL: </a:t>
            </a:r>
            <a:br>
              <a:rPr sz="5400"/>
            </a:br>
            <a:r>
              <a:rPr b="0" lang="ru-RU" sz="5400" spc="-1" strike="noStrike">
                <a:solidFill>
                  <a:srgbClr val="ccecff"/>
                </a:solidFill>
                <a:latin typeface="Garamond"/>
              </a:rPr>
              <a:t>Целевой рыно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89000" y="1530360"/>
            <a:ext cx="89550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73320" indent="-373320">
              <a:lnSpc>
                <a:spcPct val="95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тья сторона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мерческие бан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стные инвесторы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едитные организации второго уровня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гентства надзора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нтральный Банк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Суперинтендантство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3320" indent="-373320">
              <a:lnSpc>
                <a:spcPct val="95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ФО, поддающиеся оценке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ПО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ПО в процессе перехода в регулируемые организ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улируемые МФО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нки и финансовые компании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457200" y="1600200"/>
            <a:ext cx="838188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ально разработан для микрофинанс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казывает, что МФО могут соответствовать тем же стандартам, что и традиционные финансовые организ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является аудит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является индикатором оценки воздействия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фиденциальность результа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11200" y="90360"/>
            <a:ext cx="805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Характеристики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CCION CAM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19040" y="15969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19040" y="15256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/>
          <p:nvPr/>
        </p:nvSpPr>
        <p:spPr>
          <a:xfrm>
            <a:off x="152280" y="1219320"/>
            <a:ext cx="899172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20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ючевых индикато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35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оценки от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0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о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lnSpc>
                <a:spcPct val="1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сшая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= 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35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соотношен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личественных индикаторов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46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13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Качественных индикаторов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  54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20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лючевых индикаторов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35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Поддержка количественных и качественных индикатор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35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Анализ тенденций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период два или три года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572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oudy Old Style"/>
              </a:rPr>
              <a:t>ACCION CAMEL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Goudy Old Style"/>
              </a:rPr>
              <a:t>Характерист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/>
          <p:nvPr/>
        </p:nvSpPr>
        <p:spPr>
          <a:xfrm>
            <a:off x="0" y="76320"/>
            <a:ext cx="9448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oudy Old Style"/>
              </a:rPr>
              <a:t>Количественные и качественные индикаторы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Goudy Old Style"/>
              </a:rPr>
              <a:t> </a:t>
            </a:r>
            <a:r>
              <a:rPr b="1" lang="es-ES" sz="3400" spc="-1" strike="noStrike">
                <a:solidFill>
                  <a:srgbClr val="ffffff"/>
                </a:solidFill>
                <a:latin typeface="Goudy Old Style"/>
              </a:rPr>
              <a:t>ACCION CAM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10960" y="1219320"/>
            <a:ext cx="8175960" cy="57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Количественные индикаторы</a:t>
            </a:r>
            <a:r>
              <a:rPr b="0" i="1" lang="es-E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чество портфеля и финансовый анали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правки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измерения жизнеспособности МФО как коммерческой организ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стандартизации анализа различных МФ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тимальные параметры утверждаются на основе углубленного анализа МФО по всему мир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214200" y="1447920"/>
            <a:ext cx="892980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чественные индикаторы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308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Индикаторы, которые невозможно выразить в цифрах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484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посредственное воздействие на финансовое положение и общее состояние МФ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308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Анализ основан на</a:t>
            </a: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484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вью с персоналом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ленами правления,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иент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484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зор политики и процеду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0" y="7632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cecff"/>
                </a:solidFill>
                <a:latin typeface="Goudy Old Style"/>
              </a:rPr>
              <a:t>Количественные и качественные индикаторы</a:t>
            </a:r>
            <a:br>
              <a:rPr sz="4300"/>
            </a:br>
            <a:r>
              <a:rPr b="0" lang="ru-RU" sz="4300" spc="-1" strike="noStrike">
                <a:solidFill>
                  <a:srgbClr val="ccecff"/>
                </a:solidFill>
                <a:latin typeface="Goudy Old Style"/>
              </a:rPr>
              <a:t> </a:t>
            </a:r>
            <a:r>
              <a:rPr b="0" lang="es-ES" sz="4300" spc="-1" strike="noStrike">
                <a:solidFill>
                  <a:srgbClr val="ccecff"/>
                </a:solidFill>
                <a:latin typeface="Goudy Old Style"/>
              </a:rPr>
              <a:t>ACCION CAMEL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68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f52ae"/>
                </a:solidFill>
                <a:latin typeface="Times New Roman"/>
              </a:rPr>
              <a:t>След. вид рейтингов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430360" y="1731960"/>
            <a:ext cx="65358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362320" y="2099520"/>
            <a:ext cx="6781680" cy="3690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bb5f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. Рейтинги корпоративного управл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присваиваются международными рейтинговыми агентствами 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d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 и 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ndard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or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90-х гг. прошлого столетия возрос интерес к корпоративному управлению у акционеров, менеджеров, директоров и иных заинтересованных финансовых посредников и нефинансовых экономических субъектов. Появилась потребность в независимых, сопоставимых в международном масштабе оценках для срав­нения практики корпоративного управления в различ­ных странах и институциональных единицах. Концепция рейтингов корпоративного управления нацелена на удовлетворение этой потребност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0" y="90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Garamond"/>
              </a:rPr>
              <a:t>Когда проводить рейтинговую</a:t>
            </a:r>
            <a:r>
              <a:rPr b="0" lang="en-US" sz="5400" spc="-1" strike="noStrike">
                <a:solidFill>
                  <a:srgbClr val="dbbd71"/>
                </a:solidFill>
                <a:latin typeface="Garamond"/>
              </a:rPr>
              <a:t> </a:t>
            </a:r>
            <a:r>
              <a:rPr b="0" lang="ru-RU" sz="5400" spc="-1" strike="noStrike">
                <a:solidFill>
                  <a:srgbClr val="dbbd71"/>
                </a:solidFill>
                <a:latin typeface="Garamond"/>
              </a:rPr>
              <a:t>оценку </a:t>
            </a:r>
            <a:r>
              <a:rPr b="0" lang="en-US" sz="5400" spc="-1" strike="noStrike">
                <a:solidFill>
                  <a:srgbClr val="dbbd71"/>
                </a:solidFill>
                <a:latin typeface="Garamond"/>
              </a:rPr>
              <a:t>ACCION CAM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0" y="1295280"/>
            <a:ext cx="91440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97440" indent="-3974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иболее типичные примеры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4236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енциальные инвестиции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еди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4236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заказу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Ф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4236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заказу доноров или третьей сторо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4236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нсформация из НПО в регулируемую организаци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4236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хническая помощ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5" name=""/>
          <p:cNvGraphicFramePr/>
          <p:nvPr/>
        </p:nvGraphicFramePr>
        <p:xfrm>
          <a:off x="0" y="1295280"/>
          <a:ext cx="9144000" cy="7232760"/>
        </p:xfrm>
        <a:graphic>
          <a:graphicData uri="http://schemas.openxmlformats.org/drawingml/2006/table">
            <a:tbl>
              <a:tblPr/>
              <a:tblGrid>
                <a:gridCol w="4179960"/>
                <a:gridCol w="496404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Количественные индикат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Качественные индикат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статочность капитал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16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эффициент достаточности капитала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статочность резервов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особность увеличения уставного капитала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чество активов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21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иск портфеля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эффициент убытков по займам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стема классификации портфеля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быльность долгосрочных активов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6" name=""/>
          <p:cNvSpPr/>
          <p:nvPr/>
        </p:nvSpPr>
        <p:spPr>
          <a:xfrm>
            <a:off x="0" y="76320"/>
            <a:ext cx="93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Goudy Old Style"/>
              </a:rPr>
              <a:t>Количественные и качественные индикаторы</a:t>
            </a:r>
            <a:br>
              <a:rPr sz="4300"/>
            </a:br>
            <a:r>
              <a:rPr b="0" lang="ru-RU" sz="4300" spc="-1" strike="noStrike">
                <a:solidFill>
                  <a:srgbClr val="ffffff"/>
                </a:solidFill>
                <a:latin typeface="Goudy Old Style"/>
              </a:rPr>
              <a:t> </a:t>
            </a:r>
            <a:r>
              <a:rPr b="0" lang="es-ES" sz="4300" spc="-1" strike="noStrike">
                <a:solidFill>
                  <a:srgbClr val="ffffff"/>
                </a:solidFill>
                <a:latin typeface="Goudy Old Style"/>
              </a:rPr>
              <a:t>ACCION CAMEL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7" name=""/>
          <p:cNvGraphicFramePr/>
          <p:nvPr/>
        </p:nvGraphicFramePr>
        <p:xfrm>
          <a:off x="0" y="1143000"/>
          <a:ext cx="9448920" cy="5811840"/>
        </p:xfrm>
        <a:graphic>
          <a:graphicData uri="http://schemas.openxmlformats.org/drawingml/2006/table">
            <a:tbl>
              <a:tblPr/>
              <a:tblGrid>
                <a:gridCol w="5241960"/>
                <a:gridCol w="420696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Количественные индикат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Качественные индикат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ководство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23%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правление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ководство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дры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цессы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троль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удит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4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формационные системы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ратегическое планирование и бюджет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ходы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24%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нтабельность капитала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онная эффективность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нтабельность активов        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итика процентных ставок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8" name=""/>
          <p:cNvSpPr/>
          <p:nvPr/>
        </p:nvSpPr>
        <p:spPr>
          <a:xfrm>
            <a:off x="0" y="76320"/>
            <a:ext cx="9448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oudy Old Style"/>
              </a:rPr>
              <a:t>Количественные и качественные индикаторы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Goudy Old Style"/>
              </a:rPr>
              <a:t> </a:t>
            </a:r>
            <a:r>
              <a:rPr b="1" lang="es-ES" sz="3400" spc="-1" strike="noStrike">
                <a:solidFill>
                  <a:srgbClr val="ffffff"/>
                </a:solidFill>
                <a:latin typeface="Goudy Old Style"/>
              </a:rPr>
              <a:t>ACCION CAM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9" name=""/>
          <p:cNvGraphicFramePr/>
          <p:nvPr/>
        </p:nvGraphicFramePr>
        <p:xfrm>
          <a:off x="0" y="1295280"/>
          <a:ext cx="9144000" cy="6323040"/>
        </p:xfrm>
        <a:graphic>
          <a:graphicData uri="http://schemas.openxmlformats.org/drawingml/2006/table">
            <a:tbl>
              <a:tblPr/>
              <a:tblGrid>
                <a:gridCol w="4578480"/>
                <a:gridCol w="456552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Количественные индикат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Качественные индикат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квидност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6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руктура обязательств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гноз денежных потоков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нтабельность ликвидных активов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его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46%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%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0" name=""/>
          <p:cNvSpPr/>
          <p:nvPr/>
        </p:nvSpPr>
        <p:spPr>
          <a:xfrm>
            <a:off x="0" y="76320"/>
            <a:ext cx="9448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oudy Old Style"/>
              </a:rPr>
              <a:t>Количественные и качественные индикаторы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Goudy Old Style"/>
              </a:rPr>
              <a:t> </a:t>
            </a:r>
            <a:r>
              <a:rPr b="1" lang="es-ES" sz="3400" spc="-1" strike="noStrike">
                <a:solidFill>
                  <a:srgbClr val="ffffff"/>
                </a:solidFill>
                <a:latin typeface="Goudy Old Style"/>
              </a:rPr>
              <a:t>ACCION CAM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/>
          <p:nvPr/>
        </p:nvSpPr>
        <p:spPr>
          <a:xfrm>
            <a:off x="0" y="1479600"/>
            <a:ext cx="914400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85560" indent="-3855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ение доступа МФО к местным и международным рынкам капита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85240" indent="-331920">
              <a:lnSpc>
                <a:spcPct val="95000"/>
              </a:lnSpc>
              <a:spcAft>
                <a:spcPts val="1500"/>
              </a:spcAft>
              <a:buClr>
                <a:srgbClr val="cc99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Снижение рисков благодаря объективной оценке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5560" indent="-385560">
              <a:lnSpc>
                <a:spcPct val="95000"/>
              </a:lnSpc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ндартизация переменных и индикаторов, используемых для оценки МФ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5560" indent="-385560">
              <a:lnSpc>
                <a:spcPct val="95000"/>
              </a:lnSpc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за данных для анализа эволюции микрофинансовой индустр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5560" indent="-385560">
              <a:lnSpc>
                <a:spcPct val="95000"/>
              </a:lnSpc>
              <a:spcBef>
                <a:spcPts val="799"/>
              </a:spcBef>
              <a:spcAft>
                <a:spcPts val="1599"/>
              </a:spcAft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04920" y="9036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Достижения инструмента</a:t>
            </a: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ACCION CAM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77920" y="2219400"/>
            <a:ext cx="783432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400"/>
              </a:spcAft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33"/>
                </a:solidFill>
                <a:latin typeface="Tahoma"/>
              </a:rPr>
              <a:t>Окончательное заключение..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5" name="" descr=""/>
          <p:cNvPicPr/>
          <p:nvPr/>
        </p:nvPicPr>
        <p:blipFill>
          <a:blip r:embed="rId1"/>
          <a:stretch/>
        </p:blipFill>
        <p:spPr>
          <a:xfrm rot="5029800">
            <a:off x="3879720" y="-5492160"/>
            <a:ext cx="1511280" cy="9906120"/>
          </a:xfrm>
          <a:prstGeom prst="rect">
            <a:avLst/>
          </a:prstGeom>
          <a:ln w="0">
            <a:noFill/>
          </a:ln>
        </p:spPr>
      </p:pic>
      <p:sp>
        <p:nvSpPr>
          <p:cNvPr id="1466" name=""/>
          <p:cNvSpPr/>
          <p:nvPr/>
        </p:nvSpPr>
        <p:spPr>
          <a:xfrm>
            <a:off x="380880" y="1045440"/>
            <a:ext cx="8763120" cy="5214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602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бода выбора в рыночной экономике должна подкрепляться уверенностью в на­дежности партнера. Для принятия решения недостаточно внутренних оценок и зачастую необходима оценка независимых экспертов. Такую роль в современном обществе игра­ет, в частности, система рейтингов. Показа­тели рейтинга в компактной и ёмкой форме характеризуют состояние и перспективные тенденции изменения финансовой стабиль­ности банка, играя роль индикаторов для принятия решений, установления и поддер­жания деловых отношений. Текущий уровень рейтинга и динамика его изменения служат сигналами для сохранения, расширения или свертывания взаимосвяз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2:58:16Z</dcterms:created>
  <dc:creator>Lynne Curran</dc:creator>
  <dc:description/>
  <dc:language>en-US</dc:language>
  <cp:lastModifiedBy>Недолукий</cp:lastModifiedBy>
  <dcterms:modified xsi:type="dcterms:W3CDTF">2008-05-11T18:32:48Z</dcterms:modified>
  <cp:revision>59</cp:revision>
  <dc:subject/>
  <dc:title>PowerPoint Presentation</dc:title>
</cp:coreProperties>
</file>