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31E-6DCF-4654-9A87-1A84C615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2FD-CB78-405D-94D6-ABB72A5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7D4-10F9-4189-9CB2-2D981117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154-3F1C-4E88-A5EB-B8579792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3CA-F7ED-49FC-8511-F7898E32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A59-E71B-4EAB-A937-B882539F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F76-4E8A-4835-91F8-AB38AF6A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8E0-B0B1-4265-88F2-43508CE8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1EB-CA91-4D7C-87C6-29F00B82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A4E-71D3-4143-8631-F3A3CBF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C7A-1296-4B38-A05A-B2F6502B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297-7246-4222-9978-01E02152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1F31-74A8-4105-92FA-F9B1D59C73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476280"/>
            <a:ext cx="23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а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814320" y="2349360"/>
            <a:ext cx="7515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ль занятий физической культурой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рофилактике острых респираторных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болеваний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1692360" y="1989000"/>
          <a:ext cx="5729040" cy="432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89000"/>
                    <a:ext cx="572904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WordArt 5"/>
          <p:cNvSpPr txBox="1"/>
          <p:nvPr/>
        </p:nvSpPr>
        <p:spPr>
          <a:xfrm>
            <a:off x="1476360" y="476280"/>
            <a:ext cx="619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личество учеников болевших острыми </a:t>
            </a:r>
            <a:endParaRPr b="0" lang="en-US" sz="1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пираторными заболевания </a:t>
            </a:r>
            <a:endParaRPr b="0" lang="en-US" sz="1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процентном соотношении</a:t>
            </a:r>
            <a:endParaRPr b="0" lang="en-US" sz="1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2124000" y="549360"/>
            <a:ext cx="4616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личество учеников перенесших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ые респираторные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болевания в числовом соотношении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907920" y="1773360"/>
          <a:ext cx="595944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773360"/>
                    <a:ext cx="59594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042920" y="2104920"/>
            <a:ext cx="727416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1763640" y="333360"/>
            <a:ext cx="655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личество учеников не болевшие острыми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спираторными заболеваниями в числовом соотношени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907920" y="2205000"/>
          <a:ext cx="595800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205000"/>
                    <a:ext cx="5958000" cy="4657680"/>
                  </a:xfrm>
                  <a:prstGeom prst="rect">
                    <a:avLst/>
                  </a:prstGeom>
                  <a:ln w="0">
                    <a:solidFill>
                      <a:srgbClr val="ff9900"/>
                    </a:solidFill>
                  </a:ln>
                </p:spPr>
              </p:pic>
            </p:oleObj>
          </a:graphicData>
        </a:graphic>
      </p:graphicFrame>
      <p:sp>
        <p:nvSpPr>
          <p:cNvPr id="67" name="WordArt 5"/>
          <p:cNvSpPr txBox="1"/>
          <p:nvPr/>
        </p:nvSpPr>
        <p:spPr>
          <a:xfrm>
            <a:off x="1285920" y="333360"/>
            <a:ext cx="5734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личество учеников не болевших 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ыми респираторными 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болеваниями в процентном соотношении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900000" y="1052640"/>
            <a:ext cx="648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дет являться определение роли занятий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изической культурой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рофилактике острых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спираторных заболеваний.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619280" y="765000"/>
            <a:ext cx="504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лью исследования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900000" y="1773360"/>
            <a:ext cx="7559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   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.Изучить научно методическую литературу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.Дать рекомендации по использованию работ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1835280" y="620640"/>
            <a:ext cx="489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195640" y="836640"/>
            <a:ext cx="410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дачи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826920" y="1989000"/>
            <a:ext cx="770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Определить круг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упражнений способствующих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лучшей профилактике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рых респираторных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болеваний.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757080" y="3716280"/>
            <a:ext cx="76298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.Выявить роль занятий физической культурой </a:t>
            </a:r>
            <a:endParaRPr b="0" lang="en-US" sz="1400" spc="1" strike="noStrike">
              <a:ln w="1908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профилактике </a:t>
            </a:r>
            <a:endParaRPr b="0" lang="en-US" sz="1400" spc="1" strike="noStrike">
              <a:ln w="1908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стрых респираторных заболеваний</a:t>
            </a:r>
            <a:endParaRPr b="0" lang="en-US" sz="1400" spc="1" strike="noStrike">
              <a:ln w="1908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 rot="21378600">
            <a:off x="1133640" y="1773000"/>
            <a:ext cx="64306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офилактика острых респираторных заболеваний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 занятиях физической культурой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1258920" y="1341360"/>
            <a:ext cx="7058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90000"/>
                  </a:srgbClr>
                </a:solidFill>
                <a:latin typeface="Arial"/>
              </a:rPr>
              <a:t>Предметом исследования будет являться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90000"/>
                </a:srgbClr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209600" y="1052640"/>
            <a:ext cx="6724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нятия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 физической культуре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особствующие профилактике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трых респираторных заболеваний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908000" y="765000"/>
            <a:ext cx="61200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бъектом исследования будут являться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-74160" y="848520"/>
            <a:ext cx="929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ЛОЖЕНИЕ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ИЧЕСТВО УЧЕНИКОВ УЧАСТВОВАВШИХ В ПРОВЕДЕНИИ   ПЕДАГОГИЧЕСКОГО ИССЛЕДОВ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985080" cy="4608720"/>
          </a:xfrm>
          <a:prstGeom prst="rect">
            <a:avLst/>
          </a:prstGeom>
          <a:ln w="0">
            <a:noFill/>
          </a:ln>
        </p:spPr>
      </p:pic>
      <p:sp>
        <p:nvSpPr>
          <p:cNvPr id="56" name="WordArt 10"/>
          <p:cNvSpPr txBox="1"/>
          <p:nvPr/>
        </p:nvSpPr>
        <p:spPr>
          <a:xfrm>
            <a:off x="1042920" y="33336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количество учеников участвовавших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в педагогическом исследовани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7:49:54Z</dcterms:created>
  <dc:creator>Администратор</dc:creator>
  <dc:description/>
  <dc:language>en-US</dc:language>
  <cp:lastModifiedBy>Максим</cp:lastModifiedBy>
  <dcterms:modified xsi:type="dcterms:W3CDTF">2010-10-30T18:03:15Z</dcterms:modified>
  <cp:revision>9</cp:revision>
  <dc:subject/>
  <dc:title>Слайд 1</dc:title>
</cp:coreProperties>
</file>