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05-BF44-4E5B-BF69-68DC60A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F92-6E8C-45D8-BCE0-ABBCB089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EAB-C2A4-4833-B41F-1A040559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326-EBF8-430D-AAC2-9D319C3D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674-6FE5-45ED-B43F-61E6595B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1E5-964B-46B4-9766-F4E6581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3D6-99F3-44E2-843B-3185790A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5CF8-5B56-4E3A-BEE9-838827C1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766-3182-4D42-9F36-4A84BC8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C3F5-5407-4501-A4DD-6698085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E62D-490B-4414-A7F9-182F8D2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917-6236-49E0-8496-DACCE80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8E06-1599-44ED-902A-28A7BD4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01B-A66F-44B4-8771-A6BF33B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64D6-1AC5-4712-8B7B-E593181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528-DB3C-4C2F-BF89-90937E79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58F-E49A-4EBF-A3E0-4A8437B8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D3B-24F2-4EB1-83DC-C454B2B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55B-A554-4F99-B371-C120836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D93-5F53-4186-9A7C-49A7C01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171-8C51-43BD-B4BF-EAEEC8D5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73D-2918-4044-BF33-57CC264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CC3-CBE0-4867-B382-C465674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D55-1011-42AE-A8F9-E0EE294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9F6-7F5E-4068-A2B0-DBBB90973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C03-1C60-40EB-8EEE-686F69FFE8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ЦИАЛЬНАЯ  РЕАБИЛИТАЦИЯ ДЕТЕЙ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 НАРУШЕНИЕМ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ОРНО-ДВИГАТЕЛЬНОГО АППАРАТА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НА ПРИМЕРЕ ДЕЯТЕЛЬНОСТИ СПЕЦИАЛИСТОВ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МУ СЗ «КОМПЛЕКСНЫЙ ЦЕНТР 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ЦИАЛЬНОГО ОБСЛУЖИВАНИЯ НАСЕЛЕНИЯ»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. КИЧМЕНГСКИЙ ГОРОДОК)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ниципальное Учре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альной Защи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Комплексный центр социального обслуживания насел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Кич – Город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тделение социального обслуживания на дому граждан пожилого возраста и инвалидов командой социальных работ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йствовать интеграции детей-инвалидов в общество, их социальной адаптации и развитию способ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держивать и укреплять  психологическое и физическое здоровье 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их  социокультурной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содействие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Формировать у детей потребность в физическом совершенствовании, содействовать в осознании ими возможности целенаправленных занятий физической культурой, 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консультативную 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в беспрепятственном доступе к информации и объектам социальной инфраструк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ециалисты от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работ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сихол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едицинская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труктор по лечебной физкульту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алисты других отделений и образовательных учрежд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циальный педаг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 дома детского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детской школы искус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музыкальной и воскресной шко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в проведенном исследовании приняло участие трое детей  с диагнозом детский церебральный пар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вень интеллекта детей с ДЦП не у всех соответствует возрастной норм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1" descr="P1000208"/>
          <p:cNvPicPr/>
          <p:nvPr/>
        </p:nvPicPr>
        <p:blipFill>
          <a:blip r:embed="rId1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1000222"/>
          <p:cNvPicPr/>
          <p:nvPr/>
        </p:nvPicPr>
        <p:blipFill>
          <a:blip r:embed="rId2"/>
          <a:stretch/>
        </p:blipFill>
        <p:spPr>
          <a:xfrm>
            <a:off x="971640" y="422100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23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ень услуг, предоставляемых в «КЦСО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ление транспорта для доставки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реждения для обучения, участ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ных мероприятиях, учреж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о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вне до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и обслуживан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рной комнате, кабинете ЛФК и масс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100_0381"/>
          <p:cNvPicPr/>
          <p:nvPr/>
        </p:nvPicPr>
        <p:blipFill>
          <a:blip r:embed="rId1"/>
          <a:stretch/>
        </p:blipFill>
        <p:spPr>
          <a:xfrm>
            <a:off x="900000" y="4292640"/>
            <a:ext cx="3527640" cy="2303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100_0743"/>
          <p:cNvPicPr/>
          <p:nvPr/>
        </p:nvPicPr>
        <p:blipFill>
          <a:blip r:embed="rId2"/>
          <a:stretch/>
        </p:blipFill>
        <p:spPr>
          <a:xfrm>
            <a:off x="5572080" y="1785960"/>
            <a:ext cx="3143160" cy="2093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3" descr="100_1724"/>
          <p:cNvPicPr/>
          <p:nvPr/>
        </p:nvPicPr>
        <p:blipFill>
          <a:blip r:embed="rId3"/>
          <a:stretch/>
        </p:blipFill>
        <p:spPr>
          <a:xfrm>
            <a:off x="550872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Содержимое 2"/>
          <p:cNvGraphicFramePr/>
          <p:nvPr/>
        </p:nvGraphicFramePr>
        <p:xfrm>
          <a:off x="468360" y="404640"/>
          <a:ext cx="8385120" cy="597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3851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педагогические услуг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организации обучения на дом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щь в выполнении домашнего зад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навыкам самообслужив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поведению в быту и общественных местах, самоконтролю, навыкам общения и другим форам жизне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нимационные услуги (посещение выставок, экскурсий, праздников и других культурных мероприятий)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олучении образования с учетом физических и умственных способност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1" descr="E:\Таня и Юля\P1000294.JPG"/>
          <p:cNvPicPr/>
          <p:nvPr/>
        </p:nvPicPr>
        <p:blipFill>
          <a:blip r:embed="rId1"/>
          <a:stretch/>
        </p:blipFill>
        <p:spPr>
          <a:xfrm>
            <a:off x="4932360" y="4076640"/>
            <a:ext cx="329724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100_0760"/>
          <p:cNvPicPr/>
          <p:nvPr/>
        </p:nvPicPr>
        <p:blipFill>
          <a:blip r:embed="rId2"/>
          <a:stretch/>
        </p:blipFill>
        <p:spPr>
          <a:xfrm>
            <a:off x="900000" y="4076640"/>
            <a:ext cx="3386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539640" y="476280"/>
          <a:ext cx="820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психологиче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ое консульт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коррек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енин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диагно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занятий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е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9" descr="100_0748"/>
          <p:cNvPicPr/>
          <p:nvPr/>
        </p:nvPicPr>
        <p:blipFill>
          <a:blip r:embed="rId1"/>
          <a:stretch/>
        </p:blipFill>
        <p:spPr>
          <a:xfrm>
            <a:off x="5076720" y="2637000"/>
            <a:ext cx="360072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WScan00031"/>
          <p:cNvPicPr/>
          <p:nvPr/>
        </p:nvPicPr>
        <p:blipFill>
          <a:blip r:embed="rId2"/>
          <a:stretch/>
        </p:blipFill>
        <p:spPr>
          <a:xfrm>
            <a:off x="1258920" y="3789360"/>
            <a:ext cx="244944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социальной реабилитации дет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 (ОД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специалистов по социальной работе, которая направлена на социальную реабилитацию детей с нарушением 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611280" y="549360"/>
          <a:ext cx="813744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1374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медицин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90756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ание санитарно – гигиенических услуг (стрижка ногтей причесы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роведении медико-социальной экспертизы и получение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реабилитационных мероприятий социально медицинская характеристика в соответствии с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еспечение техническими средствами ухода и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лечебно- оздоровительных мероприятий (массаж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и занятия в тренажерной комна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клиентов в учреждения здравоохранения, образования, соц.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3311640" cy="20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311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539640" y="549360"/>
          <a:ext cx="8136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36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жидаемый результа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Повышение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Формирование адекватного отношения к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му физическому состоя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пенсаторных умений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муникативных навы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творческих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Активизация внутрен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нциала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Самореализация родителей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социальной значимости семь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ющей ребенка-инвал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731880" y="1195560"/>
            <a:ext cx="2206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тигну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езультат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ое отношение к своему физическому состоя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ось больше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ланы на буду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физического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оварного запаса, расширение кругозора (у детей с сохранным интеллекто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эмоционального самочув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9" descr="P1000191"/>
          <p:cNvPicPr/>
          <p:nvPr/>
        </p:nvPicPr>
        <p:blipFill>
          <a:blip r:embed="rId1"/>
          <a:stretch/>
        </p:blipFill>
        <p:spPr>
          <a:xfrm>
            <a:off x="6156360" y="2133720"/>
            <a:ext cx="2692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в работ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ение транспортных услуг (загруженность транспорта, отсутствие оборудования машин специальными креслами и ремня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истов узкого профиля (логопе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 эффективное сотрудничество с учреждениями здравоохранения и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методического обеспечения (литературы по работе с детьми с нарушениями 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ая загруженность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ьного образования у некоторых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сокая оплата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уществления транспортных услуг детям с нарушениями ОДА требуется предоставить отдельный специально оборудованный 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ение графика работы, в котором оговорено время подвоза детей к специалистам, и в первую очередь соблюдать интерес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ение к работе специалистов узкого профиля, например, логоп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специалистов методической литературой, в которой бы описывалась работа социальных работников, социального педагога, психолога, инструктора по лечебной физкультуре и медицинской сестры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времени работы специалистов с данной категорией детей  и достойная оплата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учебы для работников, не имеющих специального образования по работе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ие реабилитационного отделения по работе с детьми- инвали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-830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учение деятельности специалистов Комплексного Центра социального обслуживания населения, которая направлена на социальную реабилитацию детей с нарушением опорно–двигательного аппарата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общую характеристику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изучить проблемы социальной реабилитации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характеристику социальной реабилитации детей с нарушением опорно–двигательного аппарата в деятельности социальных служб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* проанализировать и обобщить опыт работы специалистов Комплексного Центра социального обслуживания населения с. Кичменгский Городок, направленной на реабилитацию детей с нарушением опорно– двигательного аппарата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br>
              <a:rPr sz="54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етическ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 анализ литературы и систематизация информации по теме иссле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анализ документов, анкетиров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7"/>
          <p:cNvSpPr/>
          <p:nvPr/>
        </p:nvSpPr>
        <p:spPr>
          <a:xfrm>
            <a:off x="928800" y="260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полагаем, что деятельность Комплексного Центра социального обслуживания населения, направленная на социальную реабилитацию детей с нарушением опорно– двигательного аппарата, должна отвечать следующим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ичие нормативно–правовых документов, регламентирующих дея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наличие и взаимодействие специалистов разного профи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циального работника, социального педагога, инструктора по лечебной физкультуре, психолога, медицинской сестр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наличие условий для работы специалис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снащённость, санитарно–гигиенические условия, методическое обеспечение, микроклима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) взаимодействие с семьями, в которых растут дети с нарушением опорно–двигательного аппарата, а также наличие и состояние информации о таких семьях и их потребн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лид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лицо, имеющее нарушение здоровья со стойким расстройством функций организма, обусловленное заболеваниями, последствиями травм или дефектами, приводящими к ограничению жизнедеятельности и вызывающее необходимость социальной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-инвали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лицо в возрасте до 18 лет, признанное в установленном порядке инвал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егории детей-инвал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м интеллектуального разви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мплексными нарушениями психофизическ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эмоционально-волевыми наруш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реабилитация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комплекс мер, направленных на повышение уровня функциональных  способностей в быту и социу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социальной реабили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достаточные формы социальной поддерж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рушение связей ребенка-инвалида  с окружающим ми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тсутствие спецшкол и реабилитационных цен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получения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неравенства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нарушения 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вание нервной системы: детский церебральный паралич, полиомие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ожденная патолог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обретенные заболевания и поврежден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ые услуги, предоставляемые детя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нарушением 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2960" y="2204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- прав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29:14Z</dcterms:created>
  <dc:creator>User</dc:creator>
  <dc:description/>
  <dc:language>en-US</dc:language>
  <cp:lastModifiedBy>Ната</cp:lastModifiedBy>
  <dcterms:modified xsi:type="dcterms:W3CDTF">2010-10-28T10:02:41Z</dcterms:modified>
  <cp:revision>41</cp:revision>
  <dc:subject/>
  <dc:title>Слайд 1</dc:title>
</cp:coreProperties>
</file>