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712-2E6A-4FA7-B269-BDCF54B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F5E-6EEF-4630-B2DE-5AA6FD43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173-38C1-481F-8895-8F0993BB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128-7D33-40B7-A2CD-3EDF3F6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946-BAD7-4FAF-A4CC-CEC42792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F04-92E4-4D48-9074-E0C50DA9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876-B95C-4B15-B312-C00D2F9D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3EC-A12A-4012-9511-A59049EB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845-3F09-43D5-819F-62E6881D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6B6-91B8-4769-8C5E-F59BDB9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BC4-DD30-4E4C-B1AE-2D4E21D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A19-0802-41F1-8302-12E2E37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793-CC3C-4B68-9CC3-3ABF670B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66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 социально-медицинского обслуживания на дому граждан пожил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удентки 501 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ашериной Ольги Степан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ВК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34544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специфики социально-медицинского обслуживания на дому людей пожил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специфику социально-медицинского обслуживания на дому людей пожил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социологический опрос с людьми пожилого возраста по выявлению потребностей в социально-медицинском обслуживании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рекомендации по использованию материалов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за исслед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У ВО Комплексный центр социального обслуживания населения города Волог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Анкетирование людей пожил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Сравнительный анализ работы отделения за 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едполагаем, что социально-медицинское обслуживание на дому позволит более эффективно организовать социальную помощь, направленную на восстановление утраченных физических и психических способностей пожилых людей и может являться альтернативой определению их в стационарные учре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ая защита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мплекс социально-экономических мер, проводимых государством и направленная на социальное обслуживание не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ое обслужива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деятельность социальных служб по социальной поддержке, оказанию услуг и материальной помощи людям, находящихся в трудной жизнен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ход –это ориентированная на личность услуга , оказываемая нуждающемуся в уходе человеку в его разных жизнен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ая поддержка – это вид социальной помощи, направленная на обеспечение граждан временно находящихся в трудной жизненной ситуации через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ая помощь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действие лицам, лишенных необходимых условий для нормальной жизни, оказание им поддержки и выражение им сочув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806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ная жизненная ситуация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итуация объективно нарушающая жизнедеятельность гражданина, которую он не может преодолеть самостоятельно(инвалидность, болезн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циально - медицинское-обслуживание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640" y="1773000"/>
            <a:ext cx="81360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получении медицинской, правовой, социально-психологической и натуральной видов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организации ритуаль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37:47Z</dcterms:created>
  <dc:creator>Customer</dc:creator>
  <dc:description/>
  <dc:language>en-US</dc:language>
  <cp:lastModifiedBy>111</cp:lastModifiedBy>
  <dcterms:modified xsi:type="dcterms:W3CDTF">2003-03-18T23:39:18Z</dcterms:modified>
  <cp:revision>8</cp:revision>
  <dc:subject/>
  <dc:title>Слайд 1</dc:title>
</cp:coreProperties>
</file>