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3ED-7706-4E8B-B548-256E4513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C75-582F-4B0D-AED2-3376CE67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ECB-6D3C-4157-ADC8-45FADCAC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437-226E-4CAC-B630-ECFC4015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3375-4A5B-422F-84E2-0447073A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7767-2464-4AE5-93B9-F3AB5B36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4A80-B607-4984-9FB5-F6944C55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557E-8F14-4B66-BA02-675B27A6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43A0-46C2-40EC-9CF7-BF7FED24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A904-C311-4359-AD9F-40F7CB79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011D-28E7-4BC9-84D4-9FEB490E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DC0-2A7E-470F-AF07-49984F12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2F6C-06B5-4BCC-B123-68A7EE10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9256-21FD-47C6-96EB-5D10981B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7D32-5EDB-44EB-9E84-343B20EB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667E-3CCA-4BBA-8FBD-CA9BD3FF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ABD8-C685-436F-B9DA-D0ABCA27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51F-EA96-4DB8-8763-9ABD5259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EE6-0C8C-4CEC-95E3-399189E5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9F3-3622-4DAE-AB75-4DE518B8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76E-F82E-4432-9A62-769AC074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A56-7E03-45F8-9EAB-A743F3B4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F67-E2B2-41C5-BF16-23594D33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DB1-2261-4F5D-B6A9-C77F8C99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D6BD-D17B-4586-9B05-494097AE0D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1788-8DD8-44E8-8820-5094EA0C95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У ВПО «ВОЛЖСКИЙ ГОСУДАРСТВЕННЫЙ ИНЖЕНЕРНО-ПЕДАГОГИЧЕСКИ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НИВЕРСИТЕ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7640" y="256500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 И П Л О М Н Ы Й    П Р О Е К 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тему: Стратегическое планирование в управлении коммунальным комплекс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932360" y="4292640"/>
            <a:ext cx="396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УДЕНТ                      Д.С.Гус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А.Н.Голубц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348000" y="630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ижний Новгород 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Источниками финансир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диты, выделяемые муниципальным образованиям на подготовку к зим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составляющие 0,1% от восстановительной стоимости жилого фонда, и выделяемые отдельной строкой в бюджетах муниципальных образований для финансирования программы оснащения жилого фонда приборами учета тепловой энер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формирующиеся в жилищно-коммунальных организациях при оплате населением коммунальных услу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азработанные мероприятия позволя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кратить затраты на содержание и эксплуатацию жиль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экономические интересы населения при переходе отрасли ЖКХ на безубыточный режим функционир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надежное тепло и водоснабжение без расширения существующих энерго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пособствовать созданию экономического механизма стимулирующего процесс энергосбереж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учшить финансово-хозяйственную деятельность предприятия, повысить прибыльность, увеличить рентабельность, снизить расход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80010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ка стратегического плана организации жилищно-коммунальной сферы на примере ООО «Жилсервис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ъект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ество с ограниченной ответственностью «Жилсервис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мет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тратегическое планирование организаций жилищно-коммунальной сферы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68360" y="347760"/>
            <a:ext cx="51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Цель дипломного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549360"/>
            <a:ext cx="8001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Задачи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мотреть теоретические и методические основы стратегического планирования деятельности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анализировать деятельность организации жилищно-коммунальной сферы на примере ООО «Жилсервис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зить оценку воздействия факторов окружающей среды на деятельность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ставить разработку стратегического плана предприятия с учетом влияния факторов внешней сре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сновать выбор стратегического плана предприятия с экономической точки зр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оре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екта заключается в изучении основных аспектов стратегического планирования организаций жилищно-коммунальной сфе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сследования состоит в том, что материалы исследования могут быть использованы в работе руководителя, менеджера предприя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понятия и определения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атегия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ированная модель действий, предназначенных для достижения целей предприятия. Содержанием стратегии служит набор правил принятия решений, используемый для определения основных направлени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одна из функций управления, которая представляет собой процесс выбора целей организации и путей их достиж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тапы разработки стратегического план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ределение миссии и целей организ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реды, включающий в себя сбор информации, анализ сильных и слабых сторон фирмы, а также ее потенциальных возможностей на основании имеющейся внешней и внутренней информ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бор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ализация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ка и контроль выполн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виды деятельности ООО «Жилсервис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многоквартирным дом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обретение коммунальных ресур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луатация инженерных систем здан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ание жилищного фонда и нежилых поме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населению по сбору средств за коммунальные услуг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предприятиям по платежам и расчетам за коммунальные и другие услуг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ые виды хозяйственной и коммерческ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едложения по повышению эффективности управления организации ООО «Жилсервис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ершенствование структуры управл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информационной систем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 постоянного повышения квалификации работник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системы подбора, обучения, оценки и перемещения руководящих кадр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по созданию культуры организац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работка стратегии развития организации на основе анализа ее сильных и слабых сторо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Мероприятия по внедрению энергосберегающих технолог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на системах теплоснабжения технологий стабилизационной обработки подпиточн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ение контурной и сетев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пароструйных насо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ка предизолированных тру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индивидуальных тепловых пунк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ащение муниципального жилого фонда и организаций бюджетной сферы приборами учета и регулирования энергоресурсов и 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06:34:18Z</dcterms:created>
  <dc:creator>DSGusev</dc:creator>
  <dc:description/>
  <dc:language>en-US</dc:language>
  <cp:lastModifiedBy>Ната</cp:lastModifiedBy>
  <dcterms:modified xsi:type="dcterms:W3CDTF">2010-06-26T09:22:46Z</dcterms:modified>
  <cp:revision>11</cp:revision>
  <dc:subject/>
  <dc:title>Слайд 1</dc:title>
</cp:coreProperties>
</file>