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6A9-60FB-4FAD-A646-4B664238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FA2-3A1C-4993-A29A-595FD9C6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E5E-8CDF-4EF2-854A-BB248BDE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1D5-4008-4AFE-BB38-F77EA430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DD41-7BEB-45DB-AF5E-F1A645AF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D1A-9AD8-4174-82D1-31B51A11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90CF-05AB-49C2-8BD5-5F7A93E0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1D2C-11D4-4EEF-BAE2-B13719E3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C238-4BB1-4046-B2DE-D249E7E4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88AD-DF9D-4751-9E9E-274A8C6C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6699-28DA-46FA-8C3C-EAAD80C2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158-C0C4-4E92-9E4C-0A42FBD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970D-334A-443F-A81C-7AF63D4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BE66-6779-4904-B860-2A1E6116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1E96-AD21-447C-AB83-51BAB3A7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843E-0F4A-4910-958A-84FBF8E5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70BE-AA69-4955-94A4-2EB6B80E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EBE-F2BE-4A7C-BD6F-E500D732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985-9FFC-40B2-88AC-6EFE5E1A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D1E-0D44-426E-A08F-52EF6E8D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A94-EE7D-4977-81AA-2754BEA3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80B-FF38-4A85-85C3-4FB2CDF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EC7-9B87-4AA2-9FB1-77EBF0F1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C37-6BD0-494D-81DC-ECA095F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F3D4-4274-46C6-80E5-685F0B0AD1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7537-DF34-4881-8D1C-3204D18712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Влияние подвижных игр на физическое развитие детей в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детском оздоровительном лагер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ыпускная квалификационная рабо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тудента 407 групп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Бутусова А. П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Таблица 1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Дети, посещающие лагерь 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экспериментальная группа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1628640"/>
          <a:ext cx="8229600" cy="489132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792000"/>
                <a:gridCol w="720720"/>
                <a:gridCol w="576360"/>
                <a:gridCol w="647640"/>
                <a:gridCol w="719280"/>
                <a:gridCol w="720720"/>
                <a:gridCol w="792000"/>
                <a:gridCol w="720720"/>
                <a:gridCol w="81288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начал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онц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среднеи по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Таблица 2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Дети, посещающие лагерь 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контрольная группа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1079640"/>
                <a:gridCol w="647640"/>
                <a:gridCol w="792000"/>
                <a:gridCol w="720720"/>
                <a:gridCol w="576360"/>
                <a:gridCol w="647640"/>
                <a:gridCol w="719280"/>
                <a:gridCol w="720720"/>
                <a:gridCol w="792000"/>
                <a:gridCol w="720720"/>
                <a:gridCol w="8128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начал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онце с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г 60 м.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длину,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етание мяча,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тягивание, 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ыжки в высоту с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к 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ченица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среднеи по груп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4"/>
          <p:cNvGraphicFramePr/>
          <p:nvPr/>
        </p:nvGraphicFramePr>
        <p:xfrm>
          <a:off x="0" y="260280"/>
          <a:ext cx="9144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0" y="0"/>
          <a:ext cx="8964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целенаправленное применение подвижных игр положительно воздействует на формирование всех двигательных кач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использование расширенного объема подвижных игр способствует более высокому приросту двигательных качест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дети экспериментальной группы (посещающие оздоровительный лагерь) с увеличенным объемом подвижных игр превосходят детей контрольной группы (не посещающих оздоровительный лагерь) по темпам прироста показателей физической подготовленно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Проблема исследования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заключается во влиянии подвижных игр на развитие детей и их личностных качест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Цель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Разработать и доказать эффективность  подвижных игр для развития детей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Объект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оцесс развития личности средствами игровой деятельности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Verdana"/>
              </a:rPr>
              <a:t>Предмет исследования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влияние подвижных игр на физическое развитие детей в детском оздоровительном лагер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научную, научно-методическую и специальную  литературу по данной проблем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характеристику современного состояния применения игровой деятельности в развитии детей  в детском оздоровительном лагер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работать комплекс  подвижных игр для  ДОЛ, способствующих процессу активного развития де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значимость подвижных игр в развитии де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Verdana"/>
              </a:rPr>
              <a:t>Гипотеза исследования: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Если разработать специальный комплекс подвижных игр для детского оздоровительного лагеря, то можно будет более эффективно организовать процесс развития дете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трольные упражнения 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г 60 мет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и в длину с разбег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ыжки в высо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тание мяча 15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тягив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Мальчики на высокой перекладине из ви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Девочки на низкой перекладине из виса леж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Группы, принимающие участие в эксперимент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Дети, посещающие лагерь (контрольная 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Дети, не посещающие  лагерь. (экспериментальная 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3:37:23Z</dcterms:created>
  <dc:creator>Таня</dc:creator>
  <dc:description/>
  <dc:language>en-US</dc:language>
  <cp:lastModifiedBy>Максим</cp:lastModifiedBy>
  <dcterms:modified xsi:type="dcterms:W3CDTF">2010-10-30T18:13:44Z</dcterms:modified>
  <cp:revision>8</cp:revision>
  <dc:subject/>
  <dc:title>Слайд 1</dc:title>
</cp:coreProperties>
</file>