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349-942F-4896-AE85-B86ABDEC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1FC-545C-4F8E-A1A4-9BB49DB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8F0-BB0C-40CB-9FC8-71B101D1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2F2-FF79-4CC3-A37B-61A1E5EC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B5E-DBE3-4110-9F11-E28EBB1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39B-7684-4A72-811E-BB8F00F6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8A0-9045-45A3-A8D0-2A9A433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88B-7285-46FD-A166-2EB67A2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8CA-E8EB-4DAA-89BD-FE1082D0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22A-AB3A-4847-A143-0834CD79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998-1926-492C-AABD-3246EC9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976-A44C-4608-A82C-81B7D68B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5624-34F3-48FF-AC26-5CA2866A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Тема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лияние технических средств обучения на результативность усвоения иностранного языка учащимися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532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вление и обоснование влияния технических средств обучения на результативность усвоения иностранного языка с ориентацией на младший школьный возр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теоретические основы влияния технических      средств обучения на результативность усвоения иностранного яз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аскрыть способы использования технических средств обучения на уроках иностранного языка в младшем школьном возрас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разработать практические рекомендации по влиянию технических средств обучения на результативность усвоения иностранного язы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Объек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ый процесс с     использованием технически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едм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езультативность усвоения иностранного языка младшими школь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Гипотез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на уроках иностранного языка систематически использовать технические средства обучения, то результативность усвоения данного языка повыс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Технические средства обучения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комплексы и аппаратура с методическим обеспечением, применяемые в процессе обучения для предъявления и обработки информации с целью повышения эффективности усвоения учащимися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473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1                         Таблиц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25360"/>
          <a:ext cx="4038480" cy="5472360"/>
        </p:xfrm>
        <a:graphic>
          <a:graphicData uri="http://schemas.openxmlformats.org/drawingml/2006/table">
            <a:tbl>
              <a:tblPr/>
              <a:tblGrid>
                <a:gridCol w="503280"/>
                <a:gridCol w="1871640"/>
                <a:gridCol w="865080"/>
                <a:gridCol w="79848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788000" y="1125360"/>
          <a:ext cx="4038480" cy="5472360"/>
        </p:xfrm>
        <a:graphic>
          <a:graphicData uri="http://schemas.openxmlformats.org/drawingml/2006/table">
            <a:tbl>
              <a:tblPr/>
              <a:tblGrid>
                <a:gridCol w="504720"/>
                <a:gridCol w="1800360"/>
                <a:gridCol w="863640"/>
                <a:gridCol w="86976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3 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ровень развития 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600200"/>
          <a:ext cx="4171680" cy="5056200"/>
        </p:xfrm>
        <a:graphic>
          <a:graphicData uri="http://schemas.openxmlformats.org/drawingml/2006/table">
            <a:tbl>
              <a:tblPr/>
              <a:tblGrid>
                <a:gridCol w="576000"/>
                <a:gridCol w="1871640"/>
                <a:gridCol w="863640"/>
                <a:gridCol w="860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бунов Серг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пина 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 На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а В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К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54440" y="1628640"/>
          <a:ext cx="4310280" cy="496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4440" y="1628640"/>
                    <a:ext cx="43102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4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268280"/>
          <a:ext cx="4043520" cy="5400720"/>
        </p:xfrm>
        <a:graphic>
          <a:graphicData uri="http://schemas.openxmlformats.org/drawingml/2006/table">
            <a:tbl>
              <a:tblPr/>
              <a:tblGrid>
                <a:gridCol w="442800"/>
                <a:gridCol w="1871640"/>
                <a:gridCol w="863640"/>
                <a:gridCol w="865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1268280"/>
          <a:ext cx="4244760" cy="5400720"/>
        </p:xfrm>
        <a:graphic>
          <a:graphicData uri="http://schemas.openxmlformats.org/drawingml/2006/table">
            <a:tbl>
              <a:tblPr/>
              <a:tblGrid>
                <a:gridCol w="428400"/>
                <a:gridCol w="1943280"/>
                <a:gridCol w="865080"/>
                <a:gridCol w="10080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Таблица 6 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ровень развития вним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413000"/>
          <a:ext cx="4038480" cy="5207040"/>
        </p:xfrm>
        <a:graphic>
          <a:graphicData uri="http://schemas.openxmlformats.org/drawingml/2006/table">
            <a:tbl>
              <a:tblPr/>
              <a:tblGrid>
                <a:gridCol w="504720"/>
                <a:gridCol w="1836720"/>
                <a:gridCol w="849240"/>
                <a:gridCol w="847800"/>
              </a:tblGrid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яко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Крис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цын В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оева Г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ловский Ми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00720" y="1413000"/>
          <a:ext cx="446400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413000"/>
                    <a:ext cx="446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равнение результатов на констатирующем и контрольном эт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628640"/>
          <a:ext cx="8435880" cy="4683240"/>
        </p:xfrm>
        <a:graphic>
          <a:graphicData uri="http://schemas.openxmlformats.org/drawingml/2006/table">
            <a:tbl>
              <a:tblPr/>
              <a:tblGrid>
                <a:gridCol w="2160360"/>
                <a:gridCol w="2951280"/>
                <a:gridCol w="3324240"/>
              </a:tblGrid>
              <a:tr h="88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тирующи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school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entures of Pinocchi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йди отличи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6:39:56Z</dcterms:created>
  <dc:creator>User</dc:creator>
  <dc:description/>
  <dc:language>en-US</dc:language>
  <cp:lastModifiedBy>1</cp:lastModifiedBy>
  <dcterms:modified xsi:type="dcterms:W3CDTF">2037-04-16T05:06:02Z</dcterms:modified>
  <cp:revision>3</cp:revision>
  <dc:subject/>
  <dc:title>Тема: Влияние технических средств обучения на результативность усвоения иностранного языка учащимися начальных классов</dc:title>
</cp:coreProperties>
</file>