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7FD-7EF2-4F92-A730-E5299434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F9A-AEF3-41D7-8A91-D10DA5CB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484-FEE6-4DA9-82F2-5BBC452E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2FC-5FA5-4037-A0CD-3231B3C8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733-8C2B-4CDE-AA18-A049BCB7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CA2-CCC1-45FB-9615-95BB6C6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62C-8F04-44CD-8212-EAC797C2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BEA-D343-48AD-9815-D61B850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B7B-0272-47ED-AA5C-8EF99B89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6BD-D158-482A-A056-2DC1D07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B1E-AB6A-439D-9037-F058C3DE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DC0-C723-49AB-BF04-7D04E13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ED1D-9201-4FAE-8E62-BB6EDF248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324000" y="2298600"/>
            <a:ext cx="842328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ресации в соответствии с нерасширенным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894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раметры качества обслуживания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552600" y="1557360"/>
            <a:ext cx="811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IR=B(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/T(c) — макс гарантированная полоса пропуск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EI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(B(c) + B(e))/T(c) — макс негарантированная полоса пропуск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(c) - количество бит, гарантированно передаваемых за время T(c) даже при перегрузке сети, B(e) — максимальное количество бит, которые могут быть переданы за время T(c) при недогрузке с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692360" y="3187800"/>
            <a:ext cx="61801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.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2" descr=""/>
          <p:cNvPicPr/>
          <p:nvPr/>
        </p:nvPicPr>
        <p:blipFill>
          <a:blip r:embed="rId1"/>
          <a:stretch/>
        </p:blipFill>
        <p:spPr>
          <a:xfrm>
            <a:off x="328680" y="1590840"/>
            <a:ext cx="84866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заимоотношения между объектами сети Х.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03200" y="1916280"/>
            <a:ext cx="651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ецификация Х.25 в эталонной модели O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313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ь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2" descr=""/>
          <p:cNvPicPr/>
          <p:nvPr/>
        </p:nvPicPr>
        <p:blipFill>
          <a:blip r:embed="rId1"/>
          <a:stretch/>
        </p:blipFill>
        <p:spPr>
          <a:xfrm>
            <a:off x="328680" y="1590840"/>
            <a:ext cx="83581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ь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2" descr=""/>
          <p:cNvPicPr/>
          <p:nvPr/>
        </p:nvPicPr>
        <p:blipFill>
          <a:blip r:embed="rId1"/>
          <a:stretch/>
        </p:blipFill>
        <p:spPr>
          <a:xfrm>
            <a:off x="371520" y="1773360"/>
            <a:ext cx="85899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имущества FR перед технологиями X.25 и ISD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86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уктурная схема сети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425520" y="1628640"/>
            <a:ext cx="835020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423720" y="4797360"/>
            <a:ext cx="835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T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ata Terminal Equipment) – аппаратура передачи данных (маршрутизаторы, мосты, П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C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ata Circuit-Terminating Equipment) – оконечное оборудование канала передачи данных (телекоммуникационное оборудование, обеспечивающее доступ к се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рмат ка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6240" y="5477040"/>
            <a:ext cx="871524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2664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52600" y="2060640"/>
            <a:ext cx="811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е Фла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кадр начинается и замыкается «флагом» — последовательностью «01111110». Данное поле выполняет функцию обрамления кад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е Адрес (Заголов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 Адрес кадра Frame Relay, кроме собственно адресной информации, содержит также и дополнительные поля управления потоком данных и уведомлений о перегрузке канала и имеет следующую структур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1-03T03:34:28Z</dcterms:modified>
  <cp:revision>8</cp:revision>
  <dc:subject/>
  <dc:title>Доклад</dc:title>
</cp:coreProperties>
</file>