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2FB2-E65C-4B51-BA8C-9A2CE9E3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41F2-81AE-47FB-9BF1-A1E6AFD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C134-768E-408F-9704-42D31230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9C74-BC15-4AE8-9E84-15255903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A0A7-3627-4746-BF8D-EEC5EFC3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C20A-9EA7-4643-81B1-A8BF2D4A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6376-980B-4ECB-8929-9D1261BA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998C-99AF-4D33-AFE1-6025E7D5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627D-9EDC-421A-B90A-26E05E52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3D41-95D0-49E4-844D-CF385FF4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37B-AD6D-4012-9A13-DBD1B07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BA8E-F29A-49FE-A9A3-0F11FDD7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2CCE-16DE-467E-9129-95C7AC1B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6C95-E8C4-4F06-A219-FCDF02A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07DB-D6D3-45FE-A45A-4B5DC1EE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CE55-A4BD-4EE4-AE63-68B155A5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EEF9-DA8B-481E-A91B-CBD0EEA7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49F7-5E07-4FF8-B0BB-C1CDD3C1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3D63-A05B-432A-9D96-504F5839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5697-1A17-4692-904E-72B2377E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577A-E573-4AC2-AB82-20C3C00A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3231-3214-484B-966F-1BA22A4E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1C3E-66F3-4788-BF4C-56327B7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75EB-3D4D-4CAD-B93F-09FD164D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FF4B-87E9-4D2B-B1EC-7E937C6AF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BBA4-D63F-427F-9549-58C0A48F7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836640"/>
            <a:ext cx="748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Times New Roman"/>
              </a:rPr>
              <a:t>Межпредметные связ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Times New Roman"/>
              </a:rPr>
              <a:t>в развит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Times New Roman"/>
              </a:rPr>
              <a:t>школьного химического образ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40388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риемы реализации межпредметных свя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Постановка межпредметных вопро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Выполнение комплексных зад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Решение межпредметных зада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Выполнение межпредметных домашних зад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ение межпредметных контрольн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Использование комплексных  наглядных пособ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ение межпредметных учебн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Формы организации интегратив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грированный учебный д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Межпредметный факультати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Межпредметная внеклассная раб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Комплексная экскур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лексный семин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й смотр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Межпредметный ур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66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105264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«…Это изумительная наука, знаете!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Её зоркий смелый взгл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проникает в огненную массу солнца, и во тьму земной к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в невидимые частицы вашего сердца, в тайны строения кам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и в безмолвную жизнь дерева. Она смотрит, всюду и везде открывая гармонию, упорно ищет начало жиз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И она найдёт его она найдёт!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М. Гор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63200"/>
            <a:ext cx="8177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Berlin Sans FB Demi"/>
              </a:rPr>
              <a:t>Формирование </a:t>
            </a:r>
            <a:br>
              <a:rPr sz="3200"/>
            </a:br>
            <a:r>
              <a:rPr b="0" i="1" lang="en-US" sz="3200" spc="-1" strike="noStrike">
                <a:solidFill>
                  <a:srgbClr val="009999"/>
                </a:solidFill>
                <a:latin typeface="Berlin Sans FB Demi"/>
              </a:rPr>
              <a:t>всесторонней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33480" y="2185560"/>
            <a:ext cx="3611520" cy="3433320"/>
            <a:chOff x="2733480" y="2185560"/>
            <a:chExt cx="3611520" cy="3433320"/>
          </a:xfrm>
        </p:grpSpPr>
        <p:sp>
          <p:nvSpPr>
            <p:cNvPr id="110" name="_s4116"/>
            <p:cNvSpPr/>
            <p:nvPr/>
          </p:nvSpPr>
          <p:spPr>
            <a:xfrm flipH="1" flipV="1">
              <a:off x="3665520" y="3471120"/>
              <a:ext cx="438840" cy="2181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115"/>
            <p:cNvSpPr/>
            <p:nvPr/>
          </p:nvSpPr>
          <p:spPr>
            <a:xfrm>
              <a:off x="2733480" y="2831040"/>
              <a:ext cx="1002600" cy="857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ГЕОГРАФ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114"/>
            <p:cNvSpPr/>
            <p:nvPr/>
          </p:nvSpPr>
          <p:spPr>
            <a:xfrm flipH="1">
              <a:off x="3665520" y="4116240"/>
              <a:ext cx="440280" cy="216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113"/>
            <p:cNvSpPr/>
            <p:nvPr/>
          </p:nvSpPr>
          <p:spPr>
            <a:xfrm>
              <a:off x="2733480" y="4117680"/>
              <a:ext cx="1002600" cy="857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МАТЕМАТИ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112"/>
            <p:cNvSpPr/>
            <p:nvPr/>
          </p:nvSpPr>
          <p:spPr>
            <a:xfrm>
              <a:off x="4538160" y="4328280"/>
              <a:ext cx="1080" cy="4341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111"/>
            <p:cNvSpPr/>
            <p:nvPr/>
          </p:nvSpPr>
          <p:spPr>
            <a:xfrm>
              <a:off x="4037040" y="4761720"/>
              <a:ext cx="1002600" cy="857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ИСТОР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110"/>
            <p:cNvSpPr/>
            <p:nvPr/>
          </p:nvSpPr>
          <p:spPr>
            <a:xfrm>
              <a:off x="4971240" y="4115160"/>
              <a:ext cx="438840" cy="217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109"/>
            <p:cNvSpPr/>
            <p:nvPr/>
          </p:nvSpPr>
          <p:spPr>
            <a:xfrm>
              <a:off x="5342400" y="4117680"/>
              <a:ext cx="1002600" cy="857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ЭК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4108"/>
            <p:cNvSpPr/>
            <p:nvPr/>
          </p:nvSpPr>
          <p:spPr>
            <a:xfrm flipV="1">
              <a:off x="4971240" y="3472200"/>
              <a:ext cx="438840" cy="216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4107"/>
            <p:cNvSpPr/>
            <p:nvPr/>
          </p:nvSpPr>
          <p:spPr>
            <a:xfrm>
              <a:off x="5342400" y="2829600"/>
              <a:ext cx="1002600" cy="857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БИ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4106"/>
            <p:cNvSpPr/>
            <p:nvPr/>
          </p:nvSpPr>
          <p:spPr>
            <a:xfrm flipV="1">
              <a:off x="4538160" y="3041280"/>
              <a:ext cx="0" cy="433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4105"/>
            <p:cNvSpPr/>
            <p:nvPr/>
          </p:nvSpPr>
          <p:spPr>
            <a:xfrm>
              <a:off x="4037040" y="2185560"/>
              <a:ext cx="1002600" cy="8571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ФИЗИ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4104"/>
            <p:cNvSpPr/>
            <p:nvPr/>
          </p:nvSpPr>
          <p:spPr>
            <a:xfrm>
              <a:off x="4037040" y="3474720"/>
              <a:ext cx="1002600" cy="8571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cc"/>
                  </a:solidFill>
                  <a:latin typeface="Arial"/>
                </a:rPr>
                <a:t>ХИМ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3708360" y="4076640"/>
            <a:ext cx="432000" cy="24912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551480" y="4282920"/>
            <a:ext cx="1440" cy="5526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4076640"/>
            <a:ext cx="507960" cy="2844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03640" y="3428640"/>
            <a:ext cx="466920" cy="22212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21240" y="2997360"/>
            <a:ext cx="19080" cy="5490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3429000"/>
            <a:ext cx="447840" cy="2430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763200"/>
            <a:ext cx="821844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Berlin Sans FB"/>
              </a:rPr>
              <a:t>Межпредметные связи </a:t>
            </a:r>
            <a:br>
              <a:rPr sz="2800"/>
            </a:br>
            <a:br>
              <a:rPr sz="2400"/>
            </a:b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Главная дидактическая функция: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Последовательное отражение в содержании естественнонаучных дисциплин объективных взаимосвязей, действующих в природ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481120"/>
            <a:ext cx="4100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Дидактические принц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нау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истема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вязь теории с практ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ознавательная актив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доступ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р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нагляд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мировоззренческая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направл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оложительный эмоциональный фо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очетание коллективного и индивидуального характера учеб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3280" y="2491920"/>
            <a:ext cx="40435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Главные дидактическ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овышение научности и последовательности учебной информ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тимулирование познавательных интересов и активного отношения обучающихся к усвоению зн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воспитание научных убе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Повышение научности и последовательности учебн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8080"/>
            <a:ext cx="403848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химией  и информатик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пособствует приобретению новых знаний, развитию познавательного интереса (дополнительные знания по предмет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оздаёт: более доступные для учащихся схемы объяснения химических явлений; условия для развития пространственного мышления (пространственное видение молекулы и описание её свойств по увиденной модел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Формирует культуру оформления собственных исследований (презентации исследований, рефератов); навыки систематизации и архивирования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Позволяет осуществлять более эффективный контроль за усвоением знаний (компьютерное тестирование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150560"/>
            <a:ext cx="403848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химией  и  истор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пособствует выстраиванию иерархии исторического развития хим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оздаёт поле для новых знаниевых открытий учащих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Воспитывает трудолюбие, усердие (любое открытие является результатом многолетней работы учёны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Развивает кругозор, воображение (освещение исторических заслуг учёных, этапов открытий, выдвижение собственных гипотез и идей)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Формирует навык обобщения. (создание таблицы Менделеев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Повышение научности и последовательности учеб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 химией  и физик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Формирует представление о базисной основе химии (тема «Строение атома» впервые вводится  в курсе физики и является основой изучения хим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Способствует усвоению химических понятий путём переноса имеющихся знаний из курса физики в курс химии («Газообразное состояние вещества», «Электролитическая диссоциация», «Электролиз»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Использует теории и законы, общие для физики и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Использует физические понятия, величины и единицы изме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 химией  и математик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Способствует конкретизации математических знаний (с помощью графиков изображаются закономерности химических процес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Показывает прикладной характер математики (использование математического аппарата для описания процессов, протекающих в жизни; применение математических методов, способов при решении химических задач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Укрепляет измерительно-вычислительные и графические ум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Воспитывает культуру работы с математически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Повышает эффективность обучения химии посредством алгоритмизации процесса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c0066"/>
                </a:solidFill>
                <a:uFillTx/>
                <a:latin typeface="Arial"/>
              </a:rPr>
              <a:t>Алгоритм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- математическое понятие, широко применяемое в обучении хи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c0066"/>
                </a:solidFill>
                <a:uFillTx/>
                <a:latin typeface="Arial"/>
              </a:rPr>
              <a:t>Алгоритмизация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- способ обучения химии, способствующий формированию общеучебных навыков, монологической речи, развитию коммуникативных способностей, экономии времени, выбору наиболее рационального способа решения, отсутствию эмоционального дискомф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Алгоритм -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строгое предписание выполнения действий или  </a:t>
            </a:r>
            <a:br>
              <a:rPr sz="18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                           деятельности, обязательно приводящее к      </a:t>
            </a:r>
            <a:br>
              <a:rPr sz="18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                           достижению заранее поставленной задачи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Предна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Преимущества алгорит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752480"/>
            <a:ext cx="1828800" cy="520200"/>
          </a:xfrm>
          <a:prstGeom prst="borderCallout1">
            <a:avLst>
              <a:gd name="adj1" fmla="val 18750"/>
              <a:gd name="adj2" fmla="val -8333"/>
              <a:gd name="adj3" fmla="val -15421"/>
              <a:gd name="adj4" fmla="val 11084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Побуждает ученика к действ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3434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Виды алгорит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общеучеб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тематичес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едмет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Применение способа алгоритмизации в изучении хим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решении задач и урав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описании химически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проведение лабораторных, практических, контроль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изучении, закреплении нового материала, при повторении изучен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организации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1762200"/>
            <a:ext cx="1709640" cy="520200"/>
          </a:xfrm>
          <a:prstGeom prst="borderCallout1">
            <a:avLst>
              <a:gd name="adj1" fmla="val 18750"/>
              <a:gd name="adj2" fmla="val -8333"/>
              <a:gd name="adj3" fmla="val -14037"/>
              <a:gd name="adj4" fmla="val -1132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Даёт чёткий ответ на вопрос «Как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970360"/>
            <a:ext cx="2328840" cy="520200"/>
          </a:xfrm>
          <a:prstGeom prst="borderCallout3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Чёткость, конкретность изложения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3657600"/>
            <a:ext cx="2417760" cy="307080"/>
          </a:xfrm>
          <a:prstGeom prst="borderCallout1">
            <a:avLst>
              <a:gd name="adj1" fmla="val -678"/>
              <a:gd name="adj2" fmla="val -53013"/>
              <a:gd name="adj3" fmla="val -681"/>
              <a:gd name="adj4" fmla="val 137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Лог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2680" y="4191120"/>
            <a:ext cx="2513160" cy="307080"/>
          </a:xfrm>
          <a:prstGeom prst="borderCallout1">
            <a:avLst>
              <a:gd name="adj1" fmla="val -652"/>
              <a:gd name="adj2" fmla="val -90649"/>
              <a:gd name="adj3" fmla="val -655"/>
              <a:gd name="adj4" fmla="val 137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Простот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1400" y="4724280"/>
            <a:ext cx="2585880" cy="520200"/>
          </a:xfrm>
          <a:prstGeom prst="borderCallout1">
            <a:avLst>
              <a:gd name="adj1" fmla="val -634"/>
              <a:gd name="adj2" fmla="val -75450"/>
              <a:gd name="adj3" fmla="val -636"/>
              <a:gd name="adj4" fmla="val 169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Лёгкость и быстрота запоми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тимулирование познавательных интересов и активного отношения обучающихся к усвоению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4716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химией, экологией и биолог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Формирует правильное воззрение на науку о природе как результат обобщения человеческого опы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Показывает практическую связь науки с жиз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Объясняет: происходящие вокруг процессы; суть строения и функций организмов;  как и почему существуют организмы на Земле; как сохранить имеющееся многообраз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789360"/>
            <a:ext cx="8569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«Познание начинается с удивл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ристо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Воспитание научных уб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484280"/>
            <a:ext cx="1511280" cy="71928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1484280"/>
            <a:ext cx="1942920" cy="72072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исследователь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1484280"/>
            <a:ext cx="2158920" cy="72720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исследователь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5280" y="981000"/>
            <a:ext cx="1440" cy="511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981000"/>
            <a:ext cx="0" cy="507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08720" y="981000"/>
            <a:ext cx="6480" cy="482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120" y="2841480"/>
            <a:ext cx="1857240" cy="180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Урок – исследо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Урок – лабораторная рабо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Урок – экспери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852640"/>
            <a:ext cx="2305080" cy="179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Написание и защита рефера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Написание и презентация исследовательских раб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45240" y="2824200"/>
            <a:ext cx="2047680" cy="155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амо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учи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Участие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конференция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емина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9:26:39Z</dcterms:created>
  <dc:creator>Иевлева Елена Александровна</dc:creator>
  <dc:description/>
  <dc:language>en-US</dc:language>
  <cp:lastModifiedBy>Владелец</cp:lastModifiedBy>
  <dcterms:modified xsi:type="dcterms:W3CDTF">2010-04-23T14:48:35Z</dcterms:modified>
  <cp:revision>46</cp:revision>
  <dc:subject/>
  <dc:title>Слайд 1</dc:title>
</cp:coreProperties>
</file>