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2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8B5F-958C-433A-86CE-75666FC5C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150F-634C-4A05-A6C0-B1BD26E38C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2D8-5B07-40D0-A056-0A0B7E07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B2C-CA21-4C24-92AF-0230E495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C31-BFCD-4203-B288-A8898D1F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749-0B36-474D-A75A-25736558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7B3E-8421-42E3-B2AC-1004BBC0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F3B4-C225-446A-9C4B-3874C06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077C-A0E7-4372-A17D-D3BE2EFE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BE92-B24E-4004-989A-4BCBDD80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C064-536E-4353-AF91-00E45CE6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FED2-DA24-41F8-B24E-2AD34641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7D29-3EB2-417E-8A84-A9BFFE06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8A2-13E5-405F-8733-99180816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793F-8435-4B00-A9E0-2888D56F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E6F4-2264-47A5-9DF0-55A0F255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7104-9A20-42C7-B8E5-257C8FA3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4171-D025-430F-9E09-1996AA30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2D36-D200-41B6-8460-CEFEEAC3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D09E9-DF20-47DF-A918-C4075985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697C0-3FCC-450C-8F47-5EFA0749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A08E7-2D96-404F-8740-04394CDD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2B06C-DB39-48C0-9008-9B2A5EF6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304A8-AC0C-495A-8415-DED94B4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655-D362-482F-83E4-F2A81E90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988BB-546A-4EC0-89F2-26E9751C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E9AFD-BC9C-4A38-9B67-8671AA3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6610F-DB83-4A10-A7D0-44FE8237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10140-638C-4FEF-8CCA-8DB9C99F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4B758-4B5F-4628-899E-A15A0136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52CB3-80FD-4D6B-B227-07C166F2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79F72-84AF-4E51-9558-64633F8D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AF7C-D9C8-45F0-8835-C44A1C25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0083-8BB6-42F3-A0AA-7BF836D6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635C-EA51-4E58-9904-7A12D60A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178-3F35-42D6-AD10-B563E0AF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D8F2F-535D-4398-9D87-540CD9B5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134A-BC46-41FD-91E3-E654B9B9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BE9B6-1CA2-4AAD-93EB-973DD41F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9019-2401-42CE-AD8D-BBD1BE3D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F7FA3-1CE3-46B6-ACAA-1F0AA29B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EC719-5BB7-493A-A515-1693F49A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65F7-F427-4FB3-BC15-AAD85174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8C4C-7505-4B0E-A84E-CA463581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023C-56F5-41FB-980F-379D0326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1F29B-6823-4C25-9440-B039626F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605-D0CB-429E-A37B-738825AE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EF105-98F3-4A91-9189-0C858EA6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77AB7-5953-4BC6-897A-152E8E99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DFA07-A7E9-40C1-A650-28D90443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B78C-0A0F-4E29-A3B8-C1D4A80A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5239E-7D59-4B1B-825B-E5EFF6B9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967FC-CAD4-4736-9E70-E9AC9F9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94C05-BCFD-4CA7-ADA4-42AE79EC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12D25-5AB2-4357-9B81-176A57EA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341B6-5A05-462C-998D-6E277F15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5D674-3890-4598-8B42-E82459C9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3E6-BE92-49AA-9388-6152832E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BC1CB-3391-4A88-BC46-DA376DF9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7BA6-42C4-4D94-97FB-FC54A4FA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B7BF4-4CC4-4715-8E42-20C05CA4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ACB36-6CDC-4EF3-A436-69F0E5C5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13AE2-BD8F-4673-966D-BF78D2D5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CDA6C-6BC4-485E-860A-C0848D36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C9AFE-95BF-4059-93A8-9254DDA0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4CC67-2E71-4934-BD12-563D520A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4C87D-DBFD-4DBB-90A5-126D2285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6A074-FD4A-4148-AAF8-C7ED4591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E28-4A07-41D1-BF3C-CE8C5DC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99AB-B1FF-4E01-816D-630BCD12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6313A-EF4B-4655-B3B6-9EBD52D7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3A29C-F493-4BB9-9FB9-CEED1D44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77C35-8AF4-476F-BA04-60415A39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D577-5EB4-4D14-8530-6F313D8F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AC1C-8AAC-47C3-9493-88BF46B4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CD2E6-DF1B-438D-BE7E-26AF2DF2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0CC57-7C2F-41C2-BB0E-20AD7E87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8FF0C-6357-4A18-9889-57D85212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FEB1F-8C39-4240-84C2-87E9C3F2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CE7-DECD-431E-9FB9-2F2D34E4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07CC-1FB9-480F-B43E-4DC6B091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C8C95-EE2D-4F8F-A4E8-23E8CB28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FDE9C-AEBF-4D04-8E33-A7F99B01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660ED-7335-463D-A0FD-AAF45A63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5A6D9-D612-4D5E-B7D9-C71DC5FE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671D5-2447-4164-BACA-6CDF78B8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3F976-68CF-4EC6-B6BC-6CC1DD4A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9C67D-2A3B-4AF0-91BE-33E21BE4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EDF82-043B-463C-B580-0F2720D5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4CC9A-4147-411C-BB26-D7835054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3F8-C15E-4274-ABCE-DCD2ACB5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06183-7A0B-4597-A91A-0FAED2AA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FA27-E6CE-4E56-8913-56626648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A42E-8EA6-4927-B5B8-BE31497D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0A881-1FD5-4052-A452-2765B7D5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21593-AFB4-497E-9443-1763D30C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8DB5C-41CE-49CA-ACAA-84CEF39A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3222C-4936-48A3-8820-DACA5E00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CFC6-A27C-4C44-B3DA-D0B9E2EE57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A93-1701-4DAB-BDD6-CC8DDCC9D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81AF-12F5-4ABE-9F43-EB456F1343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8EAE-E51C-4FE7-96CE-C83ED862A5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2464-A898-46E7-90F1-21E1ED878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1431-5EA8-4C42-ADC0-40A4C459D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053E-6A78-4D26-91F8-C85BD122CB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43CF-8C8F-476A-AE23-6CB692011A6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Monotype Corsiva"/>
              </a:rPr>
              <a:t>Поражения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Monotype Corsiva"/>
              </a:rPr>
              <a:t>желудочно-кишечного тракта, вызванные паразитами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3" name="Picture 9" descr="j0240719"/>
          <p:cNvPicPr/>
          <p:nvPr/>
        </p:nvPicPr>
        <p:blipFill>
          <a:blip r:embed="rId1"/>
          <a:stretch/>
        </p:blipFill>
        <p:spPr>
          <a:xfrm>
            <a:off x="611280" y="4292640"/>
            <a:ext cx="1438200" cy="2259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109309801542242de1ae828"/>
          <p:cNvPicPr/>
          <p:nvPr/>
        </p:nvPicPr>
        <p:blipFill>
          <a:blip r:embed="rId2"/>
          <a:stretch/>
        </p:blipFill>
        <p:spPr>
          <a:xfrm>
            <a:off x="6877080" y="476280"/>
            <a:ext cx="189720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resC4E8D078-0A01-022A-00E8-24FD3C667F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нитарно – просветительская работ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рьба с моллюсками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теринарные мероприятия, связанные с оздоровлением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Monotype Corsiva"/>
              </a:rPr>
              <a:t>Тениаринхоз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s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eniarhynchus saginatu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6" descr="цепень"/>
          <p:cNvPicPr/>
          <p:nvPr/>
        </p:nvPicPr>
        <p:blipFill>
          <a:blip r:embed="rId1"/>
          <a:stretch/>
        </p:blipFill>
        <p:spPr>
          <a:xfrm>
            <a:off x="179280" y="2205000"/>
            <a:ext cx="3888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5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чного диагноза необходимо обнаружение в фекалиях зрелых члеников  и  подсчёт количества боковых ветвей м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 нельзя отличить от яиц свиного цеп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покупать мяса, не прошедшего экспертиз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употреблять в пищу плохо проваренного или прожаренного мя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8" name="Picture 12" descr="ULITKa_o"/>
          <p:cNvPicPr/>
          <p:nvPr/>
        </p:nvPicPr>
        <p:blipFill>
          <a:blip r:embed="rId1"/>
          <a:stretch/>
        </p:blipFill>
        <p:spPr>
          <a:xfrm>
            <a:off x="4643280" y="4221000"/>
            <a:ext cx="26258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0" name="Picture 4" descr="j0149627"/>
          <p:cNvPicPr/>
          <p:nvPr/>
        </p:nvPicPr>
        <p:blipFill>
          <a:blip r:embed="rId1"/>
          <a:stretch/>
        </p:blipFill>
        <p:spPr>
          <a:xfrm>
            <a:off x="4319640" y="3429000"/>
            <a:ext cx="4824360" cy="3429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ероприятия, предупреждающие заражение крупного рогатого ско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явление и лечение больных, особенно работающих в животноводств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стройка уборных, не позволяющих скоту иметь доступ к фекалия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храна территории от загрязнения фекалиями челове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ероприятия, направленные на предупреждение заражения человека, - организация ветеринарной экспертизы, осмотр туш рогатого скота на мясокомбинатах, бойнях, рынках с последующей выбраков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cc"/>
                </a:solidFill>
                <a:latin typeface="Monotype Corsiva"/>
              </a:rPr>
              <a:t>Трихоцефалез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4470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ichocephalus trichiu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7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333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5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5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6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Жизненный цикл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власоглава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6" name="Picture 7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1780920" cy="2290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2028600" cy="1495440"/>
          </a:xfrm>
          <a:prstGeom prst="rect">
            <a:avLst/>
          </a:prstGeom>
          <a:ln w="0">
            <a:noFill/>
          </a:ln>
        </p:spPr>
      </p:pic>
      <p:sp>
        <p:nvSpPr>
          <p:cNvPr id="578" name="Line 10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diamond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1"/>
          <p:cNvSpPr/>
          <p:nvPr/>
        </p:nvSpPr>
        <p:spPr>
          <a:xfrm>
            <a:off x="5580000" y="3789360"/>
            <a:ext cx="79236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diamond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14" descr=""/>
          <p:cNvPicPr/>
          <p:nvPr/>
        </p:nvPicPr>
        <p:blipFill>
          <a:blip r:embed="rId3"/>
          <a:stretch/>
        </p:blipFill>
        <p:spPr>
          <a:xfrm>
            <a:off x="6732720" y="2565360"/>
            <a:ext cx="1780920" cy="22906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5"/>
          <p:cNvSpPr/>
          <p:nvPr/>
        </p:nvSpPr>
        <p:spPr>
          <a:xfrm>
            <a:off x="179280" y="4856400"/>
            <a:ext cx="30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шечник больного челов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16"/>
          <p:cNvSpPr/>
          <p:nvPr/>
        </p:nvSpPr>
        <p:spPr>
          <a:xfrm>
            <a:off x="5654520" y="4867560"/>
            <a:ext cx="31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шечник здоров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ие яиц в фекалиях. При микроскопии кала обнаруживают яйца возбудителя размерами 50х20 мкм, по форме напоминающие лимон. Половозрелые власоглавы имеют длину 3-5 см и иногда видны при ректороманоскоп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5" descr="doc1"/>
          <p:cNvPicPr/>
          <p:nvPr/>
        </p:nvPicPr>
        <p:blipFill>
          <a:blip r:embed="rId1"/>
          <a:stretch/>
        </p:blipFill>
        <p:spPr>
          <a:xfrm>
            <a:off x="1403280" y="3645000"/>
            <a:ext cx="2051280" cy="28382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блюдение правил личной гигие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ытьё рук, овощей фрукт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потребление кипячёной 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нитарно – просветительная раб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овая дегельминтизация населения с последующим уничтожением паразит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звреживание фекалий, используемых как удобрение путём компостир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а среды от загрязнения (устройство канализации, водопровод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Monotype Corsiva"/>
              </a:rPr>
              <a:t>Аскаридоз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caris lumbricoide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Picture 6" descr="15084"/>
          <p:cNvPicPr/>
          <p:nvPr/>
        </p:nvPicPr>
        <p:blipFill>
          <a:blip r:embed="rId1"/>
          <a:stretch/>
        </p:blipFill>
        <p:spPr>
          <a:xfrm>
            <a:off x="684360" y="1628640"/>
            <a:ext cx="305100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0"/>
            <a:ext cx="7272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езентацию подготови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удент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106 групп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ечебного  факульте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Белякова Рег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Прямая кишка с аскарид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319280" y="404640"/>
            <a:ext cx="48243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a5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Рентгенограмма круглого червя аскари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c2"/>
          <p:cNvPicPr/>
          <p:nvPr/>
        </p:nvPicPr>
        <p:blipFill>
          <a:blip r:embed="rId1"/>
          <a:stretch/>
        </p:blipFill>
        <p:spPr>
          <a:xfrm>
            <a:off x="900000" y="1511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Головной мозг с аскарид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ие яиц аскарид в испражне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гочная стадия аскаридоза: гиперэозинофилия и микроскопия мокроты (обнаруживают личинки аскарид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ологические методы (реакции преципитации, РИГА, РС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j0305257"/>
          <p:cNvPicPr/>
          <p:nvPr/>
        </p:nvPicPr>
        <p:blipFill>
          <a:blip r:embed="rId4"/>
          <a:stretch/>
        </p:blipFill>
        <p:spPr>
          <a:xfrm>
            <a:off x="7121520" y="620640"/>
            <a:ext cx="1612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Monotype Corsiva"/>
              </a:rPr>
              <a:t>Фасциолёз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thelmint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emato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Отряд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gine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sciola hepat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612720" y="1986120"/>
            <a:ext cx="3367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450"/>
                            </p:stCondLst>
                            <p:childTnLst>
                              <p:par>
                                <p:cTn id="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5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диагностическое значение имеют иммунологические реакции: внутрикожная аллергическая проба, реакции преципи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лабой инвазии при исследовании кала применяют метод осаждения Горячева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употреблении в пищу пораженной фасциолами печени скота в кале могут быть обнаружены транзитные яйца. В этих случаях необходим повторный анализ через две недели после исключения из рациона 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употреблять для питья сырую воду, особенно из стоячих водоём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щательно мыть зелень и овощ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5" descr="pe00014_"/>
          <p:cNvPicPr/>
          <p:nvPr/>
        </p:nvPicPr>
        <p:blipFill>
          <a:blip r:embed="rId1"/>
          <a:stretch/>
        </p:blipFill>
        <p:spPr>
          <a:xfrm>
            <a:off x="2627280" y="4221000"/>
            <a:ext cx="3456000" cy="23274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1:41:05Z</dcterms:created>
  <dc:creator>1</dc:creator>
  <dc:description/>
  <dc:language>en-US</dc:language>
  <cp:lastModifiedBy>Ната</cp:lastModifiedBy>
  <dcterms:modified xsi:type="dcterms:W3CDTF">2010-08-07T16:05:07Z</dcterms:modified>
  <cp:revision>14</cp:revision>
  <dc:subject/>
  <dc:title>Поражения  желудочно-кишечного тракта, вызванные паразитами </dc:title>
</cp:coreProperties>
</file>