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B11C-45B9-4FFC-8413-CD3C21C7A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853B-575C-43E8-9068-FA17EFF26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32C2-2A77-4CCD-929E-977B81AA0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E3D2-262B-40DE-B806-1491C300B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2BF4-318A-4844-B3EE-04D2EB267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581A-1183-49B3-9DD0-15BDEEA34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8361-FAD6-45B2-BC45-2A625E158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FE62-8744-41BD-990B-356B5A564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3B0D-3E8D-44F2-9F52-5C4205C11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66A4-4C55-4364-A8DA-840CCFE1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E0C4-D2CE-4FFC-BD73-EB28B13F3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4490-CC8B-4DF3-A8CF-1077B26DA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CD670-C566-4D8F-AC97-5421DB6D80A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CC6D5-2742-4A79-9533-E3E50062A3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26920" y="1412640"/>
            <a:ext cx="38163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Докла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Подзаголовок 2" descr=""/>
          <p:cNvPicPr/>
          <p:nvPr/>
        </p:nvPicPr>
        <p:blipFill>
          <a:blip r:embed="rId1"/>
          <a:stretch/>
        </p:blipFill>
        <p:spPr>
          <a:xfrm>
            <a:off x="208080" y="2230560"/>
            <a:ext cx="8746920" cy="1755720"/>
          </a:xfrm>
          <a:prstGeom prst="rect">
            <a:avLst/>
          </a:prstGeom>
          <a:ln w="0">
            <a:noFill/>
          </a:ln>
        </p:spPr>
      </p:pic>
      <p:pic>
        <p:nvPicPr>
          <p:cNvPr id="43" name="Подзаголовок 2" descr=""/>
          <p:cNvPicPr/>
          <p:nvPr/>
        </p:nvPicPr>
        <p:blipFill>
          <a:blip r:embed="rId2"/>
          <a:stretch/>
        </p:blipFill>
        <p:spPr>
          <a:xfrm>
            <a:off x="5126040" y="4432320"/>
            <a:ext cx="3841920" cy="20541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A3E9F-CAD3-47C7-9DF5-001CC0B48C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QL 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8360" y="1557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(англ. Structured Query Language — «язык структурированных запросов») — универсальный компьютерный информационно-логический язык, появившийся в результате разработки реляционной модели данных, применяемый для создания, модификации и управления данными в реляционных базах данных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инципиально отличается от традиционных алгоритмических языков программирования прежде всего тем, что он относится к непроцедурным языкам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настоящее время получил очень широкое распространение и фактически превратился в стандартный язык реляционных баз данных. Стандарт на язык SQL был выпущен Американским национальным институтом стандартов (ANSI) в 1986 г., а в 1987 г. Международная организация стандартов (ISO) приняла его в качестве международного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36A34-DC3E-4658-87F5-DE4432FEAC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хема взаимодействия клиентского приложения с сервером Б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52885-A1A7-47EB-AF68-F78627E72D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1017720" y="1773360"/>
            <a:ext cx="7153200" cy="43527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E0528-AAAC-447B-8F23-348B8FBEA0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3"/>
          <p:cNvSpPr/>
          <p:nvPr/>
        </p:nvSpPr>
        <p:spPr>
          <a:xfrm>
            <a:off x="684360" y="692280"/>
            <a:ext cx="770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зык SQL позволяет только манипулировать данными, но в нем отсутствуют средства создания экранного интерфейса, что необходимо для пользовательских приложений. Для создания этого интерфейса служат универсальные языки третьего поколения (C, C++, Pascal) или проблемно-ориентированные языки четвертого покол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(xBase, Informix 4Gl, Progress, Jam,...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ти языки содержат необходимые операто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вода / вывода на экран, а также операторы структурного программирова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овместимость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8000" y="1557000"/>
            <a:ext cx="8434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се конкретные реализации языка несколько отличаются друг от друга. В интересах самих же производителей гарантировать, чтобы их реализация соответствовала современным стандартам ANSI в части переносимости и удобства работы пользователей. Тем не менее каждая реализация SQL содержит усовершенствования, отвечающие требованиям того или иного сервера баз данных. Эти усовершенствования или расширения языка SQL представляют собой дополнительные команды и опции, являющиеся добавлениями к стандартному пакету и доступные в данной конкретной реализации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До 1996 года вопросами соответствия коммерческих реализаций SQL стандарту занимался в основном Национальный институт стандартов и технологий (NIST), который и устанавливал уровень соответствия стандарт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532AB-FE15-4340-93B5-E9B2380862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920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нтерактивный (или автономный) SQL дает возможность пользователям непосредственно извлекать информацию из базы или записывать в нее данные. Информация, получаемая по запросу SQL, может быть выдана на экран, в файл или на принтер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татический SQL позволяет записать фиксированный исполняемый код SQL, он обычно используется в приложениях на процедурных языка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Встроенный SQL определен как код SQL, который включен в исходный текст программы, написанной на другом языке программирования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Модульный SQL. Операторы SQL записаны в отдельных модулях, которые компонуются с модулями основного языка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инамический SQL дает возможность генерировать код SQL во время исполнения приложения и используется вместо статического SQL в тех случаях, когда при разработке приложения необходимый код SQL еще не может быть определен или зависит от того, какой выбор сделает пользователь. (диалоговые среды для построения запросов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F7ED5-5131-46CA-A8F5-11CC0173BE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92040"/>
          </a:xfrm>
          <a:prstGeom prst="rect">
            <a:avLst/>
          </a:prstGeom>
          <a:ln w="0">
            <a:noFill/>
          </a:ln>
        </p:spPr>
      </p:pic>
      <p:pic>
        <p:nvPicPr>
          <p:cNvPr id="59" name="Объект 2" descr=""/>
          <p:cNvPicPr/>
          <p:nvPr/>
        </p:nvPicPr>
        <p:blipFill>
          <a:blip r:embed="rId2"/>
          <a:stretch/>
        </p:blipFill>
        <p:spPr>
          <a:xfrm>
            <a:off x="401760" y="1262160"/>
            <a:ext cx="8285040" cy="4973400"/>
          </a:xfrm>
          <a:prstGeom prst="rect">
            <a:avLst/>
          </a:prstGeom>
          <a:ln w="0">
            <a:noFill/>
          </a:ln>
        </p:spPr>
      </p:pic>
      <p:sp>
        <p:nvSpPr>
          <p:cNvPr id="6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E74D4-5B3C-479F-8842-3E6614CDCA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еимущества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Q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B91A1-48E2-49AE-AD46-F0FBFB66A6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тандартность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езависимость от конкретных СУБД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озможность переноса с одной вычислительной системы на другую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еляционная основа язык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озможность создания интерактивных запросо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беспечение различного представления данных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озможность динамического изменения и расширения структуры БД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ддержка архитектуры клиент-серве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едостатки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Q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8FFAE-3A7B-4DF5-B492-1DF4DFD622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186920" y="1773000"/>
            <a:ext cx="71298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есоответствие реляционной модели данных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ложность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тступления от стандарто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ложность работы с иерархическими структурам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3T02:39:35Z</dcterms:created>
  <dc:creator>Антоха</dc:creator>
  <dc:description/>
  <dc:language>en-US</dc:language>
  <cp:lastModifiedBy>Антоха</cp:lastModifiedBy>
  <dcterms:modified xsi:type="dcterms:W3CDTF">2010-12-23T03:37:55Z</dcterms:modified>
  <cp:revision>17</cp:revision>
  <dc:subject/>
  <dc:title>Доклад</dc:title>
</cp:coreProperties>
</file>