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2C73-37DE-42CE-9704-3FDFCDF86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B97D-68A7-42B5-89C7-515DF046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38A9-ED3D-48AF-BCED-DF4CE91F8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FDD5-684B-4EDC-937A-2158CEA25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BC2A-8AB6-47B0-BC64-A2A1E25F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920A-B825-4F6A-87F7-23ABCEA8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421E-B705-44B5-B4F7-96F214C8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AA00-D170-43E2-85F8-8860B6AE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31A9-0FF5-43B3-8E97-328173D5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5622-DDF5-45F6-86C9-250F1B88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7782-7D39-4255-B853-6F3589A4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143D-FA13-414A-8C6C-5C8AC682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3481-FF05-4AF0-8A92-F43F7748DE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ема контрольной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1628280"/>
            <a:ext cx="64008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нализ факторов и условий проведения валютных операций­ в России (на примере валютного фьючерса)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втор:  Болотова Мария Фёдоровна Научный руководитель: к.э.н., доцент кафедры управления финансами Федорова Евгения Валер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7"/>
          <p:cNvSpPr/>
          <p:nvPr/>
        </p:nvSpPr>
        <p:spPr>
          <a:xfrm>
            <a:off x="2340000" y="620640"/>
            <a:ext cx="46800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кономический механизм осуществления операций с валютными фьючерс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4643280" y="162864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>
            <a:off x="1187280" y="2708280"/>
            <a:ext cx="720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0"/>
          <p:cNvSpPr/>
          <p:nvPr/>
        </p:nvSpPr>
        <p:spPr>
          <a:xfrm>
            <a:off x="1187280" y="2708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1"/>
          <p:cNvSpPr/>
          <p:nvPr/>
        </p:nvSpPr>
        <p:spPr>
          <a:xfrm>
            <a:off x="2771640" y="2708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2"/>
          <p:cNvSpPr/>
          <p:nvPr/>
        </p:nvSpPr>
        <p:spPr>
          <a:xfrm>
            <a:off x="4643280" y="2708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3"/>
          <p:cNvSpPr/>
          <p:nvPr/>
        </p:nvSpPr>
        <p:spPr>
          <a:xfrm>
            <a:off x="6372360" y="2708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4"/>
          <p:cNvSpPr/>
          <p:nvPr/>
        </p:nvSpPr>
        <p:spPr>
          <a:xfrm>
            <a:off x="8388360" y="2708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250920" y="3573360"/>
            <a:ext cx="1584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2050920" y="3573360"/>
            <a:ext cx="158436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крытая и закрытая пози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3995640" y="3573360"/>
            <a:ext cx="136836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урсы валют по открытой и закрытой пози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5508720" y="3573360"/>
            <a:ext cx="15843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риацион-ная марж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7236000" y="3500280"/>
            <a:ext cx="17287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атегии торговли валютными фьючерс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рочные контракты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ды срочных контра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очный контрак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договор на поставку конкретного актива в установленный срок в будущем на согласованных условия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Organization Chart 6"/>
          <p:cNvGrpSpPr/>
          <p:nvPr/>
        </p:nvGrpSpPr>
        <p:grpSpPr>
          <a:xfrm>
            <a:off x="431640" y="2924280"/>
            <a:ext cx="8208360" cy="3124800"/>
            <a:chOff x="431640" y="2924280"/>
            <a:chExt cx="8208360" cy="3124800"/>
          </a:xfrm>
        </p:grpSpPr>
        <p:cxnSp>
          <p:nvCxnSpPr>
            <p:cNvPr id="153" name="_s2052"/>
            <p:cNvCxnSpPr>
              <a:stCxn id="154" idx="0"/>
              <a:endCxn id="155" idx="2"/>
            </p:cNvCxnSpPr>
            <p:nvPr/>
          </p:nvCxnSpPr>
          <p:spPr>
            <a:xfrm flipV="1" rot="16200000">
              <a:off x="5659560" y="3049560"/>
              <a:ext cx="625680" cy="2873520"/>
            </a:xfrm>
            <a:prstGeom prst="bentConnector3">
              <a:avLst>
                <a:gd name="adj1" fmla="val 183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6" name="_s2053"/>
            <p:cNvCxnSpPr>
              <a:stCxn id="157" idx="0"/>
              <a:endCxn id="155" idx="2"/>
            </p:cNvCxnSpPr>
            <p:nvPr/>
          </p:nvCxnSpPr>
          <p:spPr>
            <a:xfrm flipV="1" rot="16200000">
              <a:off x="4224600" y="4484520"/>
              <a:ext cx="625680" cy="3600"/>
            </a:xfrm>
            <a:prstGeom prst="bentConnector3">
              <a:avLst>
                <a:gd name="adj1" fmla="val 183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2054"/>
            <p:cNvCxnSpPr>
              <a:stCxn id="159" idx="0"/>
              <a:endCxn id="155" idx="2"/>
            </p:cNvCxnSpPr>
            <p:nvPr/>
          </p:nvCxnSpPr>
          <p:spPr>
            <a:xfrm flipH="1" flipV="1" rot="5400000">
              <a:off x="2786400" y="3049920"/>
              <a:ext cx="625680" cy="2873520"/>
            </a:xfrm>
            <a:prstGeom prst="bentConnector3">
              <a:avLst>
                <a:gd name="adj1" fmla="val 183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5" name="_s2055"/>
            <p:cNvSpPr/>
            <p:nvPr/>
          </p:nvSpPr>
          <p:spPr>
            <a:xfrm>
              <a:off x="3130560" y="2924280"/>
              <a:ext cx="2810160" cy="1249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Срочные контрак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2056"/>
            <p:cNvSpPr/>
            <p:nvPr/>
          </p:nvSpPr>
          <p:spPr>
            <a:xfrm>
              <a:off x="431640" y="4799160"/>
              <a:ext cx="2462400" cy="1249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Фьючер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2057"/>
            <p:cNvSpPr/>
            <p:nvPr/>
          </p:nvSpPr>
          <p:spPr>
            <a:xfrm>
              <a:off x="3304440" y="4799160"/>
              <a:ext cx="2462400" cy="1249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Форвард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2058"/>
            <p:cNvSpPr/>
            <p:nvPr/>
          </p:nvSpPr>
          <p:spPr>
            <a:xfrm>
              <a:off x="6177600" y="4799160"/>
              <a:ext cx="2462400" cy="1249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Опцио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кторы и условия проведения валютных операций в России и за рубеж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1116000" y="1557360"/>
            <a:ext cx="25923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циональный валютный рынок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5076720" y="1557360"/>
            <a:ext cx="25909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ютные рынки иностранных государ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2268360" y="3141720"/>
            <a:ext cx="41040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акторы и условия проведения валютных опер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8"/>
          <p:cNvSpPr/>
          <p:nvPr/>
        </p:nvSpPr>
        <p:spPr>
          <a:xfrm>
            <a:off x="4500720" y="2060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9"/>
          <p:cNvSpPr/>
          <p:nvPr/>
        </p:nvSpPr>
        <p:spPr>
          <a:xfrm flipH="1">
            <a:off x="3708000" y="2060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"/>
          <p:cNvSpPr/>
          <p:nvPr/>
        </p:nvSpPr>
        <p:spPr>
          <a:xfrm flipV="1">
            <a:off x="1763640" y="270792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2"/>
          <p:cNvSpPr/>
          <p:nvPr/>
        </p:nvSpPr>
        <p:spPr>
          <a:xfrm>
            <a:off x="1763640" y="3573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3"/>
          <p:cNvSpPr/>
          <p:nvPr/>
        </p:nvSpPr>
        <p:spPr>
          <a:xfrm>
            <a:off x="6372360" y="3500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4"/>
          <p:cNvSpPr/>
          <p:nvPr/>
        </p:nvSpPr>
        <p:spPr>
          <a:xfrm flipV="1">
            <a:off x="6877080" y="27082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4500720" y="436572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826920" y="4724280"/>
            <a:ext cx="756144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акторы и условия проведения валютных операций как в Росси так и за рубежом весьма схожи и имеют непосредственную связь друг с другом. Условия, формирующиеся под воздействием различных факторов оказывают большое влияние на валютные ры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блемы и перспективы развития фьючерсных операций 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468360" y="1052640"/>
            <a:ext cx="3887640" cy="5156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блем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менение волатильности (неустойчивости) и структуре операций по различным валютным парам и категориям участнико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фляция, спрос на валюты, новостная политика стр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блема либерализации валютного рынк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ожности с разработкой системы гарантийных взносо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рмы по лимитам открытой валютной позиции для банко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4932360" y="1052640"/>
            <a:ext cx="3887640" cy="535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спектив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переход России от биржевого валютного рынка к внебиржевому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реализация наиболее оптимальных стратегий управления риском изменения обменных курсо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сширение границ возможных валютных операций путём введения новых видов валютных фьючерсо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нтроль и своевременное воздействие Правительства и Центрального Банка на валютный рынок будет содействовать развитию валютных фьючерсных опер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вод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4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468360" y="981000"/>
            <a:ext cx="82803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менение мер по переориентации российского валютного рынка с биржевого на внебирже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ведение новых фьючерсов позволит реализовывать наиболее оптимальные стратегии управления риском изменения обменных курсов. Появление контрактов на евро/доллар и евро/рубль позволит полностью хеджировать риски изменения курсовой стоимости рубля по отношению к основным валют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жная задача - создание в России Международного финансового центра и становление Рубля в качестве валюты международных расчё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обходимы доработки в системе гарантийных взносов, предоставление участникам возможности проводить сделки без 100% депонирования средств на своём счё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ё это позволит увеличить объёмы операций по валютным фьючерс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ктуальность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виду сложной экономической обстановки царящей в мире на данном этапе времени, анализ факторов и условий проведения валютных операций представляется весьма актуальным. Существует необходимость прогнозирования проблем и перспектив развития валютных фьючерсных операций в Росс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Цель исследования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вести анализ факторов и условий проведения валютных операций в России (на примере валютного фьючерс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дачи исследования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учить особенности российской классификации валютных операци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явить сущность, назначение, виды и механизм валютного фьючерс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ести сравнительный анализ фьючерса с другими видами срочных контракто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ести сравнительный анализ факторов и условий проведения валютных операций в России и за рубеж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явить проблемы и перспективы развития фьючерсных операций 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2184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авовые основы проведения   валютных операций в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569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ерации с иностранной валютой совершаются соглас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Закону «О валютном регулировании и валютном контроле» от 10 декабря 2003 года N 173-ФЗ, - указам Президен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ФЗ № 39 от 22. апреля 1996 (ред. от 27.12.2009) “О рынке ценных бумаг” (принят ГД ФС РФ 20.03.1996), (с изм. и доп., вступающими в силу с 01. 01. 2010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остановлениям Правительств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нормативным документам Центрального Банка и Министерства финансов Ро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ущность и классификация валютных опер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Organization Chart 12"/>
          <p:cNvGrpSpPr/>
          <p:nvPr/>
        </p:nvGrpSpPr>
        <p:grpSpPr>
          <a:xfrm>
            <a:off x="3419640" y="1413000"/>
            <a:ext cx="2231640" cy="430200"/>
            <a:chOff x="3419640" y="1413000"/>
            <a:chExt cx="2231640" cy="430200"/>
          </a:xfrm>
        </p:grpSpPr>
        <p:sp>
          <p:nvSpPr>
            <p:cNvPr id="54" name="_s1028"/>
            <p:cNvSpPr/>
            <p:nvPr/>
          </p:nvSpPr>
          <p:spPr>
            <a:xfrm>
              <a:off x="3419640" y="1413000"/>
              <a:ext cx="2231640" cy="43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Валютные опера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Line 26"/>
          <p:cNvSpPr/>
          <p:nvPr/>
        </p:nvSpPr>
        <p:spPr>
          <a:xfrm flipH="1">
            <a:off x="2916000" y="1844640"/>
            <a:ext cx="11509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7"/>
          <p:cNvSpPr/>
          <p:nvPr/>
        </p:nvSpPr>
        <p:spPr>
          <a:xfrm>
            <a:off x="4932360" y="1844640"/>
            <a:ext cx="1224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8"/>
          <p:cNvSpPr/>
          <p:nvPr/>
        </p:nvSpPr>
        <p:spPr>
          <a:xfrm>
            <a:off x="324000" y="1989000"/>
            <a:ext cx="3095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кущие валютные оп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9"/>
          <p:cNvSpPr/>
          <p:nvPr/>
        </p:nvSpPr>
        <p:spPr>
          <a:xfrm>
            <a:off x="4211640" y="1989000"/>
            <a:ext cx="453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ерации, связанные с движением капит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0"/>
          <p:cNvSpPr/>
          <p:nvPr/>
        </p:nvSpPr>
        <p:spPr>
          <a:xfrm>
            <a:off x="1619280" y="2349360"/>
            <a:ext cx="14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2"/>
          <p:cNvSpPr/>
          <p:nvPr/>
        </p:nvSpPr>
        <p:spPr>
          <a:xfrm>
            <a:off x="324000" y="2492280"/>
            <a:ext cx="316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версионные оп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3"/>
          <p:cNvSpPr/>
          <p:nvPr/>
        </p:nvSpPr>
        <p:spPr>
          <a:xfrm>
            <a:off x="826920" y="2852640"/>
            <a:ext cx="18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4"/>
          <p:cNvSpPr/>
          <p:nvPr/>
        </p:nvSpPr>
        <p:spPr>
          <a:xfrm>
            <a:off x="179280" y="2997360"/>
            <a:ext cx="1079640" cy="90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делка ти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DAY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5"/>
          <p:cNvSpPr/>
          <p:nvPr/>
        </p:nvSpPr>
        <p:spPr>
          <a:xfrm>
            <a:off x="2050920" y="2852640"/>
            <a:ext cx="18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6"/>
          <p:cNvSpPr/>
          <p:nvPr/>
        </p:nvSpPr>
        <p:spPr>
          <a:xfrm>
            <a:off x="1619280" y="2997360"/>
            <a:ext cx="10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7"/>
          <p:cNvSpPr/>
          <p:nvPr/>
        </p:nvSpPr>
        <p:spPr>
          <a:xfrm>
            <a:off x="1403280" y="2997360"/>
            <a:ext cx="1440000" cy="55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делка типа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TOMORROW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8"/>
          <p:cNvSpPr/>
          <p:nvPr/>
        </p:nvSpPr>
        <p:spPr>
          <a:xfrm>
            <a:off x="3276720" y="285264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9"/>
          <p:cNvSpPr/>
          <p:nvPr/>
        </p:nvSpPr>
        <p:spPr>
          <a:xfrm>
            <a:off x="2987640" y="2997360"/>
            <a:ext cx="1297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перации типа СП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0"/>
          <p:cNvSpPr/>
          <p:nvPr/>
        </p:nvSpPr>
        <p:spPr>
          <a:xfrm>
            <a:off x="4284720" y="328464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1"/>
          <p:cNvSpPr/>
          <p:nvPr/>
        </p:nvSpPr>
        <p:spPr>
          <a:xfrm>
            <a:off x="4572000" y="2781360"/>
            <a:ext cx="144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2"/>
          <p:cNvSpPr/>
          <p:nvPr/>
        </p:nvSpPr>
        <p:spPr>
          <a:xfrm>
            <a:off x="4572000" y="2781360"/>
            <a:ext cx="21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3"/>
          <p:cNvSpPr/>
          <p:nvPr/>
        </p:nvSpPr>
        <p:spPr>
          <a:xfrm>
            <a:off x="4788000" y="256536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вар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5"/>
          <p:cNvSpPr/>
          <p:nvPr/>
        </p:nvSpPr>
        <p:spPr>
          <a:xfrm>
            <a:off x="4572000" y="3500280"/>
            <a:ext cx="21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6"/>
          <p:cNvSpPr/>
          <p:nvPr/>
        </p:nvSpPr>
        <p:spPr>
          <a:xfrm>
            <a:off x="4788000" y="321300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ьюче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7"/>
          <p:cNvSpPr/>
          <p:nvPr/>
        </p:nvSpPr>
        <p:spPr>
          <a:xfrm>
            <a:off x="4572000" y="4149720"/>
            <a:ext cx="21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8"/>
          <p:cNvSpPr/>
          <p:nvPr/>
        </p:nvSpPr>
        <p:spPr>
          <a:xfrm>
            <a:off x="4788000" y="386064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ци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9"/>
          <p:cNvSpPr/>
          <p:nvPr/>
        </p:nvSpPr>
        <p:spPr>
          <a:xfrm>
            <a:off x="4572000" y="4653000"/>
            <a:ext cx="21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0"/>
          <p:cNvSpPr/>
          <p:nvPr/>
        </p:nvSpPr>
        <p:spPr>
          <a:xfrm>
            <a:off x="4788000" y="443700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ущность и назначение валютного фьючер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203640" y="1413000"/>
            <a:ext cx="3529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алютный фьючер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 flipH="1">
            <a:off x="2050560" y="1916280"/>
            <a:ext cx="1513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3924360" y="1916280"/>
            <a:ext cx="136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755640" y="2276640"/>
            <a:ext cx="2016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ущ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3059280" y="2276640"/>
            <a:ext cx="2881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755640" y="2781360"/>
            <a:ext cx="2016000" cy="366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ьючерсные контракты представляют собой соглашения, которыми торгуют на бирже. Это стандартные контракты. Валютный фьючерс не является ценной бумагой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3059280" y="2781360"/>
            <a:ext cx="28810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дназначены для покупки или продажи стандартного количества валюты с указанием числа (даты) и цены, установленной двумя сторонами. Передача оговариваемой валюты новому владельцу происходит в установленном месте и в установленное врем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7"/>
          <p:cNvSpPr/>
          <p:nvPr/>
        </p:nvSpPr>
        <p:spPr>
          <a:xfrm>
            <a:off x="5940360" y="4149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6227640" y="4005360"/>
            <a:ext cx="7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9"/>
          <p:cNvSpPr/>
          <p:nvPr/>
        </p:nvSpPr>
        <p:spPr>
          <a:xfrm>
            <a:off x="7020000" y="4149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0"/>
          <p:cNvSpPr/>
          <p:nvPr/>
        </p:nvSpPr>
        <p:spPr>
          <a:xfrm>
            <a:off x="7164360" y="335772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1"/>
          <p:cNvSpPr/>
          <p:nvPr/>
        </p:nvSpPr>
        <p:spPr>
          <a:xfrm>
            <a:off x="7164360" y="3357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2"/>
          <p:cNvSpPr/>
          <p:nvPr/>
        </p:nvSpPr>
        <p:spPr>
          <a:xfrm>
            <a:off x="7164360" y="465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3"/>
          <p:cNvSpPr/>
          <p:nvPr/>
        </p:nvSpPr>
        <p:spPr>
          <a:xfrm>
            <a:off x="7164360" y="5229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4"/>
          <p:cNvSpPr/>
          <p:nvPr/>
        </p:nvSpPr>
        <p:spPr>
          <a:xfrm>
            <a:off x="7451640" y="2637000"/>
            <a:ext cx="15130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альная покупка и продажа иностранной валю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5"/>
          <p:cNvSpPr/>
          <p:nvPr/>
        </p:nvSpPr>
        <p:spPr>
          <a:xfrm>
            <a:off x="7451640" y="4437000"/>
            <a:ext cx="1513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екуля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6"/>
          <p:cNvSpPr/>
          <p:nvPr/>
        </p:nvSpPr>
        <p:spPr>
          <a:xfrm>
            <a:off x="7380360" y="501336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рах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ды и механизм валютного фьюче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1258920" y="907920"/>
            <a:ext cx="24494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лютный фьючер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 flipH="1">
            <a:off x="1618920" y="1413000"/>
            <a:ext cx="360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2627280" y="1413000"/>
            <a:ext cx="2890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468360" y="1557360"/>
            <a:ext cx="1655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покуп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2484360" y="1557360"/>
            <a:ext cx="15112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продаж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1332000" y="2924280"/>
            <a:ext cx="273528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хнология проведения валютных фьючерсных операций предполагает рассмотрение механиз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 flipV="1">
            <a:off x="4067280" y="2420640"/>
            <a:ext cx="115236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5"/>
          <p:cNvSpPr/>
          <p:nvPr/>
        </p:nvSpPr>
        <p:spPr>
          <a:xfrm>
            <a:off x="4067280" y="3933720"/>
            <a:ext cx="11523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219640" y="2276640"/>
            <a:ext cx="26654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кономический механ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5219640" y="4437000"/>
            <a:ext cx="28814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ганизационный механ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рганизационный механизм проведения операций с валютными фьючерс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6"/>
          <p:cNvSpPr/>
          <p:nvPr/>
        </p:nvSpPr>
        <p:spPr>
          <a:xfrm>
            <a:off x="20628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1"/>
          <p:cNvSpPr/>
          <p:nvPr/>
        </p:nvSpPr>
        <p:spPr>
          <a:xfrm>
            <a:off x="20628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3"/>
          <p:cNvSpPr/>
          <p:nvPr/>
        </p:nvSpPr>
        <p:spPr>
          <a:xfrm>
            <a:off x="206280" y="402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4"/>
          <p:cNvSpPr/>
          <p:nvPr/>
        </p:nvSpPr>
        <p:spPr>
          <a:xfrm>
            <a:off x="206280" y="402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700360" y="1600200"/>
          <a:ext cx="3672000" cy="388800"/>
        </p:xfrm>
        <a:graphic>
          <a:graphicData uri="http://schemas.openxmlformats.org/drawingml/2006/table">
            <a:tbl>
              <a:tblPr/>
              <a:tblGrid>
                <a:gridCol w="3672000"/>
              </a:tblGrid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и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ных опера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Line 100"/>
          <p:cNvSpPr/>
          <p:nvPr/>
        </p:nvSpPr>
        <p:spPr>
          <a:xfrm>
            <a:off x="4140360" y="234936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02"/>
          <p:cNvSpPr/>
          <p:nvPr/>
        </p:nvSpPr>
        <p:spPr>
          <a:xfrm>
            <a:off x="2268360" y="234936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99"/>
          <p:cNvSpPr/>
          <p:nvPr/>
        </p:nvSpPr>
        <p:spPr>
          <a:xfrm>
            <a:off x="6877080" y="2276640"/>
            <a:ext cx="0" cy="266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01"/>
          <p:cNvSpPr/>
          <p:nvPr/>
        </p:nvSpPr>
        <p:spPr>
          <a:xfrm>
            <a:off x="2268360" y="2349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8"/>
          <p:cNvSpPr/>
          <p:nvPr/>
        </p:nvSpPr>
        <p:spPr>
          <a:xfrm flipV="1">
            <a:off x="6588000" y="2276640"/>
            <a:ext cx="289080" cy="2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3"/>
          <p:cNvSpPr/>
          <p:nvPr/>
        </p:nvSpPr>
        <p:spPr>
          <a:xfrm>
            <a:off x="2181240" y="2041560"/>
            <a:ext cx="1905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5"/>
          <p:cNvSpPr/>
          <p:nvPr/>
        </p:nvSpPr>
        <p:spPr>
          <a:xfrm>
            <a:off x="2181240" y="2041560"/>
            <a:ext cx="838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7"/>
          <p:cNvSpPr/>
          <p:nvPr/>
        </p:nvSpPr>
        <p:spPr>
          <a:xfrm>
            <a:off x="2181240" y="2041560"/>
            <a:ext cx="2057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8"/>
          <p:cNvSpPr/>
          <p:nvPr/>
        </p:nvSpPr>
        <p:spPr>
          <a:xfrm>
            <a:off x="2556000" y="2205000"/>
            <a:ext cx="158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купат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9"/>
          <p:cNvSpPr/>
          <p:nvPr/>
        </p:nvSpPr>
        <p:spPr>
          <a:xfrm>
            <a:off x="5003640" y="2133720"/>
            <a:ext cx="158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давц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30"/>
          <p:cNvSpPr/>
          <p:nvPr/>
        </p:nvSpPr>
        <p:spPr>
          <a:xfrm flipH="1">
            <a:off x="3347640" y="198900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31"/>
          <p:cNvSpPr/>
          <p:nvPr/>
        </p:nvSpPr>
        <p:spPr>
          <a:xfrm>
            <a:off x="5148360" y="1989000"/>
            <a:ext cx="64764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43"/>
          <p:cNvSpPr/>
          <p:nvPr/>
        </p:nvSpPr>
        <p:spPr>
          <a:xfrm>
            <a:off x="2556000" y="2781360"/>
            <a:ext cx="40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44"/>
          <p:cNvSpPr/>
          <p:nvPr/>
        </p:nvSpPr>
        <p:spPr>
          <a:xfrm>
            <a:off x="2627280" y="2781360"/>
            <a:ext cx="403236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иржевая клиринговая пал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в состав входят расчётные фирмы через которые продавцы и покупатели выходят на рынок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5"/>
          <p:cNvSpPr/>
          <p:nvPr/>
        </p:nvSpPr>
        <p:spPr>
          <a:xfrm>
            <a:off x="3419640" y="256536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46"/>
          <p:cNvSpPr/>
          <p:nvPr/>
        </p:nvSpPr>
        <p:spPr>
          <a:xfrm flipH="1">
            <a:off x="5148000" y="2492280"/>
            <a:ext cx="7189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7"/>
          <p:cNvSpPr/>
          <p:nvPr/>
        </p:nvSpPr>
        <p:spPr>
          <a:xfrm>
            <a:off x="4140360" y="4076640"/>
            <a:ext cx="1152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48"/>
          <p:cNvSpPr/>
          <p:nvPr/>
        </p:nvSpPr>
        <p:spPr>
          <a:xfrm>
            <a:off x="4716360" y="38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49"/>
          <p:cNvSpPr/>
          <p:nvPr/>
        </p:nvSpPr>
        <p:spPr>
          <a:xfrm>
            <a:off x="2268360" y="4941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51"/>
          <p:cNvSpPr/>
          <p:nvPr/>
        </p:nvSpPr>
        <p:spPr>
          <a:xfrm flipV="1">
            <a:off x="6516720" y="4941360"/>
            <a:ext cx="360360" cy="3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2"/>
          <p:cNvSpPr/>
          <p:nvPr/>
        </p:nvSpPr>
        <p:spPr>
          <a:xfrm>
            <a:off x="2700360" y="4653000"/>
            <a:ext cx="3816360" cy="61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истема банков (в неё  входят коммерческие банки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53"/>
          <p:cNvSpPr/>
          <p:nvPr/>
        </p:nvSpPr>
        <p:spPr>
          <a:xfrm>
            <a:off x="4716360" y="443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4T07:40:45Z</dcterms:created>
  <dc:creator>User</dc:creator>
  <dc:description/>
  <dc:language>en-US</dc:language>
  <cp:lastModifiedBy>Максим</cp:lastModifiedBy>
  <dcterms:modified xsi:type="dcterms:W3CDTF">2011-03-29T14:34:32Z</dcterms:modified>
  <cp:revision>8</cp:revision>
  <dc:subject/>
  <dc:title>Тема контрольной работы</dc:title>
</cp:coreProperties>
</file>