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A73-8B80-4C3D-9032-9D10D90E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672-3B8D-4B20-BA5F-1F2D482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46F-C451-4570-826C-007E2BFE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2E0-DD02-4037-B8D2-569FC54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21E-5C08-4FB8-899F-B0388E6E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C0DD-DB6A-4845-8102-58E24B2F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E05A-C8D1-4CD6-81D1-71F4F31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0EDF-F1A6-4EC8-A470-400372C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B054-FA4A-43C1-A911-9CB5FB3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3298-95CB-4C0C-8AB9-55BE1814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B86C-C4FB-47FD-8B84-5D991E4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FF7-0D64-40C7-A8A1-5791F0E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9AA-0E71-4BA4-A7DE-AEF8B5A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FE4-C2DA-4290-83C7-0E9970E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77E3-44B4-481C-9F90-D97655CB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662-1D97-47D7-8A27-CF6B41B9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F02A-20F9-428B-B589-776CD388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24B-D194-49BD-A51C-97750D4D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36E-E164-4AEB-BFF8-D83FC99F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FFF-30A8-4445-84C1-562C646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931-0A64-4C6A-A808-DC56FAA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CF7-0A34-41D3-B604-8727555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72B-9DFF-4AD8-9F1D-71FA5EE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C7E-11A0-48EE-8E33-CD5D4F3B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535-8934-4568-860E-68875BA8FB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316A-E3E3-4839-8A7E-57081557FB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149720"/>
            <a:ext cx="7704000" cy="209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 Narrow"/>
              </a:rPr>
              <a:t>Опасность </a:t>
            </a:r>
            <a:r>
              <a:rPr b="1" lang="ru-RU" sz="60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распространения проституции и ее профилактика в Росси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-4281" t="0" r="0" b="0"/>
          <a:stretch/>
        </p:blipFill>
        <p:spPr>
          <a:xfrm>
            <a:off x="6084720" y="260280"/>
            <a:ext cx="2811600" cy="453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21440" cy="5927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Отношение респондентов к необходимости усиления борьбы с проституцией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-468360" y="692280"/>
          <a:ext cx="9409320" cy="66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692280"/>
                    <a:ext cx="9409320" cy="66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Социальные последствия,  связанные с проституцией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792000" y="1773360"/>
            <a:ext cx="802800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ступления, связанные с проституци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258920" y="2924280"/>
            <a:ext cx="756108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тление подрастающих поколе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547640" y="3933720"/>
            <a:ext cx="727236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гативное психологическое воздействие на социу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050920" y="5084640"/>
            <a:ext cx="6840720" cy="5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н облику России в глазах мировой обществен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Проституция достигла уровня, подрывающего социально-экономические, духовные, нравственные основы жизнедеятельности российского общества: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375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трабанда людей в целях сексуальной эксплуа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инамика и тенденции венерических болезней и ВИЧ-инфекции свидетельствуют о значительном ухудшении здоровья насе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иминальная активность лиц, вступающих в половые сношения за пла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я прав человека в среде сексуальных работник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оституция сопряжена с созданием и распространением порнографической продукции (видео и фот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ксуальная дискриминация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ироты от  СПИДа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456000" cy="51768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1285920" y="297000"/>
            <a:ext cx="742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щитники проституции оправдыва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спрос рождает преступ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и проблема не в проститутках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а в их покупател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Федеральный Закон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 предотвращении, предупреждении и профилактике распространения проституции</a:t>
            </a:r>
            <a:r>
              <a:rPr b="0" lang="ru-RU" sz="3200" spc="-1" strike="noStrike">
                <a:solidFill>
                  <a:srgbClr val="ff00ff"/>
                </a:solidFill>
                <a:latin typeface="Calibri"/>
                <a:ea typeface="Times New Roman"/>
              </a:rPr>
              <a:t>»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- ЗАКОН КОТОРОГО НЕТ!!!!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6567840" cy="4403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837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Narrow"/>
              </a:rPr>
              <a:t>29-летней Татьяна, ВИЧ-инфицированная хроническая наркоманка и проститутка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899320" y="0"/>
            <a:ext cx="2833560" cy="4076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90" name="Rectangle 3"/>
          <p:cNvSpPr/>
          <p:nvPr/>
        </p:nvSpPr>
        <p:spPr>
          <a:xfrm>
            <a:off x="324000" y="2993400"/>
            <a:ext cx="88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Татьяны хроническая инфекция ног от постоянных уколов и её слабеющая иммунная система убивает её. Несмотря на это,  её зависимость заставляет её многократно ежедневно колоться в израненные ноги. У Татьяны есть одиннадцатилетний сын, знающий, что мать - наркоманка, но "не желающий об этом говорить". Татьяна живёт в двухкомнатной квартире с шестью другими проститутками, - все они ВИЧ-инфицированы и наркоманки. Ни у кого из них нет возможности получать антиретровирусное ле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26600"/>
            <a:ext cx="8532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Перечень хронических заболеваний, наблюдающихся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 Narrow"/>
              </a:rPr>
              <a:t>у женщин, занимающихся  проституцией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981000"/>
          <a:ext cx="8135640" cy="5851440"/>
        </p:xfrm>
        <a:graphic>
          <a:graphicData uri="http://schemas.openxmlformats.org/drawingml/2006/table">
            <a:tbl>
              <a:tblPr/>
              <a:tblGrid>
                <a:gridCol w="4479840"/>
                <a:gridCol w="944640"/>
                <a:gridCol w="271116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Симптомы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100 ч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Представительниц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оставившие занятие проституцией 1.5 года наз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шечная б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7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способность сконцентрирова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6% (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птомы простуды и грип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суста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6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желуд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7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ловные боли, мигр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56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жные заболе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3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шно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1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ливость р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е органов слу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4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 в области горла и челюстного аппара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абость мышц, парал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8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4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т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2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29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ое состояние здоровья в цел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3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ccff"/>
                          </a:solidFill>
                          <a:latin typeface="Times New Roman"/>
                          <a:ea typeface="Times New Roman"/>
                        </a:rPr>
                        <a:t>10%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86920" cy="61675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ОЗРАСТ ПРОСТИТУТОК , %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333360"/>
          <a:ext cx="856944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3360"/>
                    <a:ext cx="85694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486320" y="404640"/>
            <a:ext cx="4262400" cy="59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Коэффициент занятия проституцией в зависимости от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 Narrow"/>
              </a:rPr>
              <a:t>(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По результатам московского исследования в 2009г)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2276640"/>
          <a:ext cx="8420040" cy="3673440"/>
        </p:xfrm>
        <a:graphic>
          <a:graphicData uri="http://schemas.openxmlformats.org/drawingml/2006/table">
            <a:tbl>
              <a:tblPr/>
              <a:tblGrid>
                <a:gridCol w="1203120"/>
                <a:gridCol w="1202040"/>
                <a:gridCol w="1203120"/>
                <a:gridCol w="1203480"/>
                <a:gridCol w="1203120"/>
                <a:gridCol w="1201680"/>
                <a:gridCol w="1203480"/>
              </a:tblGrid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Times New Roman"/>
                          <a:ea typeface="Times New Roman"/>
                        </a:rPr>
                        <a:t>Высш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законченное высш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еполное средн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Начальн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4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,9 %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,1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185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Diagram 5"/>
          <p:cNvGrpSpPr/>
          <p:nvPr/>
        </p:nvGrpSpPr>
        <p:grpSpPr>
          <a:xfrm>
            <a:off x="380880" y="772200"/>
            <a:ext cx="8129520" cy="4482720"/>
            <a:chOff x="380880" y="772200"/>
            <a:chExt cx="8129520" cy="448272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2437200" y="2816280"/>
              <a:ext cx="1011600" cy="186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80880" y="2023200"/>
              <a:ext cx="2111400" cy="1208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анкт-Петербург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20-30тыс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оституток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>
              <a:off x="3204720" y="3671280"/>
              <a:ext cx="624600" cy="493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530360" y="4046400"/>
              <a:ext cx="2112480" cy="1208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овосибирск 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Барнаул –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требители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наркотиков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5061600" y="3671280"/>
              <a:ext cx="624600" cy="489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248440" y="4046400"/>
              <a:ext cx="2112480" cy="1208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Томск –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студентки местных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ВУЗов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V="1">
              <a:off x="5442840" y="2813040"/>
              <a:ext cx="1005840" cy="1854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6397920" y="2023200"/>
              <a:ext cx="2112480" cy="1208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зань –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безработные и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атери-одиночки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 flipV="1">
              <a:off x="4442400" y="1980000"/>
              <a:ext cx="0" cy="604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3386520" y="772200"/>
              <a:ext cx="2111400" cy="1207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Москва- 80-130тыс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Times New Roman"/>
                </a:rPr>
                <a:t>сексработниц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3386520" y="2584800"/>
              <a:ext cx="2111400" cy="1207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Секс-индустр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в РФ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50тыс женщи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7:36:14Z</dcterms:created>
  <dc:creator>Admin</dc:creator>
  <dc:description/>
  <dc:language>en-US</dc:language>
  <cp:lastModifiedBy>Admin</cp:lastModifiedBy>
  <dcterms:modified xsi:type="dcterms:W3CDTF">2010-05-24T18:48:11Z</dcterms:modified>
  <cp:revision>8</cp:revision>
  <dc:subject/>
  <dc:title>Опасность  распространения проституции и ее профилактика в России</dc:title>
</cp:coreProperties>
</file>