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wind.wav" ContentType="audio/x-wav"/>
  <Override PartName="/ppt/media/chimes.wav" ContentType="audio/x-wav"/>
  <Override PartName="/ppt/media/image1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8F3-AC4E-425F-B0AE-C6592DAE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808-05F8-4E19-843B-18F01F3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1C434-31F2-498D-8EDA-2B7DB2B5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1F4B2-8765-4B21-9BA1-14B2FB87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A2BF8-3E6B-4EB4-84A3-E7C9A66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7F3A2-01C6-42A4-ADDC-0B4CEE4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80929-4739-4530-A549-A68A0F9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436D8-87CB-4C12-9CC2-777AEC0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8430-59BB-40B4-AE1A-AED3AABE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C005B-3F0C-402A-A32F-D5530F58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B27A4-6262-4FD1-BE1A-DBC0E26A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D6AF-B680-468A-A17D-7E387B55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4C-AB98-44F0-86BA-DE51A89F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D2178-EB1E-4B18-929D-9FD8B163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9D225-20DD-462B-AD95-70E2841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D36DD-27F9-41CB-875B-A02EFF0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8295-AF2B-44D4-9B52-51D2C905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EED36-AC78-4016-9DCF-EB5F27DC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78D8-7C41-4677-BC5E-230BC5E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D3270-EFE1-4781-A286-1AD8F22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31E18-F642-4C3B-AB43-2D84011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3C379-9893-44F1-9D3B-0EB5E493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28C66-F39D-4365-B08C-5753674F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98C-042C-4737-B957-A9A6D245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53596-4574-4132-ACE5-463F7317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71FA9-B74A-4A9C-B828-D42E7E30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AED57-E9FC-4FC0-8E5D-F19B1CEB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E3B1-ACC8-4BB2-BABE-1A4A5FC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3272E-D09A-4BB4-BCEA-6AD3D013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CF30E-B23B-4B1F-83B1-B12C42C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6888-A2C8-4443-A5C7-1B9DDB8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F3E04-15C9-40B0-B072-7FABBED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40CD7-B288-4EF5-8793-875A37E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35D00-E3B0-40A1-B8D1-B7443BE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71DB-8792-40B2-BCE4-75360AF5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B8A5-FCF7-48B8-9234-E68E2BA9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1DD1-1C08-4370-BBF5-6492C9F9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6DFCE-EFBA-4064-8F1D-4A2BD7E0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3E7E0-21D5-47A0-84C0-358B4E2D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0A254-9C4D-4368-A4E1-84DF2E5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4D1B7-6F4C-43EF-A03C-A5FD958F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57F5B-D6C7-4B6D-8509-DE82F35D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F14B7-39FE-4F7F-83E9-D3474120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BEB36-A3D1-4938-AA10-7253916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26DFB-A84C-432B-8FF4-943272D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05DE-C71B-447E-BF18-4DBEEBAC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B8E0F-C64A-4A26-BD03-7D86AC9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5D886-E20B-4FE7-BB36-6B99684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C7C79-B31F-4886-8293-5EA9790F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CA821-4036-47F7-B77A-0BC34059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4912A-82BB-471B-8FBF-AB5756E4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91F1-8275-40D2-9FD9-28F4576D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E60A-07FE-40DE-A439-B0A2948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F6E1-3A1D-428C-8BBE-90AE993A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6414-688E-4D86-81DA-F6767D5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71B2-C887-457B-8D49-A729882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7D3-11B2-48F9-A93E-1485C32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947E-D134-43C3-B506-F17BF96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D34F-3C76-4453-A0F9-DC5271A8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1AC1-A270-4B97-AEB6-4FA7F643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DA1F-774C-42E6-B7E2-DD4977E2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DDED-2446-4CBA-866A-6D0D6A13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3A4A-671C-43E9-9DCA-5713E834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E343-BAA0-4790-923B-2977FC44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6B4C-D35A-4D58-98B4-C345868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3BF5-711D-4ADB-80FE-285D96B9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978A-8E1C-45E9-A453-0D5E3645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639-08D9-4488-A74E-4FD41036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55B5-C3A8-4E8C-8C77-EAF39573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C6BE-B4D7-4D25-881D-44A4783A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637D-90BC-4BFB-900F-C6FCCED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D350-7645-420B-8DCE-35BDCE25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7420-A973-4229-8C80-7FB318F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2B9D-65A2-4CD0-889D-549C84EA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AC16-CCE8-4BA8-92C0-91A8979D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AA4A-FD8C-4991-8E89-2296C949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6FF9-5D41-4609-A676-134B167F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0F39-AE15-4CEB-8146-C69F263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AF2-27FE-41AE-B6F0-FD83D4C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E1A4-DA59-4629-BCA9-86BDB3A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144A-D22B-49F8-851C-97B3DB7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4BDA-DFBE-48B5-8600-80A417C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B928-D5DC-4430-84EC-815F139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FC89-51E3-4C15-935C-157328E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04B7-9CE7-495A-B15B-1F22FFD1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5E06-9A15-4362-B8A6-37CDF5D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16B7-E5A0-4030-BC0B-F57ED1A3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7B4B-B46F-4156-8CE3-F25DE14B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D8BF-0914-4C56-9E6D-920296A1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E07-515F-4048-8C7C-4DF354B4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5DEE-3370-4119-B19B-91E151EA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609A-7368-4901-AA1F-91CE9CBC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A8E8-F154-44A6-B277-079FB82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9676-6F0C-46CD-BAE1-B4872AE8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FA8C-92E1-4C8E-8F0D-1D3AC112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02B83-1A23-4618-9A5C-B4D1DAC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E333-42EC-4759-B035-E1C7BDCE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CF01E-A3ED-4104-922C-0AF5046D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55DE-A382-47AE-87B9-B686EE4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E8D0-07B0-44EB-8459-E10BFEEC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314-8802-4425-B54A-BBA532DE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0118-EE97-4B43-BFC0-6387EE21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48C75-A83E-41E4-9151-E0EEE240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138A3-AD02-4F0B-934B-D5D3A7C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5583B-FD75-4FDB-8A1E-5B905BAA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37B06-70F7-4C4B-B369-590617F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75D5E-4E40-40A6-94AB-A02C60F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72F95-574B-41E7-9866-3AAA2489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8D0FA-ABA4-408A-A13C-D74F1A7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7E91E-0A2F-4D41-8D49-5008858B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5010F-7FA7-4FAB-A780-BF56F25C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2F8-237F-42C4-BA40-4E1649A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F92C1-4A4C-4D24-AA9D-61ED3178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EE0BF-2CD9-4143-971B-0F700B0D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24678-123C-49DB-A3E9-AFCC80AB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CE56-9F13-4127-BB6D-6523EA64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87657-EC24-4C94-BC58-BF6CCD0B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D15C-09C7-4590-A1C9-940B23E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8F520-0C93-41ED-A1C9-802E09DD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C5DF-0128-4BF3-B23E-0CB64B50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56BA-95A6-44DE-8FEF-3BBC63D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F43A8-1734-480E-B90B-C472063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F35-0040-41FE-AE19-86E45E6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E591-D287-4095-8345-29190A6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EF42-9846-4279-A453-7CA99F7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CCDDD-AC0F-4693-A50B-C7F0EB7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8DA84-6DE5-4DED-B25B-D5FC9762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ED8D-D188-47CC-8495-C078AE23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168339-FF13-4A9A-9739-8382911D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01298-FB16-4E29-B91C-331E177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B58CF-DA60-4050-8343-928E292D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8557A-CEDB-4814-B8E1-5756F919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E8D21-9F63-4E78-A2CD-FB520F2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E8E-ED28-4557-9C9F-2EFF965D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79DCCB-6B9A-4CA4-98EF-7267325A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56EE80-35AB-4849-A8F5-68305EA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BBF9E-E6D0-4A25-9836-99FD10E3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6DF76-8BE7-41B9-BD46-55A7737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BA021-4C73-46FC-AF8F-B12D2936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1D96DD-3DF3-4D1A-9109-E41C1D3C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3F72E-AA44-4464-BAF0-A18CD9DE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C9CF-868D-4395-8213-BB9A7E48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FA161-1B18-49E3-9107-0887DCC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1E7A6-07BB-4E5C-889D-C82EE37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FB59-DBC3-4129-AC1D-C447B02600E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-313560" y="798480"/>
            <a:ext cx="7083720" cy="6861240"/>
            <a:chOff x="-313560" y="798480"/>
            <a:chExt cx="7083720" cy="6861240"/>
          </a:xfrm>
        </p:grpSpPr>
        <p:grpSp>
          <p:nvGrpSpPr>
            <p:cNvPr id="673" name="Group 3"/>
            <p:cNvGrpSpPr/>
            <p:nvPr/>
          </p:nvGrpSpPr>
          <p:grpSpPr>
            <a:xfrm>
              <a:off x="-313560" y="798480"/>
              <a:ext cx="7083720" cy="6861240"/>
              <a:chOff x="-313560" y="798480"/>
              <a:chExt cx="7083720" cy="6861240"/>
            </a:xfrm>
          </p:grpSpPr>
          <p:grpSp>
            <p:nvGrpSpPr>
              <p:cNvPr id="674" name="Group 4"/>
              <p:cNvGrpSpPr/>
              <p:nvPr/>
            </p:nvGrpSpPr>
            <p:grpSpPr>
              <a:xfrm>
                <a:off x="-313560" y="798480"/>
                <a:ext cx="7083720" cy="6861240"/>
                <a:chOff x="-313560" y="798480"/>
                <a:chExt cx="7083720" cy="6861240"/>
              </a:xfrm>
            </p:grpSpPr>
            <p:sp>
              <p:nvSpPr>
                <p:cNvPr id="67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76" name="Group 6"/>
                <p:cNvGrpSpPr/>
                <p:nvPr/>
              </p:nvGrpSpPr>
              <p:grpSpPr>
                <a:xfrm>
                  <a:off x="-313560" y="798480"/>
                  <a:ext cx="7083720" cy="6861240"/>
                  <a:chOff x="-313560" y="798480"/>
                  <a:chExt cx="7083720" cy="6861240"/>
                </a:xfrm>
              </p:grpSpPr>
              <p:sp>
                <p:nvSpPr>
                  <p:cNvPr id="67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80" name="Group 10"/>
                  <p:cNvGrpSpPr/>
                  <p:nvPr/>
                </p:nvGrpSpPr>
                <p:grpSpPr>
                  <a:xfrm>
                    <a:off x="-313560" y="798480"/>
                    <a:ext cx="7083720" cy="6861240"/>
                    <a:chOff x="-313560" y="798480"/>
                    <a:chExt cx="7083720" cy="6861240"/>
                  </a:xfrm>
                </p:grpSpPr>
                <p:sp>
                  <p:nvSpPr>
                    <p:cNvPr id="68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82" name="Group 12"/>
                    <p:cNvGrpSpPr/>
                    <p:nvPr/>
                  </p:nvGrpSpPr>
                  <p:grpSpPr>
                    <a:xfrm>
                      <a:off x="-313560" y="805680"/>
                      <a:ext cx="7074000" cy="6854040"/>
                      <a:chOff x="-313560" y="805680"/>
                      <a:chExt cx="7074000" cy="6854040"/>
                    </a:xfrm>
                  </p:grpSpPr>
                  <p:sp>
                    <p:nvSpPr>
                      <p:cNvPr id="68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84" name="Group 14"/>
                      <p:cNvGrpSpPr/>
                      <p:nvPr/>
                    </p:nvGrpSpPr>
                    <p:grpSpPr>
                      <a:xfrm>
                        <a:off x="-313560" y="805680"/>
                        <a:ext cx="7074000" cy="6854040"/>
                        <a:chOff x="-313560" y="805680"/>
                        <a:chExt cx="7074000" cy="6854040"/>
                      </a:xfrm>
                    </p:grpSpPr>
                    <p:sp>
                      <p:nvSpPr>
                        <p:cNvPr id="68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721" name="Group 51"/>
                        <p:cNvGrpSpPr/>
                        <p:nvPr/>
                      </p:nvGrpSpPr>
                      <p:grpSpPr>
                        <a:xfrm>
                          <a:off x="-313560" y="1282320"/>
                          <a:ext cx="6462720" cy="6377400"/>
                          <a:chOff x="-313560" y="1282320"/>
                          <a:chExt cx="6462720" cy="6377400"/>
                        </a:xfrm>
                      </p:grpSpPr>
                      <p:sp>
                        <p:nvSpPr>
                          <p:cNvPr id="722" name="Oval 52"/>
                          <p:cNvSpPr/>
                          <p:nvPr/>
                        </p:nvSpPr>
                        <p:spPr>
                          <a:xfrm rot="18780000">
                            <a:off x="2446560" y="4520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5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6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8" name="Oval 58"/>
                          <p:cNvSpPr/>
                          <p:nvPr/>
                        </p:nvSpPr>
                        <p:spPr>
                          <a:xfrm rot="18780000">
                            <a:off x="1828800" y="292680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9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0" name="Oval 60"/>
                          <p:cNvSpPr/>
                          <p:nvPr/>
                        </p:nvSpPr>
                        <p:spPr>
                          <a:xfrm rot="18780000">
                            <a:off x="1578240" y="240372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1" name="Oval 61"/>
                          <p:cNvSpPr/>
                          <p:nvPr/>
                        </p:nvSpPr>
                        <p:spPr>
                          <a:xfrm rot="18780000">
                            <a:off x="1476720" y="211968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2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3" name="Oval 63"/>
                          <p:cNvSpPr/>
                          <p:nvPr/>
                        </p:nvSpPr>
                        <p:spPr>
                          <a:xfrm rot="18819600">
                            <a:off x="1291320" y="15562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73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7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7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7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83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78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0" name="Group 120"/>
              <p:cNvGrpSpPr/>
              <p:nvPr/>
            </p:nvGrpSpPr>
            <p:grpSpPr>
              <a:xfrm>
                <a:off x="4767120" y="2127240"/>
                <a:ext cx="498600" cy="490680"/>
                <a:chOff x="4767120" y="2127240"/>
                <a:chExt cx="498600" cy="490680"/>
              </a:xfrm>
            </p:grpSpPr>
            <p:sp>
              <p:nvSpPr>
                <p:cNvPr id="791" name="Oval 121"/>
                <p:cNvSpPr/>
                <p:nvPr/>
              </p:nvSpPr>
              <p:spPr>
                <a:xfrm rot="2828400">
                  <a:off x="4783320" y="2350800"/>
                  <a:ext cx="31320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2"/>
                <p:cNvSpPr/>
                <p:nvPr/>
              </p:nvSpPr>
              <p:spPr>
                <a:xfrm>
                  <a:off x="4881600" y="2249280"/>
                  <a:ext cx="255600" cy="246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3" name="Freeform 123"/>
                <p:cNvSpPr/>
                <p:nvPr/>
              </p:nvSpPr>
              <p:spPr>
                <a:xfrm>
                  <a:off x="4966560" y="2238120"/>
                  <a:ext cx="183240" cy="17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4" name="Freeform 124"/>
                <p:cNvSpPr/>
                <p:nvPr/>
              </p:nvSpPr>
              <p:spPr>
                <a:xfrm>
                  <a:off x="5031000" y="2134800"/>
                  <a:ext cx="22860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5" name="Freeform 125"/>
                <p:cNvSpPr/>
                <p:nvPr/>
              </p:nvSpPr>
              <p:spPr>
                <a:xfrm>
                  <a:off x="5176080" y="2127240"/>
                  <a:ext cx="8964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BA8B-F9D7-4216-AC18-64C6B29B9C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81C-C980-41CB-9FD3-9A421C14904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E6EF-BA9C-4038-B287-55EA4904AB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8BE-BC05-461A-ADD3-DA82EA6B7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296-CA4A-4D34-B2D5-54A7C128C1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9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9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20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0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20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0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20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0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20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0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21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4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24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25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9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9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9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9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0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0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1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21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A8A-0688-4447-A37A-CFE96D45D9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6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A44-246B-419A-A33A-63C790FBF1E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E35-A3AE-4C36-AF6D-AC85629E6E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75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8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E043-873F-495A-B385-5BD07D7F575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CF9-5D43-46CC-B4B7-B42EDA76D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1AE7-2A26-4531-8AB0-4F0CBD1843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р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езов Ром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2000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xcel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80" name="Picture 5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001000" cy="2460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9"/>
          <p:cNvSpPr/>
          <p:nvPr/>
        </p:nvSpPr>
        <p:spPr>
          <a:xfrm>
            <a:off x="2050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омощ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2" name="Рисунок 7" descr=""/>
          <p:cNvPicPr/>
          <p:nvPr/>
        </p:nvPicPr>
        <p:blipFill>
          <a:blip r:embed="rId1"/>
          <a:stretch/>
        </p:blipFill>
        <p:spPr>
          <a:xfrm>
            <a:off x="0" y="285840"/>
            <a:ext cx="5934240" cy="227628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8" descr=""/>
          <p:cNvPicPr/>
          <p:nvPr/>
        </p:nvPicPr>
        <p:blipFill>
          <a:blip r:embed="rId2"/>
          <a:stretch/>
        </p:blipFill>
        <p:spPr>
          <a:xfrm>
            <a:off x="4464000" y="1571760"/>
            <a:ext cx="4680000" cy="270504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9" descr=""/>
          <p:cNvPicPr/>
          <p:nvPr/>
        </p:nvPicPr>
        <p:blipFill>
          <a:blip r:embed="rId3"/>
          <a:stretch/>
        </p:blipFill>
        <p:spPr>
          <a:xfrm>
            <a:off x="1285920" y="4581360"/>
            <a:ext cx="593388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скаль (Попугай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2" name="Picture 7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381720" cy="5124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in"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зит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54" name="Содержимое 6" descr=""/>
          <p:cNvPicPr/>
          <p:nvPr/>
        </p:nvPicPr>
        <p:blipFill>
          <a:blip r:embed="rId1"/>
          <a:stretch/>
        </p:blipFill>
        <p:spPr>
          <a:xfrm>
            <a:off x="890640" y="1884240"/>
            <a:ext cx="73627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vert"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аблиц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59295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4" descr="1"/>
          <p:cNvPicPr/>
          <p:nvPr/>
        </p:nvPicPr>
        <p:blipFill>
          <a:blip r:embed="rId1"/>
          <a:stretch/>
        </p:blipFill>
        <p:spPr>
          <a:xfrm>
            <a:off x="1428840" y="1628640"/>
            <a:ext cx="6500880" cy="472932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8" descr=""/>
          <p:cNvPicPr/>
          <p:nvPr/>
        </p:nvPicPr>
        <p:blipFill>
          <a:blip r:embed="rId2"/>
          <a:stretch/>
        </p:blipFill>
        <p:spPr>
          <a:xfrm>
            <a:off x="1500120" y="1643040"/>
            <a:ext cx="5934240" cy="221760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9" descr=""/>
          <p:cNvPicPr/>
          <p:nvPr/>
        </p:nvPicPr>
        <p:blipFill>
          <a:blip r:embed="rId3"/>
          <a:stretch/>
        </p:blipFill>
        <p:spPr>
          <a:xfrm>
            <a:off x="1500120" y="3929040"/>
            <a:ext cx="5962680" cy="239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vert"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ы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2" name="Picture 4" descr="1B"/>
          <p:cNvPicPr/>
          <p:nvPr/>
        </p:nvPicPr>
        <p:blipFill>
          <a:blip r:embed="rId1"/>
          <a:stretch/>
        </p:blipFill>
        <p:spPr>
          <a:xfrm>
            <a:off x="324000" y="1616040"/>
            <a:ext cx="8496000" cy="447696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9" descr=""/>
          <p:cNvPicPr/>
          <p:nvPr/>
        </p:nvPicPr>
        <p:blipFill>
          <a:blip r:embed="rId2"/>
          <a:stretch/>
        </p:blipFill>
        <p:spPr>
          <a:xfrm>
            <a:off x="2143080" y="1643040"/>
            <a:ext cx="5078520" cy="1235160"/>
          </a:xfrm>
          <a:prstGeom prst="rect">
            <a:avLst/>
          </a:prstGeom>
          <a:ln w="0">
            <a:noFill/>
          </a:ln>
        </p:spPr>
      </p:pic>
      <p:pic>
        <p:nvPicPr>
          <p:cNvPr id="964" name="Рисунок 10" descr=""/>
          <p:cNvPicPr/>
          <p:nvPr/>
        </p:nvPicPr>
        <p:blipFill>
          <a:blip r:embed="rId3"/>
          <a:stretch/>
        </p:blipFill>
        <p:spPr>
          <a:xfrm>
            <a:off x="2143080" y="2857680"/>
            <a:ext cx="5165640" cy="1060200"/>
          </a:xfrm>
          <a:prstGeom prst="rect">
            <a:avLst/>
          </a:prstGeom>
          <a:ln w="0">
            <a:noFill/>
          </a:ln>
        </p:spPr>
      </p:pic>
      <p:pic>
        <p:nvPicPr>
          <p:cNvPr id="965" name="Рисунок 11" descr=""/>
          <p:cNvPicPr/>
          <p:nvPr/>
        </p:nvPicPr>
        <p:blipFill>
          <a:blip r:embed="rId4"/>
          <a:stretch/>
        </p:blipFill>
        <p:spPr>
          <a:xfrm>
            <a:off x="2071800" y="4000680"/>
            <a:ext cx="512604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 №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7" name="Содержимое 7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38760" cy="1447920"/>
          </a:xfrm>
          <a:prstGeom prst="rect">
            <a:avLst/>
          </a:prstGeom>
          <a:ln w="0">
            <a:noFill/>
          </a:ln>
        </p:spPr>
      </p:pic>
      <p:pic>
        <p:nvPicPr>
          <p:cNvPr id="968" name="Рисунок 8" descr=""/>
          <p:cNvPicPr/>
          <p:nvPr/>
        </p:nvPicPr>
        <p:blipFill>
          <a:blip r:embed="rId2"/>
          <a:stretch/>
        </p:blipFill>
        <p:spPr>
          <a:xfrm>
            <a:off x="2143080" y="3071880"/>
            <a:ext cx="48052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 №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0" name="Содержимое 7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800600" cy="847440"/>
          </a:xfrm>
          <a:prstGeom prst="rect">
            <a:avLst/>
          </a:prstGeom>
          <a:ln w="0">
            <a:noFill/>
          </a:ln>
        </p:spPr>
      </p:pic>
      <p:pic>
        <p:nvPicPr>
          <p:cNvPr id="971" name="Рисунок 8" descr=""/>
          <p:cNvPicPr/>
          <p:nvPr/>
        </p:nvPicPr>
        <p:blipFill>
          <a:blip r:embed="rId2"/>
          <a:stretch/>
        </p:blipFill>
        <p:spPr>
          <a:xfrm>
            <a:off x="2357280" y="2928960"/>
            <a:ext cx="480564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редний бал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4" name="Picture 4" descr="213"/>
          <p:cNvPicPr/>
          <p:nvPr/>
        </p:nvPicPr>
        <p:blipFill>
          <a:blip r:embed="rId1"/>
          <a:stretch/>
        </p:blipFill>
        <p:spPr>
          <a:xfrm>
            <a:off x="468360" y="1643040"/>
            <a:ext cx="8207280" cy="5000760"/>
          </a:xfrm>
          <a:prstGeom prst="rect">
            <a:avLst/>
          </a:prstGeom>
          <a:ln w="0">
            <a:noFill/>
          </a:ln>
        </p:spPr>
      </p:pic>
      <p:pic>
        <p:nvPicPr>
          <p:cNvPr id="975" name="Рисунок 9" descr=""/>
          <p:cNvPicPr/>
          <p:nvPr/>
        </p:nvPicPr>
        <p:blipFill>
          <a:blip r:embed="rId2"/>
          <a:stretch/>
        </p:blipFill>
        <p:spPr>
          <a:xfrm>
            <a:off x="1714680" y="1643040"/>
            <a:ext cx="5943600" cy="2538360"/>
          </a:xfrm>
          <a:prstGeom prst="rect">
            <a:avLst/>
          </a:prstGeom>
          <a:ln w="0">
            <a:noFill/>
          </a:ln>
        </p:spPr>
      </p:pic>
      <p:pic>
        <p:nvPicPr>
          <p:cNvPr id="976" name="Рисунок 10" descr=""/>
          <p:cNvPicPr/>
          <p:nvPr/>
        </p:nvPicPr>
        <p:blipFill>
          <a:blip r:embed="rId3"/>
          <a:stretch/>
        </p:blipFill>
        <p:spPr>
          <a:xfrm>
            <a:off x="2286000" y="4214880"/>
            <a:ext cx="4699080" cy="2363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4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xcel(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решение задачи графически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78" name="Содержимое 6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781520" cy="3771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25:04Z</dcterms:created>
  <dc:creator>123</dc:creator>
  <dc:description/>
  <dc:language>en-US</dc:language>
  <cp:lastModifiedBy>123</cp:lastModifiedBy>
  <dcterms:modified xsi:type="dcterms:W3CDTF">2008-02-18T12:08:24Z</dcterms:modified>
  <cp:revision>11</cp:revision>
  <dc:subject/>
  <dc:title>Презентация</dc:title>
</cp:coreProperties>
</file>