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wmf" ContentType="image/x-wmf"/>
  <Override PartName="/ppt/media/image9.wmf" ContentType="image/x-wmf"/>
  <Override PartName="/ppt/media/image14.png" ContentType="image/png"/>
  <Override PartName="/ppt/media/image16.wmf" ContentType="image/x-wmf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1EDD-07FF-44E3-A522-D953064D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EEBB-8888-4CE5-9828-76206304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D82E-266F-4990-94CE-AF195D0B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AF5B-4311-4C7F-AE75-30D35D6E1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2114-C6D3-4241-8F1F-F1C8CA04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9AD4-AC80-4EFF-997A-D402D0BF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9125-9D5C-4390-893E-6589B561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D542-7C13-49DF-A5F5-DADF709C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C2E9-697D-441E-8A5A-43C05D65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648B-3847-437E-AA9D-E031653C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871D-5993-4B3F-AED6-AEFE33F6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D08E-0167-48D8-9C06-A3100D09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92d0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80D5-DE10-4F60-B436-D96FF9BE0C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285840"/>
            <a:ext cx="835812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НИСТЕРСТВО ОБРАЗОВАНИЯ И НАУКИ РОССИЙСКОЙ ФЕДЕРАЦ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ЕДРАЛЬНОЕ АГЕНТСТВО ПО ОБРАЗОВАНИ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СУДАРСТВЕННОЕ УЧРЕЖДЕНИЕ ВЫСШЕГО ПРОФЕССИОНАЛЬНОГО ОБРАЗОВАНИ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ОССИЙСКИЙ ГОСУДАРСТВЕННЫЙ СОЦИАЛЬНЫЙ УНИВЕРСИТЕ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акультет социальной работы, педагогики и ювенолог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0040" y="3429000"/>
            <a:ext cx="82152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ПУСКНАЯ КВАЛИФИКАЦИОННАЯ РАБ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м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«Благотворительность как социальный феномен и ее возрождение в современной Росси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25756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Социально-культурная сущность благотвори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Object 3"/>
          <p:cNvGraphicFramePr/>
          <p:nvPr/>
        </p:nvGraphicFramePr>
        <p:xfrm>
          <a:off x="2928960" y="357120"/>
          <a:ext cx="594360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8960" y="357120"/>
                    <a:ext cx="594360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Object 5"/>
          <p:cNvGraphicFramePr/>
          <p:nvPr/>
        </p:nvGraphicFramePr>
        <p:xfrm>
          <a:off x="642960" y="4071960"/>
          <a:ext cx="7500960" cy="26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60" y="4071960"/>
                    <a:ext cx="7500960" cy="26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Мотивы оказания благотворительн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Object 1"/>
          <p:cNvGraphicFramePr/>
          <p:nvPr/>
        </p:nvGraphicFramePr>
        <p:xfrm>
          <a:off x="1071720" y="857160"/>
          <a:ext cx="6929280" cy="579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857160"/>
                    <a:ext cx="6929280" cy="579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Мотивы оказания благотворительной помощи</a:t>
            </a:r>
            <a:br>
              <a:rPr sz="4000"/>
            </a:b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(по данным социологических опросов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Диаграмма 3" descr=""/>
          <p:cNvPicPr/>
          <p:nvPr/>
        </p:nvPicPr>
        <p:blipFill>
          <a:blip r:embed="rId1"/>
          <a:stretch/>
        </p:blipFill>
        <p:spPr>
          <a:xfrm>
            <a:off x="208080" y="1420920"/>
            <a:ext cx="8727840" cy="51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Возможные направления и виды благотворительной помощ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Object 1"/>
          <p:cNvGraphicFramePr/>
          <p:nvPr/>
        </p:nvGraphicFramePr>
        <p:xfrm>
          <a:off x="571680" y="1571760"/>
          <a:ext cx="8001000" cy="26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571760"/>
                    <a:ext cx="8001000" cy="26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Object 4"/>
          <p:cNvGraphicFramePr/>
          <p:nvPr/>
        </p:nvGraphicFramePr>
        <p:xfrm>
          <a:off x="1103400" y="4429080"/>
          <a:ext cx="6981840" cy="22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3400" y="4429080"/>
                    <a:ext cx="69818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2920" y="28548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Приоритетные направления благотворительной деятельности коммерческих предприят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Диаграмма 3" descr=""/>
          <p:cNvPicPr/>
          <p:nvPr/>
        </p:nvPicPr>
        <p:blipFill>
          <a:blip r:embed="rId1"/>
          <a:stretch/>
        </p:blipFill>
        <p:spPr>
          <a:xfrm>
            <a:off x="133200" y="1420920"/>
            <a:ext cx="880272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Формы благотворительной деятельности коммерческих организа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Диаграмма 2" descr=""/>
          <p:cNvPicPr/>
          <p:nvPr/>
        </p:nvPicPr>
        <p:blipFill>
          <a:blip r:embed="rId1"/>
          <a:stretch/>
        </p:blipFill>
        <p:spPr>
          <a:xfrm>
            <a:off x="353880" y="1279440"/>
            <a:ext cx="8582040" cy="52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Object 5"/>
          <p:cNvGraphicFramePr/>
          <p:nvPr/>
        </p:nvGraphicFramePr>
        <p:xfrm>
          <a:off x="0" y="571680"/>
          <a:ext cx="8916840" cy="59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71680"/>
                    <a:ext cx="8916840" cy="59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2.1. Анализ возрождения тенденций благотворительности на примере благотворительного фонда «Радуга Тарусская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Object 1"/>
          <p:cNvGraphicFramePr/>
          <p:nvPr/>
        </p:nvGraphicFramePr>
        <p:xfrm>
          <a:off x="285840" y="1357200"/>
          <a:ext cx="857232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357200"/>
                    <a:ext cx="857232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04384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2.2. Оценка условий развития благотвори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13840" y="4857480"/>
            <a:ext cx="8643960" cy="17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аким образом, как показывает научное исследование, для эффективного развития благотворительности в стране существует несколько серьезных препятствий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лавные из них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благоприятная для благотворителей и благополучателей система налогообложе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доверчивое, часто негативное отношение к благотворительности и ее представителям со стороны российского обществ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Диаграмма 6" descr=""/>
          <p:cNvPicPr/>
          <p:nvPr/>
        </p:nvPicPr>
        <p:blipFill>
          <a:blip r:embed="rId1"/>
          <a:stretch/>
        </p:blipFill>
        <p:spPr>
          <a:xfrm>
            <a:off x="353880" y="1279440"/>
            <a:ext cx="83692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создания благоприятных условий для развития филантропии в России необходим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совершенствование законодательной и нормативной базы в сфере благотворительност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введение благоприятного налогового режима для доноров и получателей благотворительных средст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обеспечение гарантий прав собственности и создание условий для развития предпринимательств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повышение открытости и прозрачности донорских структур для общества и вла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формирование культуры благотворительности, этических стандартов, высокого профессионализма и ответственности доноро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формирование позитивного отношения к филантропической деятельности и институтам филантроп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формирование системы государственного поощр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Объект исследования</a:t>
            </a:r>
            <a:r>
              <a:rPr b="0" i="1" lang="ru-RU" sz="44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 благотворительность как социальный феноме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3214440"/>
            <a:ext cx="822960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Предмет</a:t>
            </a:r>
            <a:r>
              <a:rPr b="0" lang="ru-RU" sz="4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зрождение благотворительности в современной Росс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2.3. Совершенствование законодательной баз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27 сентября 2007 года прошли слушания Общественной палаты РФ по новому законопроекту МЭРТа о некоммерческих организациях («О внесении изменений в некоторые законодательные акты Российской Федерации» (в части совершенствования налогообложения некоммерческих организаций, регулирования благотворительной деятельности и механизмов общественного контроля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части совершенствования налогообложения некоммерческих организаций и регулирования благотворительной деятельности, наиболее актуальными являютс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ложения по расширению льгот на доходы физических лиц, относящихся к социально-уязвимым категориям населе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ведение новых налоговых стимулов для физических лиц, участвующих в благотворительной деятельности, в том числе в формировании целевого капитала некоммерческих организаци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ополнения в Налоговый кодекс Российской Федерации, направленные на установление равных условий для некоммерческих организаций и государственных и муниципальных учреждений при налогообложении налогом на добавленную стоимость реализации социальных услуг, оплачиваемых за счет средств бюджето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доставление льгот по налогам на прибыль некоммерческих организаций, осуществляющих платные виды деятельности в социально-значимых сфера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становление правительства об эндаумент-фондах приводит в действие принятый ранее федеральный закон "О порядке формирования и использования целевого капитала некоммерческих организаций" и освобождает благополучателей от налогов с доходов, полученных от соответствующего инвестирова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стоящим подарком "третьему" сектору станет освобождение от НД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ще один хороший правовой сюрприз связан с конкурсом на получение президентских грант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2.4. Стимулирование благотвори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00040" y="1213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гласно статистическим  данным, необходимо стимулирование благотворительной деятельности по следующим параметрам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Диаграмма 3" descr=""/>
          <p:cNvPicPr/>
          <p:nvPr/>
        </p:nvPicPr>
        <p:blipFill>
          <a:blip r:embed="rId1"/>
          <a:stretch/>
        </p:blipFill>
        <p:spPr>
          <a:xfrm>
            <a:off x="353880" y="1994040"/>
            <a:ext cx="8485200" cy="45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208080" y="428760"/>
          <a:ext cx="8689680" cy="585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080" y="428760"/>
                    <a:ext cx="8689680" cy="58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285920"/>
            <a:ext cx="8472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ыла изучена история становления благотворительности в Росси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ыла изучена сущность понятия «благотворительность», мотивы оказания благотворительной помощи, направления и виды благотворительной помощи с поправкой на современные приоритеты жизн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и оценке условий развития благотворительности изучены мнения предпринимателей, поступки частных лиц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ыло изучено, как совершенствуется законодательная база на данный момент времен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ыли изучены возможности и способы стимулирования государством субъектов благотворительной деятельност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цель исследования</a:t>
            </a:r>
            <a:r>
              <a:rPr b="0" lang="ru-RU" sz="4400" spc="-1" strike="noStrike">
                <a:solidFill>
                  <a:srgbClr val="0000cc"/>
                </a:solidFill>
                <a:latin typeface="Calibri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учить феномен благотворительной деятельности в благотворительном фонде «Радуга Тарусская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задачи</a:t>
            </a:r>
            <a:r>
              <a:rPr b="0" lang="ru-RU" sz="4400" spc="-1" strike="noStrike">
                <a:solidFill>
                  <a:srgbClr val="0000cc"/>
                </a:solidFill>
                <a:latin typeface="Calibri"/>
              </a:rPr>
              <a:t>: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ссмотреть благотворительность как социальный феномен и выявить его историко-культурные предпосылки и духовно-нравственную основу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характеризовать виды, формы,  мотивы и сферы благотворительной деятельност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анализировать современную ситуацию в сфере благотворительности; изучить возрождение благотворительных традиций на современном историческом этап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зучить правовую базу, дающую возможность активизации благотворительной деятельно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истематизировать теоретические и статистические данные, характеризующие современную ситуацию в сфере благотворительно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явить существующие проблемы в области благотворительности, проанализировать какие шаги предпринимаются для решения этих пробле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Теоретическая значимость работы</a:t>
            </a:r>
            <a:r>
              <a:rPr b="0" lang="ru-RU" sz="40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оит в изучении методических основ развития благотворительности на базе повышения мотивации коммерческих и филантропических организаций в осуществлении благотворительной деятельности и совершенствования государственного и общественного контроля за использованием благотворительных средст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Практическая значимость работы</a:t>
            </a:r>
            <a:r>
              <a:rPr b="0" lang="ru-RU" sz="40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пределяется возможностью их использования в процессе дальнейшего развития благотворительной деятельности в благотворительном фонде «Радуга Тарусская» и в других  благотворительных фондах. Положения, выводы и предложения дипломного исследования имеют практическое значение для муниципальных органов власти и органов власти Калужской области, для благотворительных организаций, а также для коммерческих организаций, осуществляющих филантропическую деятельность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Object 2"/>
          <p:cNvGraphicFramePr/>
          <p:nvPr/>
        </p:nvGraphicFramePr>
        <p:xfrm>
          <a:off x="285840" y="714240"/>
          <a:ext cx="8397720" cy="41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714240"/>
                    <a:ext cx="8397720" cy="41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alibri"/>
              </a:rPr>
              <a:t>История становления благотворительности в Росс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1357200" y="1428840"/>
          <a:ext cx="6183360" cy="54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1428840"/>
                    <a:ext cx="6183360" cy="54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Calibri"/>
              </a:rPr>
              <a:t>Социально-культурная сущность благотворитель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Object 3"/>
          <p:cNvGraphicFramePr/>
          <p:nvPr/>
        </p:nvGraphicFramePr>
        <p:xfrm>
          <a:off x="857160" y="1428840"/>
          <a:ext cx="7286760" cy="51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1428840"/>
                    <a:ext cx="7286760" cy="51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07:17:40Z</dcterms:created>
  <dc:creator>Aнюта</dc:creator>
  <dc:description/>
  <dc:language>en-US</dc:language>
  <cp:lastModifiedBy>Aнюта</cp:lastModifiedBy>
  <dcterms:modified xsi:type="dcterms:W3CDTF">2008-03-19T13:02:37Z</dcterms:modified>
  <cp:revision>50</cp:revision>
  <dc:subject/>
  <dc:title>МИНИСТЕРСТВО ОБРАЗОВАНИЯ И НАУКИ РОССИЙСКОЙ ФЕДЕРАЦИИ ФЕДРАЛЬНОЕ АГЕНТСТВО ПО ОБРАЗОВАНИЮ ГОСУДАРСТВЕННОЕ УЧРЕЖДЕНИЕ ВЫСШЕГО ПРОФЕССИОНАЛЬНОГО ОБРАЗОВАНИЯ РОССИЙСКИЙ ГОСУДАРСТВЕННЫЙ СОЦИАЛЬНЫЙ УНИВЕРСИТЕТ Факультет социальной работы, педагогики и ювенологии</dc:title>
</cp:coreProperties>
</file>