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DBF4-25CD-4771-BCFB-D88761D2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9316-27CA-4E63-B2C3-946EB538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BF64-186B-4C4E-8F6C-8C3E8917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7923-3C1A-40AF-BEBD-914AAFF9D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AC5A-FCA8-462B-BE03-648CA42E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8F7C-8AA3-4215-89FA-02BD7AD4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8C40-0719-4E13-BE91-50623581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EE6E-7BD9-45F2-89A8-E8E0232C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13F0-9296-47F2-A74D-3FBB7075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C85B-9F9B-4745-BC72-46F91E70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FDEA-1B43-4D25-B5E8-430333F5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96C5-D360-4A76-A240-FD2323C3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3983-B82E-4A1E-9F3D-B1E64CCBF7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пользование тренажеров в технической и физической подготовке начинающих волейболис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выявить и обосновать, что использование тренажерных устройств, в процессе подготовки волейболистов повышает их спортивные результа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роанализировать существующую научно-методическую литературу по данной проблеме иссле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определить роль тренажерных устройств, как одного из важных средств в процессе подготовки волейболи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расскрыть значение использования тренажеров в физической и технической подготовке волейболи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проследить за динамикой физической подготовки волейболис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 исследовани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оцесс подготовки волейболис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мет исследования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ажеры и тренажерные устройства, как одно из средств повышения физической подготовл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потеза исследовани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едположим что, используя тренажерные устройства в процессе подготовки волейболистов, повысится уровень физической подготовленности атакующего уд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ы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Анализа литературных источ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едагогическое тестир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Метод математических статист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ние проводилось на базе Великодворской средней общеобразовательной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-1234440" y="324576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,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7772040" y="3668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2"/>
          <p:cNvSpPr/>
          <p:nvPr/>
        </p:nvSpPr>
        <p:spPr>
          <a:xfrm>
            <a:off x="1500120" y="660960"/>
            <a:ext cx="682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казатели технической подготовки занимаю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тренажерами и тренажерными устройства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258920" y="1484280"/>
          <a:ext cx="7273800" cy="3895920"/>
        </p:xfrm>
        <a:graphic>
          <a:graphicData uri="http://schemas.openxmlformats.org/drawingml/2006/table">
            <a:tbl>
              <a:tblPr/>
              <a:tblGrid>
                <a:gridCol w="2424240"/>
                <a:gridCol w="2425680"/>
                <a:gridCol w="242388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.И.О. занимающих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казатели техники атакующего удара в начале исследов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казатели техники атакующего удара в конце иссле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ладков А.\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ычков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ободин Ж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пов 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ливанов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.арифм.= (3+2+2+1+2):5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.арифм.= (3+3+3+2+2):5=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Rectangle 91"/>
          <p:cNvSpPr/>
          <p:nvPr/>
        </p:nvSpPr>
        <p:spPr>
          <a:xfrm>
            <a:off x="2268360" y="5514840"/>
            <a:ext cx="477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. арифм .= һ : 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ŗ –количество занимаю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ħ – сумма количеств попада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468360" y="47592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азатель технической подготовки занимающихся без тренажеров и тренажерных устрой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403280" y="2421000"/>
          <a:ext cx="6077160" cy="4114800"/>
        </p:xfrm>
        <a:graphic>
          <a:graphicData uri="http://schemas.openxmlformats.org/drawingml/2006/table">
            <a:tbl>
              <a:tblPr/>
              <a:tblGrid>
                <a:gridCol w="2025720"/>
                <a:gridCol w="2025720"/>
                <a:gridCol w="202572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.И.О. занимающих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казатели техники атакующего удара в начале исследов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казатели техники атакующего удара в конце иссле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йцев 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ычков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устов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красов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рзин 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. арифм. = (2+2+1+0+2):5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. арифм. = (2+3+1+1+2):5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258920" y="1916280"/>
          <a:ext cx="6264360" cy="4392360"/>
        </p:xfrm>
        <a:graphic>
          <a:graphicData uri="http://schemas.openxmlformats.org/drawingml/2006/table">
            <a:tbl>
              <a:tblPr/>
              <a:tblGrid>
                <a:gridCol w="2087640"/>
                <a:gridCol w="2089080"/>
                <a:gridCol w="2087640"/>
              </a:tblGrid>
              <a:tr h="194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09:48:46Z</dcterms:created>
  <dc:creator>Приятель</dc:creator>
  <dc:description/>
  <dc:language>en-US</dc:language>
  <cp:lastModifiedBy>Максим</cp:lastModifiedBy>
  <dcterms:modified xsi:type="dcterms:W3CDTF">2010-10-30T18:17:04Z</dcterms:modified>
  <cp:revision>3</cp:revision>
  <dc:subject/>
  <dc:title>Использование тренажеров в технической и физической подготовке начинающих волейболистов.</dc:title>
</cp:coreProperties>
</file>