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439-5BB4-41DC-B6B0-644A3004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FEF-BF98-4BA2-867C-6DDC2603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7EFFF-A381-4526-AD42-E7ED5F0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AE199-BD34-4E05-A1FC-31B43120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A2BA3A-7647-4B1F-9CBC-2E90EF80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E7B94-F208-4ECC-B66A-F7D6F1B3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DC8FB-CBFD-48E7-BD73-A9A74D1E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326E7-4929-47A2-8A24-4B4E32AA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3F9C8-B18F-4165-96C7-1A09D87D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D9B28-EF11-4438-897E-94F5AC78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E82D4-5C1E-48BF-BFB2-3815DED4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04D2-9490-41DD-B794-D7B35378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06F-0666-4312-AD71-BF3F5D47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2E287-9587-4D9B-A1DF-32AD3FCF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62CBD-CAC7-4BB3-A4E1-BF454CFA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BBCB7-53F4-46AA-9044-9EBC133D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62AF3-531C-4170-BF5D-F21EB1D9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2C29B-5A3D-4B9F-9D52-DF283E5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0D09A-0305-4564-B0BF-6E0C090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027EC-F801-4F58-ABD5-B87B071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2301D-1DA0-431D-B0AA-F997311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12FA3-C9DB-43B4-8198-DFEB1FA0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CED52-520A-4C73-A97D-6102992B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5D1-2C97-4394-8438-AC81F209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79ACD-FFA0-4494-997B-F836A457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65419-2638-4E35-917C-C07F327B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73751-A93F-4833-8F99-A6EBCE92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E99EC-07C8-45EB-801D-5B3B1708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F09B0-5458-41C1-9E2E-BF9508FB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55425-B817-4C62-A39E-AC5DE9F5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7971-DB79-4E99-9A90-B33982AC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373E5-08C4-4644-87B6-D08E7E56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24F84-68FC-4F86-A9F3-F532995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78AD4-9CFA-4C5B-B2AF-24F137B0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34CF-AE54-4C6E-B1F2-AA8072D0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49DD6-8DF8-48EF-9906-4A474317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AD29D-0378-47EB-907A-447DB045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E932C-8E5C-4241-85C2-23C5735D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C4A3A-1D25-4A8A-B0A9-343D7C92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83011-4731-4FCD-81FF-41A231CC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A0530-48CD-406F-A76E-193F512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A53B0-4E29-4C74-8070-81DFA81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AC624-AA82-4B51-A4F0-47C6D0B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5F7BA-4FC8-4648-BB97-0FD9F463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B492C-0853-47D9-AD51-3761F31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A1EE-2EFE-40DD-B344-17FF2966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135D8-1C0D-41C9-B100-A1B7381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BEFE2-0EE5-4EF5-B427-D090C2D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B0ED2-4D4F-4C97-9E17-A394C044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41CD4-E6D4-4A0F-9B04-49BFB9B4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D951B-195A-4A00-8391-52E56DCB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11CB5A-01FE-40D0-8B87-C48BE417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D9AAA5-31F1-409F-8570-AB8D39C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4A1661-DAE6-4940-92CF-B8D257C9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C57E3-A4E8-45AE-8788-AB304EA0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420E01-5C11-4A54-98CE-169D179A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8788-F8A4-482C-97D2-6568E2E4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1B4CC3-D235-4FC7-B18D-85AB6E82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DD8E36-5B4F-40CF-9297-5E19DA3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66C264-04C2-459F-B946-34C1875E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002E75-FB29-429D-8BCB-C9D08FA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0CE0A8-C0AF-46C6-AE3F-EA784DDC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96E249-24B0-4BEA-8E72-896A6436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741BA5-4245-4A36-985A-2565948C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F284D-CD0C-4ABB-8365-A210005D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0086B-A886-40F7-9A1A-CE33FC13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4FA228-8A07-4380-A925-8DF72C7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8F2A-4637-4B02-B1E4-775CD7F2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A194D-A8D1-412D-9A75-663468BC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41AAE-EFF2-4144-87CD-D1DB33DB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655B5-ECFF-4D75-88C3-1251CB5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5C01C-9C65-45CC-AD4E-1601355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89EC4-8A80-45F1-9863-C039F61A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D8AE1-916F-4E47-9EBF-60AC49F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52E3B-9B0C-4AAE-A8EB-B44BA29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B77D2-F55C-4F3A-91CC-5BC8B36A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E2654-EA81-4008-A402-21C28420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53F3-AF54-4605-B795-6768D76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1B67-A50C-448E-9AD0-5DDCE869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DD7B-0D50-48A1-9B64-FBC9AB5E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B75-ADFA-48A4-928B-F2D77883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FBD7-D9E4-44B8-A932-4EA392A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F38E-53FA-4D65-A53D-802407A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8A45-FE10-4DEE-9B66-3E9583BB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B94D-1867-4DE9-AD82-C88E053E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B36-81A0-4C30-9374-B5F9CCEC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88D0-43AA-4DB3-9124-91B8FA71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E7C6-514F-4735-8C6E-A5840E42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86C9-1E0E-43FC-BB34-4168C1F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3D12-B042-4C82-BCCF-FFFE17B8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61BA-C1DA-4227-A519-EEB8A171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9E4-3418-4908-A71E-B1FD2495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1FDBC-21E2-4EE5-8829-F0CFA016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B2CE-54BD-44B4-AB3E-657226DB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02DE-30AB-4ED7-8E81-F095271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6A6B4-0228-40FF-B7B0-52943794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BA90-5C32-4CA0-910E-6B16D0BA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86CAC-0165-4CE2-BA1F-6CA7BD2B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B6D8-0CBA-4267-A47E-E1A47A50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C8701-7EFC-424D-8218-FD1D2068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8BA0-08F3-4164-8BB9-BAC23AAB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7842-FBA2-4627-ADD8-3D344FFA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44B9-B465-4942-8854-0BADB21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5237-6732-453C-93F8-F5A6179A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68E4-452A-4BB3-B37A-35D21269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4A88-001F-479D-BEB6-0F5607AF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664D-8149-42AB-A1E5-2FD661D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9082-BEF1-48AF-91CE-EACFC49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B5E6-1036-4585-8A0E-6E9FDFE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C809-9B8C-45EC-B591-FAECD9EB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7FFDE-49BD-4B46-A89D-31405380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98A0-2F1B-4573-B5CF-BF991A44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AA69-DC01-4D10-A460-17866AB0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E8F-4375-4C9A-A756-06B3F1BC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DBC0-B1D4-4026-8BAF-FF230A95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731D3-239F-4259-984E-5E5A4030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DCD7E-4CA9-45B1-8598-B5AB5848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3253-A4D5-44E0-82D6-24A823D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20CA-0195-4A41-83E2-0BE54B95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306F4-538C-4E38-9F8F-66E08302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64D6E-FFAF-426D-A202-CB20E4F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41686-98CF-4A5B-950C-E40FFE1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36EAC-7ED5-4F02-BB15-9CCC2279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354E-B54D-4392-BECB-9DD63655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A4B-B89F-455C-A3A9-22688FDC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C4988-56FA-4004-AD26-BCF516AB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055D-16D6-4606-A6D2-E52F5181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4E434-C668-4BA5-BE46-AA4670A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BDD2B-AB9E-4B0E-BA17-B79A0487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31EA-67F9-4AB2-B2C9-7F2B2E79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90EF1-CCB7-4950-A2F1-3617FCC9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1AE8E-5473-469F-BD6F-E6E3E8A4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B6A4E-811B-4100-A2BD-90EA99BA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7C563-8305-4FB5-8330-CDEB326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C3FAB-ADF8-43FB-8170-57D6E15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2A6-E7F9-480B-9871-88C0F79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4E663-FED2-488D-A112-14D93DC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7F80-233C-4928-98EF-5D326EE8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62C9F-FF52-4996-92D9-B90AD243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CFAC5-C8ED-484C-9212-6FB53F85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5D2C7-5289-492E-B915-6E12B29F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08553-F378-4A5C-9E97-94EA5A5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73E49-A9E4-4F7B-A5EF-B8B2D22D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1B87A-B3E8-4B10-8716-BCD605A2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8CFED-4726-46AC-9662-7AC44923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9CE44-106A-4176-9BD2-F9F73E9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050-A137-4AFE-A296-0E72BC86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31343-131D-44FD-B5B4-4BD1664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29744-98BF-436F-ACE2-85DA12D8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2E85B-09A0-4D86-BA63-5740C5E0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0B598-D099-4A30-AC5A-D361A569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4B51C-A774-40D0-A5BE-4B337951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57B4-3648-42A5-9802-9871D590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FAC45-8A46-4299-A7E0-B3260FD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D184-BBD8-46F5-ADA4-8006D6BE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40184-6A71-4FDD-8BF5-AD755548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3880C-0754-47FB-8393-57FAA7C7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EB5-5066-4E48-95B4-35CE6A9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91A8-C538-40CC-AB35-9B18EBD8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F5FB4-0DC6-49E0-BF02-C961C98C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3B87-12F7-41A6-A8AF-6C37D29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31EE3-070F-4551-8118-8BBF1FBC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A9109-7827-4C44-A162-D15AE97E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3AD4-C369-4930-9C78-3F72ABF6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D08FC-D9F3-470E-9850-AAE676C1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27848-5D07-49AB-B557-3B814E37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49415-0B41-4293-A842-B014BDC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3A71E-AB8F-49E4-B62D-1D734C46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544E-7503-4312-9140-1E086366D3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9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457A-F530-441D-813B-3238A590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303E-0832-43A4-AECA-2D1950FD5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ED2-32FC-4748-A373-0DACAC4A5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dt" idx="3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F5BB-A42A-4509-99EA-5B08F2A243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4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4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3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9618-DA15-4A6A-83A7-55ACFF2BA3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21E-D401-43E6-A2C6-DAA2939DDC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7CA3-3D23-4387-81E1-27F14F0F6B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FD7E-07FC-4FF6-8E1F-B59A8FFA56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7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7EFC-E815-4CFA-8689-1CF7C81C5B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56B-2E8E-4298-AB47-6847347991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5455-A2F2-49F6-B55E-D93AA2B3D3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2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4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ACA-A154-48A5-8B9B-7465AC7153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8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3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BF4-B513-4381-BA69-5000CBAB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Решение транспортной задач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полнил студент группы ПО-08: Гудов Александ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рил преподават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насенко Наталья Алексе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ая табл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5952960" cy="1333440"/>
          </a:xfrm>
          <a:prstGeom prst="rect">
            <a:avLst/>
          </a:prstGeom>
          <a:ln w="0">
            <a:noFill/>
          </a:ln>
        </p:spPr>
      </p:pic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2286000" y="4038480"/>
            <a:ext cx="3962520" cy="2243160"/>
          </a:xfrm>
          <a:prstGeom prst="rect">
            <a:avLst/>
          </a:prstGeom>
          <a:ln w="0">
            <a:noFill/>
          </a:ln>
        </p:spPr>
      </p:pic>
      <p:sp>
        <p:nvSpPr>
          <p:cNvPr id="1279" name=""/>
          <p:cNvSpPr/>
          <p:nvPr/>
        </p:nvSpPr>
        <p:spPr>
          <a:xfrm>
            <a:off x="380880" y="3352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Поиск реш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2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ранспортная зада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 целевой функ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79246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6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ключ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курсовой работе изложены основные подходы и методы решения транспортной задачи, являющейся одной из наиболее распространенных задач линейного программирования. Решение данной задачи позволяет разработать наиболее рациональные пути и способы транспортирования товаров, устранить чрезмерно дальние, встречные, повторные перевозки. Все это сокращает время продвижения товаров, уменьшает затраты предприятий и фирм, связанные с осуществлением процессов снабжения сырьем, материалами, топливом, оборудованием и т.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данной курсовой работе поставлена задача: минимизировать затраты на транспортировку продукции потребителям. При выполнении курсовой работы были использованы знания по предметам: «Математические методы», «Пакеты прикладных программ». Решение было проведено с помощью пакетов прикладных программ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и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Word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Результаты ручного просчёта сравнивались с результатами, полученными в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crosoft Excel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Цель работ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00"/>
                </a:solidFill>
                <a:latin typeface="Verdana"/>
              </a:rPr>
              <a:t>Основной целью задачи является минимизировать затраты на транспортировку продукции потребителя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Транспортная задач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87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и предприятия данного экономического района могут производить однородную продукцию, в количествах соответственно равных А1, А2 и А3 единиц. Эта продукция должна быть поставлена 5-и потребителям в количествах, соответственно равных В1, В2, В3, В4 и В5 единиц. Затраты связанные с производством и доставкой продукции, задаются матрицей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1=180; А2=350; А3=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1=110; В2=90; В3=120; В4=80; В5=1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2133720" y="4114800"/>
          <a:ext cx="2077920" cy="912960"/>
        </p:xfrm>
        <a:graphic>
          <a:graphicData uri="http://schemas.openxmlformats.org/drawingml/2006/table">
            <a:tbl>
              <a:tblPr/>
              <a:tblGrid>
                <a:gridCol w="415080"/>
                <a:gridCol w="493920"/>
                <a:gridCol w="338040"/>
                <a:gridCol w="415440"/>
                <a:gridCol w="415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"/>
          <p:cNvSpPr/>
          <p:nvPr/>
        </p:nvSpPr>
        <p:spPr>
          <a:xfrm>
            <a:off x="2133720" y="40384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2520" y="403848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матическая мод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 количество груза перевозимого из пунк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унк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1=40; А2=50; В1=20; В2=30; В3=4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5 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=   4 6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ая функция имеет ви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запас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12 + Х1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21 + Х22 + Х23 &lt;= 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j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&gt;=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по спрос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1 + Х21 &lt;= 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2 + Х22 &lt;= 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13 + Х23 &lt;= 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1905120"/>
            <a:ext cx="76320" cy="609480"/>
          </a:xfrm>
          <a:custGeom>
            <a:avLst/>
            <a:gdLst>
              <a:gd name="textAreaLeft" fmla="*/ 22320 w 76320"/>
              <a:gd name="textAreaRight" fmla="*/ 7632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81080" y="1905120"/>
            <a:ext cx="76320" cy="609480"/>
          </a:xfrm>
          <a:custGeom>
            <a:avLst/>
            <a:gdLst>
              <a:gd name="textAreaLeft" fmla="*/ 0 w 76320"/>
              <a:gd name="textAreaRight" fmla="*/ 53640 w 7632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80880" y="3200400"/>
            <a:ext cx="152640" cy="533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80880" y="43434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1000"/>
                                        <p:tgtEl>
                                          <p:spTgt spid="1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Транспортная задач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57200" y="9140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апы решения транспортной 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)Получение начального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)Проверка решений на оптима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)Усовершенствование несовершенных ре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уитивны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ерка на оптимальность и пересмотр несовершенных решений предусматривает анализ каждой пустой ячейки. Это выполняется так: одна единица перемещается в пустую ячейку и рассматривается влияние этого перемещения на стоимость. Если стоимость увеличилась, то это значит, что использование ячейки увеличило бы общие затраты. Если стоимость осталась не изменой, это значит альтернативный план с той же общей стоимостью. Если анализ показывает уменьшение – это значит возможно лучшее реш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тематическое реш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ставление первоначальной таблицы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80880" y="2057400"/>
          <a:ext cx="8382240" cy="3622680"/>
        </p:xfrm>
        <a:graphic>
          <a:graphicData uri="http://schemas.openxmlformats.org/drawingml/2006/table">
            <a:tbl>
              <a:tblPr/>
              <a:tblGrid>
                <a:gridCol w="760680"/>
                <a:gridCol w="761760"/>
                <a:gridCol w="763560"/>
                <a:gridCol w="760680"/>
                <a:gridCol w="761760"/>
                <a:gridCol w="765360"/>
                <a:gridCol w="761760"/>
                <a:gridCol w="760680"/>
                <a:gridCol w="763560"/>
                <a:gridCol w="761760"/>
                <a:gridCol w="760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2" name=""/>
          <p:cNvSpPr/>
          <p:nvPr/>
        </p:nvSpPr>
        <p:spPr>
          <a:xfrm>
            <a:off x="380880" y="57150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Z=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10*7+70*12+20*8+120*6+80*5+130*3+20*4=3360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400"/>
                            </p:stCondLst>
                            <p:childTnLst>
                              <p:par>
                                <p:cTn id="175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7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3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Оценивание пустых ячеек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457200" y="1371600"/>
          <a:ext cx="7620120" cy="2070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6" name=""/>
          <p:cNvGraphicFramePr/>
          <p:nvPr/>
        </p:nvGraphicFramePr>
        <p:xfrm>
          <a:off x="457200" y="3581280"/>
          <a:ext cx="7620120" cy="3105000"/>
        </p:xfrm>
        <a:graphic>
          <a:graphicData uri="http://schemas.openxmlformats.org/drawingml/2006/table">
            <a:tbl>
              <a:tblPr/>
              <a:tblGrid>
                <a:gridCol w="692280"/>
                <a:gridCol w="693720"/>
                <a:gridCol w="691920"/>
                <a:gridCol w="692280"/>
                <a:gridCol w="693720"/>
                <a:gridCol w="692280"/>
                <a:gridCol w="693720"/>
                <a:gridCol w="691920"/>
                <a:gridCol w="692280"/>
                <a:gridCol w="693720"/>
                <a:gridCol w="69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9" dur="2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Четвертый шаг заполнения таблиц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457200" y="1447920"/>
          <a:ext cx="8305560" cy="3622680"/>
        </p:xfrm>
        <a:graphic>
          <a:graphicData uri="http://schemas.openxmlformats.org/drawingml/2006/table">
            <a:tbl>
              <a:tblPr/>
              <a:tblGrid>
                <a:gridCol w="755640"/>
                <a:gridCol w="755640"/>
                <a:gridCol w="752400"/>
                <a:gridCol w="755640"/>
                <a:gridCol w="754200"/>
                <a:gridCol w="758520"/>
                <a:gridCol w="754200"/>
                <a:gridCol w="755640"/>
                <a:gridCol w="752400"/>
                <a:gridCol w="755640"/>
                <a:gridCol w="7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457200" y="5334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йдем целевую функцию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=120*4+60*6+110+90*8+20*5+130*3+20*4=224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Транспортная зада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ценивание ячеек на 4 шаг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533520" y="1295280"/>
          <a:ext cx="7696080" cy="2186280"/>
        </p:xfrm>
        <a:graphic>
          <a:graphicData uri="http://schemas.openxmlformats.org/drawingml/2006/table">
            <a:tbl>
              <a:tblPr/>
              <a:tblGrid>
                <a:gridCol w="698400"/>
                <a:gridCol w="703080"/>
                <a:gridCol w="698760"/>
                <a:gridCol w="698400"/>
                <a:gridCol w="698400"/>
                <a:gridCol w="701640"/>
                <a:gridCol w="698760"/>
                <a:gridCol w="698400"/>
                <a:gridCol w="698400"/>
                <a:gridCol w="703440"/>
                <a:gridCol w="6984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4" name=""/>
          <p:cNvGraphicFramePr/>
          <p:nvPr/>
        </p:nvGraphicFramePr>
        <p:xfrm>
          <a:off x="533520" y="3581280"/>
          <a:ext cx="7696080" cy="2587680"/>
        </p:xfrm>
        <a:graphic>
          <a:graphicData uri="http://schemas.openxmlformats.org/drawingml/2006/table">
            <a:tbl>
              <a:tblPr/>
              <a:tblGrid>
                <a:gridCol w="698400"/>
                <a:gridCol w="701640"/>
                <a:gridCol w="700200"/>
                <a:gridCol w="698400"/>
                <a:gridCol w="698400"/>
                <a:gridCol w="701640"/>
                <a:gridCol w="698760"/>
                <a:gridCol w="698400"/>
                <a:gridCol w="700200"/>
                <a:gridCol w="701640"/>
                <a:gridCol w="6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-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a</cp:lastModifiedBy>
  <dcterms:modified xsi:type="dcterms:W3CDTF">2010-12-13T15:27:2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