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6B8-583B-4054-8416-234DF1D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396-7248-443B-832F-52D373B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30C-0FE9-45F9-9573-F3553217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1B7-BE81-4D0A-B023-8284C0B0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09A6-1D7D-48E5-89CE-5442B266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B22-0BC6-4168-A2D7-32F5E950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ADD4-C657-4103-BAC8-A21805A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4A05-C099-4738-8ABB-95CE708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093-0354-44CC-9537-83F2A08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35D-FD72-406D-8737-E9AFCA5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94D2-EEB9-4EC8-89FD-5EE2EE4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1AF-1885-4D59-8860-9556F65A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7928-303E-4DFD-A454-9FAC40C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D007-B0BF-4AEB-83BF-C0BF432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256-4624-41E7-9EC3-24A5374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461-393F-4AAF-A527-F731F77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C1E-14AD-41F5-ACDC-C6BAABCE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19C9-1407-47FB-9953-002D0365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ECD2-D09A-435C-833E-08F4DB1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0A5C-93FD-45C1-9E96-4ADD3607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57A7-B9AF-44D7-B669-150AF374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D63B-1A41-4B58-B90B-49908A16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59A-86A0-4FDF-A2AB-FF200DE4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492A-B1AA-44B9-9B79-9992779D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4BE6-19C9-4F0D-ABF5-AE9034B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01EF-0B82-4A24-9548-5F3348E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82A4-F616-4717-92BF-576AA4F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C7AA-B45C-4497-BB90-8EF0C6EA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99F7-DF0B-418C-B8A7-F9ADA7CC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0F5C-384F-4122-BE3D-9ACBB35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1043-7DD2-48F0-8642-CC6CFE19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3697-3CF9-48D1-AAA0-5662BEF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E8D0-0BA1-452E-929B-63411FD6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10B-3D11-453F-962B-33F70C0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683D-44CE-4CEA-A757-B9C76A2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6CBF-AAC7-434D-8057-A4CE53A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2094-9EBD-455E-8122-003C4FEC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A743-FB9E-4639-A7B1-83CDA02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5A33-FEE9-45DE-AF46-0ECF49E4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E900-697D-487C-86D1-B094299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571E-C6BB-45D7-8437-1123302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B1EF-3873-4D09-90B2-C26458D7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A331-30C7-43B3-9A85-086448CA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44A2-6195-4602-B2AC-3021921C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F5F-0904-4A90-A82B-C23B40B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7EBE-C720-4A30-95BC-0C49BFA2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D451-70F9-4C2F-9863-8EA5E1F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CDE0-6857-4A97-A541-7B410A45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46F7-DF83-4BEF-8449-0AD1A9CA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6D9B-AB43-46EE-8337-4C41407B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0EA1-58AF-48DD-BB99-54951DB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ED61-7E41-47DC-B473-34767248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9CB1-7F75-4949-AB57-502B9F5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B05F-04B7-441F-81F0-0A83C664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0E947-5A83-4333-A766-3840305C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E0B-1D66-4FE5-BBE6-0DFA908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4C96B-C962-43D3-BE0E-98D59634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01ED-5DFA-4023-AD83-04DA29AD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BF00-BAC7-4EF4-A9C6-C29410B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04F3-CDD2-4F3C-9ED3-939B7A4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0437-5B06-445B-B110-90F3A7CB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657A-66A8-481C-94E9-B7050E72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C1A1-02E6-464B-9295-7108566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D43D-2765-4F9F-8E3F-D61F748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C16A-D3FC-4350-A57D-EACBEC4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9598-8AF7-4974-9E05-D7F2CC7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30C-6F01-4C33-8A5C-EAB7CD9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124D-AC6A-4A77-951B-00176F7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08E97-4DAE-4D32-ACAA-BAE5A639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4D0E9-6A68-4580-8D35-D933A707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C43-3C5C-479E-99E3-B8FA472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6C8-7960-464A-85FD-6E6592E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163-C5E0-4A46-99ED-EC999B0CF6AD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720-45DB-4E4C-B1DA-4AA9EA1751D8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2B3-282C-4D5D-87B8-945016F6182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125-080C-41D7-A1A4-C0CA5B09B049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9B3D-9142-4A9B-AE71-CED968BB7568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228-61D6-4F19-BC1E-D76A6A24F5A1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746748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ЛЬ СОЦИАЛЬНОГО ПЕДАГОГ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С ДЕТЬ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ГРАНИЧЕННЫМИ ВОЗМОЖНОСТЯМ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НА ПРИМЕРЕ СПЕЦИАЛЬНОЙ КОРРЕКЦИОННОЙ ОБРАЗОВАТЕЛЬНОЙ ШКОЛЫ –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методы: анализ документации, обобщение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  методы: социометрия с целью изучения взаимоотношений учащихся,  диагностика склонности к отклоняющему поведению (СОП),  анкета по профориентации, дифференциально – диагностический опросник (Д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ОРЕТИЧЕСКИЙ АНАЛИЗ ДЕЯТЕЛЬНОСТИ СОЦИАЛЬНОГО ПЕДАГОГА С ДЕТЬ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ГРАНИЧЕННЫМИ ВОЗМОЖНОСТЯМИ 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ЕЦИАЛЬНОЙ КОРРЕКЦИОННОЙ ОБРАЗОВАТЕЛЬНОЙ ШКОЛЕ –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7467480" cy="479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РОЛИ СОЦИАЛЬНОГО ПЕДАГОГА С ДЕТЬМИ С ОГРАНИЧЕННЫМИ ВОЗМОЖНОСТЯМИ В СПЕЦИАЛЬНОЙ КОРРЕКЦИОННОЙ ОБРАЗОВАТЕЛЬНОЙ ШКОЛЕ _ ИНТЕРН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направления деятельност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направления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ритерии для оценки результативности направлений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направления деятельности социального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АПЫ РЕАЛИЗАЦИИ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ЗА ПРАКТИК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Нюксенская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2" descr="н г-2008 013"/>
          <p:cNvPicPr/>
          <p:nvPr/>
        </p:nvPicPr>
        <p:blipFill>
          <a:blip r:embed="rId1"/>
          <a:stretch/>
        </p:blipFill>
        <p:spPr>
          <a:xfrm>
            <a:off x="3714840" y="3286080"/>
            <a:ext cx="485784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ОРК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человека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999800"/>
            <a:ext cx="7467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, диагностика склонности к отклоняющему поведению (СОП), анкета по профориентации, дифференциально – диагностический опросник (Д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857240"/>
            <a:ext cx="78296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сихологический портрет трудного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аспортизация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склонности к отклоняющему поведению (СО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ЗАЩИТА ПРАВ РЕБЁН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ки учащихся, нуждающихся в социальной защите, опеке и попечи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ИМ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тема  является значимой, т.к. в настоящее время, увеличивается количество детей с ограниченными возможностями, а детей с умственной отсталостью увеличивается вдвое, основная причина – алкоголизм родителей.  Для такой категории детей создаются специальные коррекционные образовательные школы – интернат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где значимая роль отводится социальному педаг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ОДДЕРЖКА СЕМЬ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данных по неблагополучным семь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обследования материально – бытовых условий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ОЕ КОНСУЛЬТИРОВАНИ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с ребён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РОФИЛАКТИ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заседания Совета по профилактике правонарушений среди 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Профилактика наркомании у детей и подрост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– ПЕДАГОГИЧЕСКАЯ ПОМОЩЬ В ПРОФЕССИОНАЛЬНОМ ОПРЕДЕЛЕН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2143080"/>
            <a:ext cx="78296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по профори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Выбор профе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О – МЕТОД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78596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методической литер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е «День Святого Валент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циального педагога должна быть направлена, в первую очередь, на детей, а не на документ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мероприятия совместно для детей и родителей, направленных на спло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ведение занятий по профориентации с выпуск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подготовить выпускников к поступлению в новое учебное за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остоянный контроль постинтернатной адаптации выпуск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72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с детьми с ограниченными возмож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с умственно – отсталыми детьми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оли социального педагога в работе с детьми  с ограниченными возможностями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 РАБОТ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сновные понятия: дети с ограниченными возможностями, умственно – отсталые дети,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социально – педагогическ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одержание деятельност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оанализировать направления социально – педагогической деятельности, то можно определить пути дальнейшего повышения результативности роли социального педагога в специальной коррекционной образовательной школе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ИССЛЕДОВА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ятельности социального педагога в специальной коррекционной образовательной школе – интернат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АЯ ЗНАЧИМОСТ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редназначена для социального педагога, работающего в МОУ «Нюксенская специальная коррекционная образовательная школа – интерна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0:42:52Z</dcterms:created>
  <dc:creator>Admin</dc:creator>
  <dc:description/>
  <dc:language>en-US</dc:language>
  <cp:lastModifiedBy>Admin</cp:lastModifiedBy>
  <dcterms:modified xsi:type="dcterms:W3CDTF">2010-06-13T17:00:30Z</dcterms:modified>
  <cp:revision>28</cp:revision>
  <dc:subject/>
  <dc:title>Слайд 1</dc:title>
</cp:coreProperties>
</file>