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2D8-C4C1-48D7-9ECF-3345CB7E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754-D1DA-46AB-9927-D4BDA115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B15-8207-41B2-BBB9-86E82942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935-E63A-426E-BF60-36D72E66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EE70-5961-4B8E-BDD0-5A5915E6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B5D8-034E-466B-BBA4-2C860150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9171-6454-4D79-9D94-1A1905D3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B96E-B602-44CA-B952-5D26B5A7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3C4B-0E5C-48DD-9160-A227F0EA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293B-E0F3-4624-90DE-818C361B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528B-3B7E-45DD-8499-34B90703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E70-C07B-44CF-83BB-20AB8938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A873-D411-40C5-BE48-C3963F0E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E9D5-3757-4F55-941E-45A2D1EF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F6B4-7C44-4C45-B90A-75E3330A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7326-EE6C-4EDC-B587-C9EA1D95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44CA-B335-46E0-AEF8-A04FA2F8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5E3-DF64-45F2-A648-36712584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E16-E126-46AC-A103-FD9F9481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43B-4C5A-47B8-8859-FEC16A75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565-B8E0-416F-A785-D76E0EF0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27E-5430-4A4E-9A15-1C614BCC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6CF-276F-4786-9D00-D13AE3DE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EB3-9AFB-4062-B6CC-3D39E603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E330-E659-408B-B2E2-B2596FA9D4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D45B-F91C-4E90-B37D-9F75B7350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468360" y="1268280"/>
            <a:ext cx="8351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... до и после 14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486900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РУДОВОЕ  ПРАВО  ПОДРОСТ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Organization Chart 7"/>
          <p:cNvGrpSpPr/>
          <p:nvPr/>
        </p:nvGrpSpPr>
        <p:grpSpPr>
          <a:xfrm>
            <a:off x="2684520" y="713520"/>
            <a:ext cx="3917880" cy="1635480"/>
            <a:chOff x="2684520" y="713520"/>
            <a:chExt cx="3917880" cy="1635480"/>
          </a:xfrm>
        </p:grpSpPr>
        <p:cxnSp>
          <p:nvCxnSpPr>
            <p:cNvPr id="94" name="_s1028"/>
            <p:cNvCxnSpPr>
              <a:stCxn id="95" idx="0"/>
              <a:endCxn id="96" idx="2"/>
            </p:cNvCxnSpPr>
            <p:nvPr/>
          </p:nvCxnSpPr>
          <p:spPr>
            <a:xfrm flipV="1" rot="16200000">
              <a:off x="5048640" y="813240"/>
              <a:ext cx="227520" cy="103572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029"/>
            <p:cNvCxnSpPr>
              <a:stCxn id="98" idx="0"/>
              <a:endCxn id="96" idx="2"/>
            </p:cNvCxnSpPr>
            <p:nvPr/>
          </p:nvCxnSpPr>
          <p:spPr>
            <a:xfrm flipH="1" flipV="1" rot="5400000">
              <a:off x="4012200" y="811800"/>
              <a:ext cx="227520" cy="103860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_s1030"/>
            <p:cNvSpPr/>
            <p:nvPr/>
          </p:nvSpPr>
          <p:spPr>
            <a:xfrm>
              <a:off x="3811680" y="713520"/>
              <a:ext cx="1665360" cy="50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подростки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" name="_s1031"/>
            <p:cNvSpPr/>
            <p:nvPr/>
          </p:nvSpPr>
          <p:spPr>
            <a:xfrm>
              <a:off x="2684520" y="1444680"/>
              <a:ext cx="1844640" cy="90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Активны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37%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" name="_s1032"/>
            <p:cNvSpPr/>
            <p:nvPr/>
          </p:nvSpPr>
          <p:spPr>
            <a:xfrm>
              <a:off x="4757760" y="1444680"/>
              <a:ext cx="1844640" cy="90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Пассивны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63%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9" name="Text Box 15"/>
          <p:cNvSpPr/>
          <p:nvPr/>
        </p:nvSpPr>
        <p:spPr>
          <a:xfrm>
            <a:off x="395280" y="3284640"/>
            <a:ext cx="3529080" cy="3448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Активные нацелены на поиск работы. Их отличает серьезное, ответственное отношение к своему труду. Такие подростки реально оценивают свои возможности, знают на какую работу они могут рассчитыват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5580000" y="3284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5148360" y="2924280"/>
            <a:ext cx="3744720" cy="40579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ассивные подростки не стремятся найти работу, даже если они очень нуждаются в деньгах. Для них лучше « на улице побегать, к подружкам сходить» Яркий пример отношения к труду- школьный лагерь. Свою работу учащиеся воспринимают , как отработку. По существу она им не нужн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476360" y="404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Докумен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68360" y="1700280"/>
            <a:ext cx="8207280" cy="61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Заявл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Согласие родителей на осуществление трудовой деятельности ребён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Свидетельство о рождении или паспор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Справка о состоянии здоровья ( за счет работодателя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Трудовой догов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На постоянную работу ( трудовая книжк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труд2"/>
          <p:cNvPicPr/>
          <p:nvPr/>
        </p:nvPicPr>
        <p:blipFill>
          <a:blip r:embed="rId1"/>
          <a:stretch/>
        </p:blipFill>
        <p:spPr>
          <a:xfrm>
            <a:off x="0" y="0"/>
            <a:ext cx="3781440" cy="284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труд5"/>
          <p:cNvPicPr/>
          <p:nvPr/>
        </p:nvPicPr>
        <p:blipFill>
          <a:blip r:embed="rId2"/>
          <a:stretch/>
        </p:blipFill>
        <p:spPr>
          <a:xfrm>
            <a:off x="0" y="4265640"/>
            <a:ext cx="3240000" cy="2592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4067280" y="549360"/>
            <a:ext cx="5076720" cy="64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рием на работу подростков 14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Работа не должна быть противопоказана здоровью несовершеннолетнего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Работа должна выполняться в свободное от учёбы врем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Согласие одного из родител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запрещено применять труд лиц моложе 18 лет на тяжёлых работах, на работах с вредными или опасными условиями труд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Привлекать к работе в ночное время и сверхурочной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работе, в выходные и нерабочие д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8:41:46Z</dcterms:created>
  <dc:creator>Елена</dc:creator>
  <dc:description/>
  <dc:language>en-US</dc:language>
  <cp:lastModifiedBy>Тамара Андреевна</cp:lastModifiedBy>
  <dcterms:modified xsi:type="dcterms:W3CDTF">2008-10-15T05:08:16Z</dcterms:modified>
  <cp:revision>9</cp:revision>
  <dc:subject/>
  <dc:title>Слайд 1</dc:title>
</cp:coreProperties>
</file>