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DD9-9B33-4FE6-AD41-FFCEA53C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3BD0-7887-4655-8256-22A81755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64AB-815D-454A-A131-8540F832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8D17-05AD-4126-AAC7-770025AA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6887-E846-48DB-8CE9-394402AC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BC2-285C-4AA6-9C84-0C8DB0EF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A8DB-4783-467C-86B7-859D9225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6CE-70AD-4B2A-88FA-4AFE5561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5E13-0E7A-4388-B652-01E400E7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543D-FD30-4D7C-B28F-B7D99A04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3383-F95C-41DF-9902-9D4BAD76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019-E720-4498-9984-72D25C5C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282E-6C6E-4FBC-9319-19711EEBB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36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ловек неповторим, живет одновременно во внешнем и внутреннем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1341360"/>
            <a:ext cx="68421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alisto MT"/>
              </a:rPr>
              <a:t>Самопозна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alisto MT"/>
              <a:ea typeface="Calisto M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flipH="1" rot="21471000">
            <a:off x="6067080" y="3998520"/>
            <a:ext cx="27352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дставим наше сознание («Я») в виде кру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2502000" y="2114640"/>
            <a:ext cx="3311280" cy="36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393372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67280" y="2276640"/>
            <a:ext cx="0" cy="34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7280" y="422100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Я» скрыт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0000" y="314172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1392400">
            <a:off x="2779200" y="2850840"/>
            <a:ext cx="124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      «Я» открыт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30178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Я» слеп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4457880"/>
            <a:ext cx="144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99120" y="4005360"/>
            <a:ext cx="1641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Я» неизвес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08296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крытое «Я»: знание о себе  и о друг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9424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рытое «Я»: секреты – все, что вы думаете, чувст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уете,скрываете это в с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19840" y="1989000"/>
            <a:ext cx="290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пое «Я»: то, что  инте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сно другим, вам не очень ясно: привычки, мане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щитные мех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64200" y="5033880"/>
            <a:ext cx="275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известное «Я»: то,что не известно никому и проявляется в определе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ых ситуациях;бессозн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льно- мечты,комплек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ы,мистический оп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19840" y="4962600"/>
            <a:ext cx="29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мопознание – это путь от скрытого «Я» к открытому «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но себе представить, что деление «Я» на четыре равных сектора возможно только в книжке, да и то анонимного ав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жизни мы непременно встречаемся   с индивидуальным своеобразием, когда представленные секторы не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бы вы разделили круг на секторы применительно к собственному «Я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8229600" cy="37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именно т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3068640"/>
            <a:ext cx="3673440" cy="33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03640" y="3833640"/>
            <a:ext cx="2448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 к семинар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самопознание и его фор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место находит самопознание в художественной и философской литературе. Приме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оисходит формирование образа - 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формируется самооценка лич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ль самоисповеди и самопознания в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дивидуальн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найти определения, которые характеризуют учени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характеристик можно отнести к положительным оценка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к отрицательны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являются нейтральны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оценить себя с точки зрения готовности к учебе и общению с товарищ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сформировать цели самовоспит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08:19:26Z</dcterms:created>
  <dc:creator>учитель</dc:creator>
  <dc:description/>
  <dc:language>en-US</dc:language>
  <cp:lastModifiedBy>Тамара Андреевна</cp:lastModifiedBy>
  <dcterms:modified xsi:type="dcterms:W3CDTF">2008-10-15T04:33:15Z</dcterms:modified>
  <cp:revision>5</cp:revision>
  <dc:subject/>
  <dc:title>Слайд 1</dc:title>
</cp:coreProperties>
</file>