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AC8-F73F-4BE7-9A9D-78D96D70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C0C-AF2A-4907-9783-76C2202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2EA-2650-4EE3-A009-88B061CE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A69-5C22-4922-A90E-85A78AF8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96B-4714-4062-8181-5613C17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63F-9B5D-4664-A5AA-75FFEB5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86A-3484-46AE-B6B3-4B260C6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FB7-A8B5-4566-9394-28D2EFB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534-8FBF-44B2-B870-C66EE0F5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B1D-33D4-428D-B58B-4BB21C6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B24-0F42-4C51-9841-5B2AA2C4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609-C2CB-4509-9674-0E7782E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6F6-8567-4EB7-9018-645AEC1A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96000" cy="400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4076640"/>
            <a:ext cx="4140000" cy="278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4500720" cy="26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2760" y="1268280"/>
            <a:ext cx="4791240" cy="558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u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usb_cable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ug_a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7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ug_b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sb2_cable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iniUSB_c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9:41:05Z</dcterms:created>
  <dc:creator>Данил</dc:creator>
  <dc:description/>
  <dc:language>en-US</dc:language>
  <cp:lastModifiedBy>Данил</cp:lastModifiedBy>
  <dcterms:modified xsi:type="dcterms:W3CDTF">2003-01-14T19:54:36Z</dcterms:modified>
  <cp:revision>2</cp:revision>
  <dc:subject/>
  <dc:title>Слайд 1</dc:title>
</cp:coreProperties>
</file>