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A7C5-5562-43B3-9B1B-F2BC6EB60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D548-2BA7-42C5-A8CD-AC7A7B09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E643-2CD9-4A82-8CDA-16B2F3473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1098-0EAA-4136-9455-278B14278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4194-D0AC-40C2-9FCA-1701AF984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3EBF-B884-4394-A939-82B2D2D9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B27E-D5D3-4E1B-A23F-392ADBC6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F29B-5CB7-4AA2-9752-AD7820B3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C6AB-FDE7-48D7-ACE9-BBA8780A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AB43-E656-438D-9BD4-96594FDB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13EA-66ED-4A42-B42D-C8E2CDBA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AAE3-6BFD-4CB4-B159-795ECD1D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7C06-9793-4D9F-85D3-28798F16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0215-C26A-4306-9D4A-9F5434C2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18E7-60BC-4145-BE7F-C84F377E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C97F-530A-4F7C-88EC-D4D14C640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14D2-299C-476E-AFD7-9DBE60284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04DE-EC7D-48CD-9DAF-A81E641B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720E-7A01-4242-800A-4CCBD3CB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4D0E-01E9-494F-83A4-86ECB20D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3139-249E-463C-BF84-041BAFF6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B5C3-03EB-447E-A0BD-E0168C15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D88D-56FF-45AC-A508-026963C9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C919-495D-4F8A-852F-5715285F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0C19-94DC-4ED4-9BB8-1865A41B22FF}" type="datetime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853F-78F8-4C99-B7AF-9F616E8465DF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171D-40BF-4AD5-BBED-5B1C7498B204}" type="datetime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0760-F363-4213-ACE6-EE2896E8529C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990099"/>
                </a:solidFill>
                <a:latin typeface="Times New Roman"/>
              </a:rPr>
              <a:t>Дипломный проект</a:t>
            </a:r>
            <a:endParaRPr b="0" lang="en-US" sz="4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62120" y="21337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Times New Roman"/>
              </a:rPr>
              <a:t>«Анализ эффективности рекламы ПО «ХимСтальКомплект» 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Times New Roman"/>
              </a:rPr>
              <a:t>в сети Интернет»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Разработал:  Механов Е.В.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Руководитель:  Шовкун Э.А.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f6f6f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Цели создания корпоративного сайта</a:t>
            </a:r>
            <a:br>
              <a:rPr sz="3600"/>
            </a:b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ПО «ХимСтальКомплект»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Создание имиджа компании - корпоративная реклам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Консультативная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Привлечение новых клиентов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Снижение затрат на реклам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Увеличение объема продаж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8656560" y="60339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45472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545472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143000" y="762120"/>
            <a:ext cx="7440480" cy="1003320"/>
            <a:chOff x="1143000" y="762120"/>
            <a:chExt cx="7440480" cy="1003320"/>
          </a:xfrm>
        </p:grpSpPr>
        <p:sp>
          <p:nvSpPr>
            <p:cNvPr id="88" name=""/>
            <p:cNvSpPr/>
            <p:nvPr/>
          </p:nvSpPr>
          <p:spPr>
            <a:xfrm>
              <a:off x="1143000" y="762120"/>
              <a:ext cx="20574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05720" y="762120"/>
              <a:ext cx="187776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656560" y="60339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45472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545472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12193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193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92d5b"/>
                </a:solidFill>
                <a:latin typeface="Tahoma"/>
              </a:rPr>
              <a:t>Число клиентов, в зависимости от видов Интернет рекламы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8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ccff"/>
                </a:solidFill>
                <a:latin typeface="Tahoma"/>
                <a:ea typeface="Times New Roman"/>
              </a:rPr>
              <a:t>Среднее количество клиентов, обратившихся в  компании трубного сектора</a:t>
            </a:r>
            <a:r>
              <a:rPr b="1" lang="ru-RU" sz="3600" spc="-1" strike="noStrike">
                <a:solidFill>
                  <a:srgbClr val="cccc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8656560" y="60339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45472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545472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79640" y="1374840"/>
          <a:ext cx="7226280" cy="51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374840"/>
                    <a:ext cx="7226280" cy="51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спользуемые виды рекламы для достижения 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максимального эффекта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8656560" y="60339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45472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545472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62120" y="1295280"/>
            <a:ext cx="8076600" cy="4957920"/>
            <a:chOff x="762120" y="1295280"/>
            <a:chExt cx="8076600" cy="4957920"/>
          </a:xfrm>
        </p:grpSpPr>
        <p:grpSp>
          <p:nvGrpSpPr>
            <p:cNvPr id="102" name=""/>
            <p:cNvGrpSpPr/>
            <p:nvPr/>
          </p:nvGrpSpPr>
          <p:grpSpPr>
            <a:xfrm>
              <a:off x="768240" y="1299600"/>
              <a:ext cx="8063280" cy="4948200"/>
              <a:chOff x="768240" y="1299600"/>
              <a:chExt cx="8063280" cy="494820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768240" y="1299600"/>
                <a:ext cx="3529080" cy="630000"/>
                <a:chOff x="768240" y="1299600"/>
                <a:chExt cx="3529080" cy="63000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858960" y="1299600"/>
                  <a:ext cx="334728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660066"/>
                      </a:solidFill>
                      <a:latin typeface="Arial"/>
                      <a:ea typeface="Times New Roman"/>
                    </a:rPr>
                    <a:t>Платные</a:t>
                  </a:r>
                  <a:endParaRPr b="0" lang="en-US" sz="28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768240" y="1299600"/>
                  <a:ext cx="3529080" cy="63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297680" y="1299600"/>
                <a:ext cx="4533840" cy="630000"/>
                <a:chOff x="4297680" y="1299600"/>
                <a:chExt cx="4533840" cy="6300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388400" y="1299600"/>
                  <a:ext cx="435240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660066"/>
                      </a:solidFill>
                      <a:latin typeface="Arial"/>
                      <a:ea typeface="Times New Roman"/>
                    </a:rPr>
                    <a:t>Бесплатные</a:t>
                  </a:r>
                  <a:endParaRPr b="0" lang="en-US" sz="28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297680" y="1299600"/>
                  <a:ext cx="4533840" cy="63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768240" y="1929600"/>
                <a:ext cx="3529080" cy="1349280"/>
                <a:chOff x="768240" y="1929600"/>
                <a:chExt cx="3529080" cy="13492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858960" y="1929600"/>
                  <a:ext cx="3347280" cy="134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r" pos="449280"/>
                      <a:tab algn="ctr" pos="2970360"/>
                      <a:tab algn="r" pos="594036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Arial"/>
                      <a:ea typeface="Times New Roman"/>
                    </a:rPr>
                    <a:t>Размещение рекламных баннеров на отраслевых ресурсах.</a:t>
                  </a: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r" pos="449280"/>
                      <a:tab algn="ctr" pos="2970360"/>
                      <a:tab algn="r" pos="594036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68240" y="1929600"/>
                  <a:ext cx="3529080" cy="134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4297680" y="1929600"/>
                <a:ext cx="4533840" cy="1349280"/>
                <a:chOff x="4297680" y="1929600"/>
                <a:chExt cx="4533840" cy="134928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4388400" y="1929600"/>
                  <a:ext cx="4352400" cy="134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Arial"/>
                      <a:ea typeface="Times New Roman"/>
                    </a:rPr>
                    <a:t>Отраслевые доски объявлений.</a:t>
                  </a: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Arial"/>
                      <a:ea typeface="Times New Roman"/>
                    </a:rPr>
                    <a:t>Разделы “Продукция” на сайтах – система прайс-листов и потребностей</a:t>
                  </a: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Arial"/>
                      <a:ea typeface="Times New Roman"/>
                    </a:rPr>
                    <a:t>Каталоги “Предприятий”</a:t>
                  </a: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297680" y="1929600"/>
                  <a:ext cx="4533840" cy="134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768240" y="3278880"/>
                <a:ext cx="3529080" cy="989280"/>
                <a:chOff x="768240" y="3278880"/>
                <a:chExt cx="3529080" cy="98928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858960" y="3278880"/>
                  <a:ext cx="3347280" cy="98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Arial"/>
                      <a:ea typeface="Times New Roman"/>
                    </a:rPr>
                    <a:t>Размещение объявлений в тематических отраслевых рассылках.</a:t>
                  </a: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768240" y="3278880"/>
                  <a:ext cx="3529080" cy="98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4297680" y="3278880"/>
                <a:ext cx="4533840" cy="989280"/>
                <a:chOff x="4297680" y="3278880"/>
                <a:chExt cx="4533840" cy="98928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4388400" y="3278880"/>
                  <a:ext cx="4352400" cy="98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Arial"/>
                      <a:ea typeface="Times New Roman"/>
                    </a:rPr>
                    <a:t>Прямые почтовые рассылки</a:t>
                  </a: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297680" y="3278880"/>
                  <a:ext cx="4533840" cy="98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768240" y="4268520"/>
                <a:ext cx="3529080" cy="989280"/>
                <a:chOff x="768240" y="4268520"/>
                <a:chExt cx="3529080" cy="9892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858960" y="4268520"/>
                  <a:ext cx="3347280" cy="98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Arial"/>
                      <a:ea typeface="Times New Roman"/>
                    </a:rPr>
                    <a:t>Контекстный показ баннеров на поисковых системах (Yandex.ru и др.)</a:t>
                  </a: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68240" y="4268520"/>
                  <a:ext cx="3529080" cy="98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4297680" y="4268520"/>
                <a:ext cx="4533840" cy="989280"/>
                <a:chOff x="4297680" y="4268520"/>
                <a:chExt cx="4533840" cy="98928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4388400" y="4268520"/>
                  <a:ext cx="4352400" cy="98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Arial"/>
                      <a:ea typeface="Times New Roman"/>
                    </a:rPr>
                    <a:t>Обмен ссылками с другими сайтами</a:t>
                  </a: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4297680" y="4268520"/>
                  <a:ext cx="4533840" cy="98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768240" y="5258160"/>
                <a:ext cx="3529080" cy="989640"/>
                <a:chOff x="768240" y="5258160"/>
                <a:chExt cx="3529080" cy="9896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858960" y="5258160"/>
                  <a:ext cx="3347280" cy="98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Arial"/>
                      <a:ea typeface="Times New Roman"/>
                    </a:rPr>
                    <a:t>Платное размещение баннеров в баннерообменных сетях</a:t>
                  </a: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768240" y="5258160"/>
                  <a:ext cx="3529080" cy="98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4297680" y="5258160"/>
                <a:ext cx="4533840" cy="989640"/>
                <a:chOff x="4297680" y="5258160"/>
                <a:chExt cx="4533840" cy="98964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4388400" y="5258160"/>
                  <a:ext cx="4352400" cy="98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Arial"/>
                      <a:ea typeface="Times New Roman"/>
                    </a:rPr>
                    <a:t>Участие в баннерообменных сетях</a:t>
                  </a: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297680" y="5258160"/>
                  <a:ext cx="4533840" cy="98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3" name=""/>
            <p:cNvSpPr/>
            <p:nvPr/>
          </p:nvSpPr>
          <p:spPr>
            <a:xfrm>
              <a:off x="762120" y="1295280"/>
              <a:ext cx="8076600" cy="4957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ПОСЕЩАЕМОСТЬ САЙТА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ПО «ХИМСТАЛЬКОМПЛЕКТ» </a:t>
            </a:r>
            <a:br>
              <a:rPr sz="24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с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 01.12.2001г.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по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 01.01.2003г.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1414440" y="109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14400" y="1447920"/>
          <a:ext cx="7543800" cy="5410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447920"/>
                    <a:ext cx="75438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8655120" y="6033960"/>
            <a:ext cx="48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45472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Tahoma"/>
                <a:ea typeface="Times New Roman"/>
              </a:rPr>
              <a:t>Отдела рекламы ПО «ХимСтальКомплект» до реорганизации</a:t>
            </a:r>
            <a:r>
              <a:rPr b="1" lang="ru-RU" sz="30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8655120" y="6033960"/>
            <a:ext cx="48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45472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1523880"/>
            <a:ext cx="4419360" cy="1447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545472"/>
                </a:solidFill>
                <a:latin typeface="Arial"/>
              </a:rPr>
              <a:t>         </a:t>
            </a:r>
            <a:endParaRPr b="0" lang="en-US" sz="13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545472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Times New Roman"/>
              </a:rPr>
              <a:t>Начальник отдела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3886200"/>
            <a:ext cx="3733560" cy="1523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545472"/>
                </a:solidFill>
                <a:latin typeface="Arial"/>
              </a:rPr>
              <a:t>       </a:t>
            </a:r>
            <a:endParaRPr b="0" lang="en-US" sz="13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545472"/>
                </a:solidFill>
                <a:latin typeface="Arial"/>
              </a:rPr>
              <a:t>      </a:t>
            </a:r>
            <a:endParaRPr b="0" lang="en-US" sz="13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545472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Times New Roman"/>
              </a:rPr>
              <a:t>Специалист по рекламе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3886200"/>
            <a:ext cx="3809880" cy="1523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545472"/>
                </a:solidFill>
                <a:latin typeface="Arial"/>
              </a:rPr>
              <a:t>     </a:t>
            </a:r>
            <a:endParaRPr b="0" lang="en-US" sz="13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545472"/>
                </a:solidFill>
                <a:latin typeface="Arial"/>
              </a:rPr>
              <a:t>       </a:t>
            </a:r>
            <a:endParaRPr b="0" lang="en-US" sz="13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545472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Times New Roman"/>
              </a:rPr>
              <a:t>Специалист по рекламе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3429000"/>
            <a:ext cx="0" cy="45720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29400" y="3429000"/>
            <a:ext cx="0" cy="45720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38280" y="3429000"/>
            <a:ext cx="419112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2971800"/>
            <a:ext cx="0" cy="45720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7ccd9"/>
            </a:gs>
            <a:gs pos="50000">
              <a:srgbClr val="ccffff"/>
            </a:gs>
            <a:gs pos="100000">
              <a:srgbClr val="a7ccd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990099"/>
                </a:solidFill>
                <a:latin typeface="Tahoma"/>
                <a:ea typeface="Times New Roman"/>
              </a:rPr>
              <a:t>Отдел рекламы после реорганизации</a:t>
            </a:r>
            <a:r>
              <a:rPr b="0" lang="ru-RU" sz="3500" spc="-1" strike="noStrike">
                <a:solidFill>
                  <a:srgbClr val="990099"/>
                </a:solidFill>
                <a:latin typeface="Tahoma"/>
              </a:rPr>
              <a:t> </a:t>
            </a:r>
            <a:endParaRPr b="0" lang="en-US" sz="35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8656560" y="60339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45472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52760" y="1295280"/>
            <a:ext cx="4038480" cy="1067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Ведущий специалист по рекламе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95480" y="2514600"/>
            <a:ext cx="327672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743200"/>
            <a:ext cx="3505320" cy="144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Группа продвижения товаров и стимулирования сбыта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2743200"/>
            <a:ext cx="3505320" cy="1447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Группа организации рекламных кампаний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4648320"/>
            <a:ext cx="3505320" cy="1447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Специалисты продвижения товаров и стимулирования сбыта (2 человека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52880" y="4648320"/>
            <a:ext cx="3505320" cy="1447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Специалисты по рекламе   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(2 человека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95480" y="2514600"/>
            <a:ext cx="0" cy="22860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2362320"/>
            <a:ext cx="0" cy="152280"/>
          </a:xfrm>
          <a:prstGeom prst="line">
            <a:avLst/>
          </a:prstGeom>
          <a:ln w="1908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72200" y="2514600"/>
            <a:ext cx="0" cy="22860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8120" y="4191120"/>
            <a:ext cx="0" cy="45720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248520" y="4191120"/>
            <a:ext cx="0" cy="45720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6T06:24:26Z</dcterms:created>
  <dc:creator>Козлова М.Е.</dc:creator>
  <dc:description/>
  <dc:language>en-US</dc:language>
  <cp:lastModifiedBy>user</cp:lastModifiedBy>
  <dcterms:modified xsi:type="dcterms:W3CDTF">2003-06-05T01:59:54Z</dcterms:modified>
  <cp:revision>59</cp:revision>
  <dc:subject/>
  <dc:title>Дипломный проект</dc:title>
</cp:coreProperties>
</file>