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2912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40880" y="453996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2336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054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700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408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054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700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D1EF-822D-465A-A7D1-2410E63EB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E768-47B3-42A4-9A1E-F2695F55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0746-9717-40D2-B0D6-8CBD10CC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BF37-4159-452E-B7FD-05016CB5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F297-CF4E-4A38-9529-32B0E9EE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282600"/>
            <a:ext cx="860436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AF5D-1A0A-4828-BFEC-C686945F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7DE9-E6EA-4164-89BF-61224233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2336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363D-34B4-4B0E-9FBB-A2F5C184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6063-84C4-4F79-8CEA-2104FC1A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0880" y="453996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0966-836B-4634-A262-401E81B0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2336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5B1E-42E0-468F-A46C-DE6920752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054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700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408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7054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6700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1B44-C66D-43E8-8B46-907B439A2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40880" y="282600"/>
            <a:ext cx="860436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2336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40880" y="453996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2336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7054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6700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7408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7054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6700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0880" y="282600"/>
            <a:ext cx="860436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336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11700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8640" y="2224080"/>
            <a:ext cx="84726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7937640" y="6251400"/>
            <a:ext cx="196848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38DA942-BF17-41E8-9A8E-3C27CD3D37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723960" y="7077240"/>
            <a:ext cx="93549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741240" y="282600"/>
            <a:ext cx="86090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950e"/>
                </a:solidFill>
                <a:latin typeface="Arial"/>
              </a:rPr>
              <a:t>Информационные технологии в гражданском процесс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741240" y="282600"/>
            <a:ext cx="86090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cccccc"/>
                </a:solidFill>
                <a:latin typeface="Times New Roman"/>
              </a:rPr>
              <a:t>Порядок исследования судом аудио/видеозаписей определяется как непосредственный при помощи специального оборудования с указанием в протоколе признаков воспроизводящих источников и времени воспроизведен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cccccc"/>
                </a:solidFill>
                <a:latin typeface="Times New Roman"/>
              </a:rPr>
              <a:t>В целях выяснения содержащейся в аудио/видеозаписи информации судом может быть привлечен специалист, при необходимости назначается экспертиз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cccccc"/>
                </a:solidFill>
                <a:latin typeface="Times New Roman"/>
              </a:rPr>
              <a:t>Аудио/видеозаписи могут постоянно храниться в камере хранения суда в неизменном состоянии и суд принимает меры для сохранения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cccccc"/>
                </a:solidFill>
                <a:latin typeface="Times New Roman"/>
              </a:rPr>
              <a:t>Материальный закон предусмотрел такие средства доказывания, как электронные средства платежа, аналоги собственно ручной подписи, кодов, паролей и иные средства, подтверждающие что распоряжение денежными средствами дано уполномоченным на то лицом ГК регламентирует, что определенные права могут удостоверяться бездокументарными ценными бумагами с помощью средств электронно-вычислительной техник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741240" y="279360"/>
            <a:ext cx="86090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12760" indent="-212760" algn="ctr">
              <a:lnSpc>
                <a:spcPct val="95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Специалисты оказывают научно-техническую и справочно-консультативную помощь суду в следующих процессуальных формах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884"/>
              <a:buBlip>
                <a:blip r:embed="rId1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участие в исследовании доказательств в судебном заседании, а также при осмотре на мест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884"/>
              <a:buBlip>
                <a:blip r:embed="rId2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представление суду письменных и устных заключений справочно-консультативного характера, особенностях ее потребительских свойств или технических характеристик, стоимости ремонта поврежденного имущества и т. п.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884"/>
              <a:buBlip>
                <a:blip r:embed="rId3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оказание научно-консультативной помощи суду при назначении экспертизы, а также при изучении заключения эксперта в процессе подготовки к судебному разбирательству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884"/>
              <a:buBlip>
                <a:blip r:embed="rId4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представление письменного заключения в суд апелляционной, кассационной или надзорной инстанц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741240" y="1260360"/>
            <a:ext cx="8772480" cy="56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Согласно ч. 2 ст. 67 ГПК РФ аудио/видеозаписи не могут иметь заранее установленной силы и приоритета над другими доказательствами и оцениваются в совокупности с другими доказательствами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Аудиозаписи подпадают под определение фонодокумента – документа, содержащего звуковую информацию, зафиксированную любой системой звукозаписи. Видеозаписи - под определение аудиовизуального документа – это документ, содержащий изобразительную и звуковую информацию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43040"/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9966"/>
                </a:solidFill>
                <a:latin typeface="Times New Roman"/>
                <a:ea typeface="Times New Roman"/>
              </a:rPr>
              <a:t>2.2 Место аудио/видеозаписей в системе доказательств</a:t>
            </a:r>
            <a:endParaRPr b="1" i="1" lang="en-US" sz="22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"/>
          <p:cNvSpPr/>
          <p:nvPr/>
        </p:nvSpPr>
        <p:spPr>
          <a:xfrm>
            <a:off x="741240" y="282600"/>
            <a:ext cx="86090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cccccc"/>
                </a:solidFill>
                <a:latin typeface="Times New Roman"/>
              </a:rPr>
              <a:t>Общее между письменными, вещественными доказательствами и аудио/видеозаписями состоит в том, что данные виды доказательств относятся к предметным доказательствам, т.е. в них информация сохраняется, как правило, на объектах неживой природы, вещах, как бы в статичном состоянии. Как и письменные доказательства, аудио/видеозаписи подтверждают определенные обстоятельства по делу с помощью той информации, которая записана на них, например запись того, как свидетель обещает вовремя вернуть долг, запись высказываний, которые порочат честь, достоинство и деловую репутацию гражданина, по делам о компенсации морального вред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cccccc"/>
                </a:solidFill>
                <a:latin typeface="Times New Roman"/>
              </a:rPr>
              <a:t>Различие между этими доказательствами состоит в том, что информацию с аудио/видеозаписей участникам процесса нельзя снять с помощью органов слуха и зрения, как это имеет место при осмотре вещественных доказательств или при исследовании письменных доказательст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741240" y="523800"/>
            <a:ext cx="8609040" cy="63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12760" indent="-212760" algn="just">
              <a:lnSpc>
                <a:spcPct val="95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Общее правило о допустимости сформулировано в ч. 1 ст. 55 ГПК РФ: доказательствами по делу являются полученные в предусмотренном законом порядке сведения о фактах. Это означает, что, даже если обстоятельство по делу подтверждается определенным средством доказывания</a:t>
            </a:r>
            <a:r>
              <a:rPr b="0" lang="en-US" sz="26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, но нарушена процедура совершения этого действия, доказательство не может быть допущено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43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Допустимость аудио/видеозаписей в гражданском процессе до сих пор является предметом дискуссий так как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820"/>
              <a:buBlip>
                <a:blip r:embed="rId1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с помощью существующих технических приемов можно изменить, исказить их содержание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820"/>
              <a:buBlip>
                <a:blip r:embed="rId2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получение и воспроизведение аудио/видеозаписей может быть сопряжено с нарушением неприкосновенности частной жизни граждан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741240" y="282600"/>
            <a:ext cx="86090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Сбор, хранение, использование и распространение информации о частной жизни лица без его согласия не допускаются. Никто не вправе проникать в жилище против воли проживающих в нем лиц иначе как в случаях, установленных федеральным законом, или на основании судебного решен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С учетом этого должны признаваться недопустимыми в качестве доказательств, в частности, аудиозаписи телефонных переговоров, полученные без санкции суда; (ч. 1 ст. 6 Федерального закона "Об оперативно-розыскной деятельности"), если проведение таковых было сопряжено с провоцированием граждан на совершение противоправных действий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Р</a:t>
            </a:r>
            <a:r>
              <a:rPr b="0" lang="ru-RU" sz="22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ассмотрение материалов об ограничении конституционных прав граждан на тайну переписки, телефонных переговоров, почтовых, телеграфных и иных сообщений, передаваемых по сетям электрической и почтовой связи, на неприкосновенность жилища при проведении оперативно-розыскных мероприятий осуществляется судом, как правило, по месту проведения таких мероприяти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741240" y="282600"/>
            <a:ext cx="86090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12760" indent="250920" algn="just">
              <a:lnSpc>
                <a:spcPct val="95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В соответствии </a:t>
            </a:r>
            <a:r>
              <a:rPr b="1" lang="en-US" sz="2600" spc="-1" strike="noStrike">
                <a:solidFill>
                  <a:srgbClr val="cccccc"/>
                </a:solidFill>
                <a:latin typeface="Times New Roman"/>
              </a:rPr>
              <a:t>со ст. 50 Закона РФ "О средствах массовой информации"</a:t>
            </a: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 распространение сообщений и материалов, подготовленных с использованием скрытой аудио/видеозаписи, кино- и фотосъемки, допускается при наличии одного из трех обстоятель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2760" indent="250920" algn="just">
              <a:lnSpc>
                <a:spcPct val="114000"/>
              </a:lnSpc>
              <a:buSzPct val="102884"/>
              <a:buBlip>
                <a:blip r:embed="rId1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не нарушать конституционные права, предусмотренные в Конституции РФ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2760" indent="250920" algn="just">
              <a:lnSpc>
                <a:spcPct val="114000"/>
              </a:lnSpc>
              <a:buSzPct val="102884"/>
              <a:buBlip>
                <a:blip r:embed="rId2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необходимость защиты общественных интересов и принятие мер против возможной идентификации посторонних лиц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2760" indent="250920" algn="just">
              <a:lnSpc>
                <a:spcPct val="114000"/>
              </a:lnSpc>
              <a:buSzPct val="102884"/>
              <a:buBlip>
                <a:blip r:embed="rId3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решение суда о демонстрации материалов, когда допускается распространение материалов, сделанных скрытой записью, речь идет только о демонстрации, т.е. о публичном исполнен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741240" y="282600"/>
            <a:ext cx="86090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12760" indent="250920" algn="just">
              <a:lnSpc>
                <a:spcPct val="95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Times New Roman"/>
              </a:rPr>
              <a:t>В ГПК РФ можно обнаружить несколько статей, в которых речь идет об аудио/видеозаписях, и только в одной из них, а именно в ст. 185, предельно кратко описан порядок их исследования органом правосудия. Он подразумевает, что судья должен придерживаться следующих процессуально-правовых действий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2760" indent="250920" algn="just">
              <a:lnSpc>
                <a:spcPct val="114000"/>
              </a:lnSpc>
              <a:buSzPct val="102792"/>
              <a:buBlip>
                <a:blip r:embed="rId1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Times New Roman"/>
              </a:rPr>
              <a:t>при воспроизведении аудио/видеозаписей, содержащих сведения личного характера, открытое судебное заседание назначается только с согласия заинтересованных лиц, в противном случае исследование записей происходит без соблюдения принципа гласн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2760" indent="250920" algn="just">
              <a:lnSpc>
                <a:spcPct val="114000"/>
              </a:lnSpc>
              <a:buSzPct val="102792"/>
              <a:buBlip>
                <a:blip r:embed="rId2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Times New Roman"/>
              </a:rPr>
              <a:t>воспроизведение аудио/видеозаписей осуществляется в зале заседания или ином специально оборудованном для этой цели помещении с указанием в протоколе судебного заседания признаков воспроизводящих источников доказательств и времени воспроизведения. После этого суд заслушивает объяснения лиц, участвующих в деле; если это требуется, воспроизведение аудио/видеозаписей повторяется полностью либо в какой-либо ча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2760" indent="250920" algn="just">
              <a:lnSpc>
                <a:spcPct val="114000"/>
              </a:lnSpc>
              <a:buSzPct val="102792"/>
              <a:buBlip>
                <a:blip r:embed="rId3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в целях выяснения содержащихся в аудио/видеозаписи сведений суд вправе привлечь специалиста, а в необходимых случаях назначить экспертиз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539640" y="369720"/>
            <a:ext cx="9180720" cy="66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12760" indent="216000" algn="just">
              <a:lnSpc>
                <a:spcPct val="95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imes New Roman"/>
              </a:rPr>
              <a:t>Информация — особый объект гражданских правоотношений, она обладает следующими признакам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12760" indent="216000" algn="just">
              <a:lnSpc>
                <a:spcPct val="114000"/>
              </a:lnSpc>
              <a:buSzPct val="102872"/>
              <a:buBlip>
                <a:blip r:embed="rId1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imes New Roman"/>
              </a:rPr>
              <a:t>информация, являясь идеальной компонентой бытия, т.е. благом нематериальным, опосредует имущественные отнош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12760" indent="216000" algn="just">
              <a:lnSpc>
                <a:spcPct val="114000"/>
              </a:lnSpc>
              <a:buSzPct val="102872"/>
              <a:buBlip>
                <a:blip r:embed="rId2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imes New Roman"/>
              </a:rPr>
              <a:t>информация является непотребляемым объектом гражданских правоотношений, который подвергается лишь моральному старению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12760" indent="216000" algn="just">
              <a:lnSpc>
                <a:spcPct val="114000"/>
              </a:lnSpc>
              <a:buSzPct val="102872"/>
              <a:buBlip>
                <a:blip r:embed="rId3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imes New Roman"/>
              </a:rPr>
              <a:t>возможность ее практически неограниченного тиражир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539640" y="282600"/>
            <a:ext cx="918072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12760" indent="216000" algn="just">
              <a:lnSpc>
                <a:spcPct val="95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imes New Roman"/>
              </a:rPr>
              <a:t>Принцип свободы информации определяется следующими правами и свободами, закрепленными в Конституции РФ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12760" indent="216000" algn="just">
              <a:lnSpc>
                <a:spcPct val="114000"/>
              </a:lnSpc>
              <a:buSzPct val="102820"/>
              <a:buBlip>
                <a:blip r:embed="rId1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свобода мысли и слова (ч.1 ст.29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2760" indent="216000" algn="just">
              <a:lnSpc>
                <a:spcPct val="114000"/>
              </a:lnSpc>
              <a:buSzPct val="102820"/>
              <a:buBlip>
                <a:blip r:embed="rId2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свобода выражения своих убеждений (ч.3 ст.29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2760" indent="216000" algn="just">
              <a:lnSpc>
                <a:spcPct val="114000"/>
              </a:lnSpc>
              <a:buSzPct val="102820"/>
              <a:buBlip>
                <a:blip r:embed="rId3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право свободно искать, получать, передавать и распространять инф-ю любым законным способом (ч.ст.29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2760" indent="216000" algn="just">
              <a:lnSpc>
                <a:spcPct val="114000"/>
              </a:lnSpc>
              <a:buSzPct val="102820"/>
              <a:buBlip>
                <a:blip r:embed="rId4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свобода массовой информации (ч.5 ст.29);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2760" indent="216000" algn="just">
              <a:lnSpc>
                <a:spcPct val="114000"/>
              </a:lnSpc>
              <a:buSzPct val="102820"/>
              <a:buBlip>
                <a:blip r:embed="rId5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право каждого на достоверную информацию о состоянии окружающей среды (ст.42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2760" indent="216000" algn="just">
              <a:lnSpc>
                <a:spcPct val="114000"/>
              </a:lnSpc>
              <a:buSzPct val="102820"/>
              <a:buBlip>
                <a:blip r:embed="rId6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свобода всех видов творчества (ч.1 ст.44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2760" indent="216000" algn="just">
              <a:lnSpc>
                <a:spcPct val="114000"/>
              </a:lnSpc>
              <a:buSzPct val="102820"/>
              <a:buBlip>
                <a:blip r:embed="rId7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право на доступ к культурным ценностям (ч.2 ст.44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720720" y="360360"/>
            <a:ext cx="882000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e6e6e6"/>
                </a:solidFill>
                <a:latin typeface="Times New Roman"/>
              </a:rPr>
              <a:t>Информация является одним из ценнейших ресурсов общества наряду с такими традиционными материальными видами ресурсов, как нефть, газ, полезные ископаемые и др., а значит, процесс ее переработки по аналогии с процессами переработки материальных ресурсов можно воспринимать как технологию.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e6e6e6"/>
                </a:solidFill>
                <a:latin typeface="Times New Roman"/>
              </a:rPr>
              <a:t>Информационная технология</a:t>
            </a:r>
            <a:r>
              <a:rPr b="0" lang="ru-RU" sz="2200" spc="-1" strike="noStrike">
                <a:solidFill>
                  <a:srgbClr val="e6e6e6"/>
                </a:solidFill>
                <a:latin typeface="Times New Roman"/>
              </a:rPr>
              <a:t> — процесс, использующий совокупность средств и методов сбора, обработки и передачи данных (первичной информации) для получения информации нового качества о состоянии объекта, процесса или явления .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e6e6e6"/>
                </a:solidFill>
                <a:latin typeface="Times New Roman"/>
              </a:rPr>
              <a:t>Цель информационной технологии — производство информации для ее анализа человеком и принятия на его основе решения по выполнению какого-либо действия. 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39640" y="5400720"/>
            <a:ext cx="9139320" cy="107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Исследование информации: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31" name="Picture 3" descr="C:\Documents and Settings\дом\Рабочий стол\marketing_shema_01.jpg"/>
          <p:cNvPicPr/>
          <p:nvPr/>
        </p:nvPicPr>
        <p:blipFill>
          <a:blip r:embed="rId1"/>
          <a:stretch/>
        </p:blipFill>
        <p:spPr>
          <a:xfrm>
            <a:off x="1397160" y="1994040"/>
            <a:ext cx="696888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741240" y="282600"/>
            <a:ext cx="86090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950e"/>
                </a:solidFill>
                <a:latin typeface="Times New Roman"/>
                <a:ea typeface="Times New Roman"/>
              </a:rPr>
              <a:t>1. ПРИМЕНЕНИЕ  ИНФОРМАЦИОННЫХ ТЕХНОЛОГИЙ  </a:t>
            </a:r>
            <a:br>
              <a:rPr sz="3600"/>
            </a:br>
            <a:r>
              <a:rPr b="0" lang="en-US" sz="3600" spc="-1" strike="noStrike">
                <a:solidFill>
                  <a:srgbClr val="ff950e"/>
                </a:solidFill>
                <a:latin typeface="Times New Roman"/>
                <a:ea typeface="Times New Roman"/>
              </a:rPr>
              <a:t>В ГРАЖДАНСКОМ ПРОЦЕСС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741240" y="276120"/>
            <a:ext cx="86090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12760" indent="-212760" algn="just">
              <a:lnSpc>
                <a:spcPct val="95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С появлением современных источников информации в качестве доказательств по правовым спорам следует обратить внимание на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792"/>
              <a:buBlip>
                <a:blip r:embed="rId1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cc"/>
                </a:solidFill>
                <a:latin typeface="Times New Roman"/>
              </a:rPr>
              <a:t>Возможность использования электронных документов в случае спора — одно из условий их юридической силы, что установлено в  нормативных актах и кладет начало для их использования в экономическом обороте как внутри, так и вне тех систем управл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792"/>
              <a:buBlip>
                <a:blip r:embed="rId2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Times New Roman"/>
              </a:rPr>
              <a:t>Существенно меняются формы документов, условия проверки их достоверности, способы  удостовер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792"/>
              <a:buBlip>
                <a:blip r:embed="rId3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Times New Roman"/>
              </a:rPr>
              <a:t>Актуальным  оказывается вопрос об условиях, при которых арбитражные суды по национальному законодательству могут принимать для доказывания информацию, хранимую в ЭВМ, и рассматривать ее как идентичную той, которая первоначально была введена в ЭВ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792"/>
              <a:buBlip>
                <a:blip r:embed="rId4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Times New Roman"/>
              </a:rPr>
              <a:t>Подлежит разрешению и вопрос о сроках хранения сведений в памяти ЭВМ, так как они могут потребоваться при рассмотрении дела в арбитраж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792"/>
              <a:buBlip>
                <a:blip r:embed="rId5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Times New Roman"/>
              </a:rPr>
              <a:t>В законодательстве ряда стран существуют нормы, устанавливающие порядок и процедуру пользования электронными документ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360360" y="282600"/>
            <a:ext cx="936000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12760" indent="-212760" algn="ctr">
              <a:lnSpc>
                <a:spcPct val="95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cccccc"/>
                </a:solidFill>
                <a:latin typeface="Times New Roman"/>
              </a:rPr>
              <a:t>Особенности  электронных документов,  обеспечивающих доказательственую функцию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805"/>
              <a:buBlip>
                <a:blip r:embed="rId1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практически невозможно извлечь из памяти ЭВМ информацию путем прямого анализа физических свойств  носителя информации, минуя вычислительный проце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805"/>
              <a:buBlip>
                <a:blip r:embed="rId2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информация, содержащаяся в памяти  ЭВМ, в большинстве случаев может быть воспроизведена на другой ЭВ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805"/>
              <a:buBlip>
                <a:blip r:embed="rId3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визуально, т.е. непосредственно без использования специальной техники, суду электронный документ  недоступ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805"/>
              <a:buBlip>
                <a:blip r:embed="rId4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форма фиксации информации в электронных документах существенно отличается от письменного докумен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ff9966"/>
                </a:solidFill>
                <a:latin typeface="Arial"/>
                <a:ea typeface="Times New Roman"/>
              </a:rPr>
              <a:t>2. АУДИО/ВИДЕОЗАПИСИ КАК СРЕДСТВА ДОКАЗЫВАНИЯ</a:t>
            </a:r>
            <a:endParaRPr b="1" i="1" lang="en-US" sz="2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Аудио/видеозаписи являются в гражданском процессе самостоятельным средством доказывания. 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indent="0" algn="just">
              <a:lnSpc>
                <a:spcPct val="11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Лицо, представляющее аудио/видеозаписи на электронном носителе либо ходатайствующее об их истребовании, обязано указать, когда, кем ч в каких условиях осуществлялись записи. 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indent="0" algn="just">
              <a:lnSpc>
                <a:spcPct val="11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Происхождение аудио/видеозаписи будет законным, если участники судебного разбирательства, присутствовавшие в открытом судебном заседании, фиксировали происходящее посредством электронных устройств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06:12:22Z</dcterms:created>
  <dc:creator>An al</dc:creator>
  <dc:description>Предложение пути развития и альтернатив, рекомендации по использованию той или другой стратегии</dc:description>
  <dc:language>en-US</dc:language>
  <cp:lastModifiedBy>Philka</cp:lastModifiedBy>
  <dcterms:modified xsi:type="dcterms:W3CDTF">2010-10-31T12:32:41Z</dcterms:modified>
  <cp:revision>2</cp:revision>
  <dc:subject/>
  <dc:title>Предложение стратегии</dc:title>
</cp:coreProperties>
</file>