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D0E-65C8-4E39-957B-1D27B181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E2C-1260-426B-B143-FE3B4811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D1B-88A7-4BA8-8299-F530B81A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5DA-621D-4CF7-A990-0E577CE7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6EE-71B0-4056-B253-3B62729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165-BB6B-48EE-B715-FE8B228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B90-E642-476F-B36F-6D44DD36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FF8-FC24-4CEB-ABD1-FA32E838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669-6FF9-4965-BFBD-BEC6B43B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EE4-DE04-428E-B055-715F779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EE7-7FE6-444B-B914-6B9DA82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CF4-03FB-4510-8000-8D00098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9A0-67A8-4ACE-87EE-A8D01B65A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71680" y="2214720"/>
            <a:ext cx="8286480" cy="1618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лекс мер законодательных, исполнительных и судебных органов власти, а также контрольных функций, осуществляемых на основе нормативных правовых актов государственными учреждениями и общественными организациями в целях стабилизации существующей социально-экономическ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85840" y="5286240"/>
            <a:ext cx="2786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создание условий цивилизованного функционирования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571920" y="5214960"/>
            <a:ext cx="25718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стратегическое планирование науки и научно-техн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500880" y="5286240"/>
            <a:ext cx="24289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решение макроэконом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8"/>
          <p:cNvSpPr/>
          <p:nvPr/>
        </p:nvSpPr>
        <p:spPr>
          <a:xfrm>
            <a:off x="4500720" y="157176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786120" y="4214880"/>
            <a:ext cx="2143080" cy="520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16"/>
          <p:cNvCxnSpPr>
            <a:stCxn id="47" idx="2"/>
            <a:endCxn id="44" idx="0"/>
          </p:cNvCxnSpPr>
          <p:nvPr/>
        </p:nvCxnSpPr>
        <p:spPr>
          <a:xfrm>
            <a:off x="4857480" y="4735440"/>
            <a:ext cx="720" cy="47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Прямая соединительная линия 22"/>
          <p:cNvSpPr/>
          <p:nvPr/>
        </p:nvSpPr>
        <p:spPr>
          <a:xfrm>
            <a:off x="1643040" y="4572000"/>
            <a:ext cx="214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6"/>
          <p:cNvSpPr/>
          <p:nvPr/>
        </p:nvSpPr>
        <p:spPr>
          <a:xfrm>
            <a:off x="5929200" y="4572000"/>
            <a:ext cx="1857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0"/>
          <p:cNvCxnSpPr/>
          <p:nvPr/>
        </p:nvCxnSpPr>
        <p:spPr>
          <a:xfrm flipH="1">
            <a:off x="1641240" y="4573440"/>
            <a:ext cx="216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32"/>
          <p:cNvCxnSpPr/>
          <p:nvPr/>
        </p:nvCxnSpPr>
        <p:spPr>
          <a:xfrm flipH="1">
            <a:off x="7786440" y="457308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мешательство государства в сферу предпринимательской деятельности хозяйствующих субъектов обусловлено следующими обстоятель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14200" y="3286080"/>
            <a:ext cx="457200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упреждением экологических катастроф и решением экологических проблем, порождаемых свободой выбора субъектами сфе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786280" y="3571920"/>
            <a:ext cx="335772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ьбой с криминализацией предприниматель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643800" y="5626080"/>
            <a:ext cx="250020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твращением экономически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зис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социальных потряс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28760" y="5626080"/>
            <a:ext cx="242892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использованием общенациональ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643200" y="5627520"/>
            <a:ext cx="2500560" cy="1221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щитой наименее обеспеченных слоев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9"/>
          <p:cNvSpPr/>
          <p:nvPr/>
        </p:nvSpPr>
        <p:spPr>
          <a:xfrm>
            <a:off x="1428840" y="278604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10"/>
          <p:cNvSpPr/>
          <p:nvPr/>
        </p:nvSpPr>
        <p:spPr>
          <a:xfrm>
            <a:off x="1357200" y="464328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1"/>
          <p:cNvSpPr/>
          <p:nvPr/>
        </p:nvSpPr>
        <p:spPr>
          <a:xfrm>
            <a:off x="7643880" y="271476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2"/>
          <p:cNvSpPr/>
          <p:nvPr/>
        </p:nvSpPr>
        <p:spPr>
          <a:xfrm>
            <a:off x="4929120" y="464328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3"/>
          <p:cNvSpPr/>
          <p:nvPr/>
        </p:nvSpPr>
        <p:spPr>
          <a:xfrm>
            <a:off x="7500960" y="471492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500040" y="1643040"/>
            <a:ext cx="8286840" cy="824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определенных условий, обеспечивающих нормальное функционирование экономики в целом и стабильное участие предпринимателей страны в международном разделении труда и получение от этого оптимальных вы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5"/>
          <p:cNvSpPr/>
          <p:nvPr/>
        </p:nvSpPr>
        <p:spPr>
          <a:xfrm>
            <a:off x="4572000" y="11430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6"/>
          <p:cNvSpPr/>
          <p:nvPr/>
        </p:nvSpPr>
        <p:spPr>
          <a:xfrm>
            <a:off x="785880" y="4287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ы государственного контроля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8"/>
          <p:cNvSpPr/>
          <p:nvPr/>
        </p:nvSpPr>
        <p:spPr>
          <a:xfrm>
            <a:off x="1071720" y="3500280"/>
            <a:ext cx="2571480" cy="6429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ск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9"/>
          <p:cNvSpPr/>
          <p:nvPr/>
        </p:nvSpPr>
        <p:spPr>
          <a:xfrm>
            <a:off x="5786280" y="3571920"/>
            <a:ext cx="2786400" cy="6429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нансов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14200" y="4643280"/>
            <a:ext cx="4714920" cy="2040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деление бюджетных ассигнований на финансирование целевых инвестиционн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налоговых ставок на инвестируемую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неврирование уровнем и условиями процента на государственный кре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429160" y="4786200"/>
            <a:ext cx="3571920" cy="1797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ставление прямых кредитов и субсид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ставки налогообложения организаций, кредитующих малые предприятия, предоставление им со стороны местной администрацией финансовых гаран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4000680" y="1000080"/>
            <a:ext cx="1928520" cy="7146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тент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1714680" y="2143080"/>
            <a:ext cx="607212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граничению срока жизни пат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уществлению принудительного лицензирования новых патентов за относительно умеренную лицензио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17"/>
          <p:cNvSpPr/>
          <p:nvPr/>
        </p:nvSpPr>
        <p:spPr>
          <a:xfrm>
            <a:off x="2143080" y="4214880"/>
            <a:ext cx="28584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8"/>
          <p:cNvSpPr/>
          <p:nvPr/>
        </p:nvSpPr>
        <p:spPr>
          <a:xfrm>
            <a:off x="7143840" y="42861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19"/>
          <p:cNvSpPr/>
          <p:nvPr/>
        </p:nvSpPr>
        <p:spPr>
          <a:xfrm>
            <a:off x="4786200" y="17859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72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авовое регулирован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286080" y="12142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зако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14200" y="1214280"/>
            <a:ext cx="21430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целесообраз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357960" y="1214280"/>
            <a:ext cx="25718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инцип взаимной ответств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214200" y="2571840"/>
            <a:ext cx="242892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«О частном предпринимательстве» от 31 января 2006 г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643200" y="2500200"/>
            <a:ext cx="5214960" cy="158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ава на свободу предпринимательской деятельности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гарантируется нормами действующего законодательств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виде определения пределов правового регулирования частной предпринимательской деятельности и установления адресованных органам государственной власти и управления запретов на ограничение свободы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0" y="3714840"/>
            <a:ext cx="285768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от 19 июня 1997 года «Об индивидуальном предпринимательств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072040" y="4714920"/>
            <a:ext cx="378612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каз президента РК от 27 апреля 1998 года «О защите прав граждан и юридических лиц на свободу предпринимательской деятель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500280" y="5857920"/>
            <a:ext cx="3071880" cy="733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от 17 апреля 1995 года № 2200 «О лицензирован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13"/>
          <p:cNvSpPr/>
          <p:nvPr/>
        </p:nvSpPr>
        <p:spPr>
          <a:xfrm rot="10800000">
            <a:off x="2857680" y="278604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4"/>
          <p:cNvSpPr/>
          <p:nvPr/>
        </p:nvSpPr>
        <p:spPr>
          <a:xfrm>
            <a:off x="6072120" y="4214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5"/>
          <p:cNvSpPr/>
          <p:nvPr/>
        </p:nvSpPr>
        <p:spPr>
          <a:xfrm rot="2664000">
            <a:off x="3034800" y="4356000"/>
            <a:ext cx="358920" cy="8049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низ 16"/>
          <p:cNvSpPr/>
          <p:nvPr/>
        </p:nvSpPr>
        <p:spPr>
          <a:xfrm>
            <a:off x="4500720" y="4214880"/>
            <a:ext cx="357120" cy="150012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низ 17"/>
          <p:cNvSpPr/>
          <p:nvPr/>
        </p:nvSpPr>
        <p:spPr>
          <a:xfrm rot="5400000">
            <a:off x="3107520" y="36075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19"/>
          <p:cNvCxnSpPr/>
          <p:nvPr/>
        </p:nvCxnSpPr>
        <p:spPr>
          <a:xfrm flipH="1">
            <a:off x="1571760" y="785880"/>
            <a:ext cx="643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21"/>
          <p:cNvCxnSpPr/>
          <p:nvPr/>
        </p:nvCxnSpPr>
        <p:spPr>
          <a:xfrm flipH="1">
            <a:off x="4284360" y="78588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23"/>
          <p:cNvCxnSpPr/>
          <p:nvPr/>
        </p:nvCxnSpPr>
        <p:spPr>
          <a:xfrm>
            <a:off x="6215040" y="857160"/>
            <a:ext cx="12866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xtBox 24"/>
          <p:cNvSpPr/>
          <p:nvPr/>
        </p:nvSpPr>
        <p:spPr>
          <a:xfrm>
            <a:off x="0" y="5411880"/>
            <a:ext cx="3143160" cy="1372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РК «О государственной поддержке малого предпринимательства»  от 19 июня 1997 года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3357720" y="3000240"/>
            <a:ext cx="2786040" cy="11912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осударственная поддержка малого и средне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57120" y="857160"/>
            <a:ext cx="2643120" cy="794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рганизация подготовки, переподготовки и повышение квалификации кад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572160" y="928800"/>
            <a:ext cx="228600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льготных условий использования государственных финансовых, статистических, материально-технических и информационных ресурсов, а также научно-технических разработок и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2286000"/>
            <a:ext cx="2286000" cy="1585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ановление упрощённого порядка государственной регистрации, лицензирования  деятельности, сертификации 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643200" y="214200"/>
            <a:ext cx="207180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ановление правового режима благоприятствования для субъектов малого предпринимательства, включающего в себя льготный режим налогообложения, уплаты таможенных пошл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214880" y="4929120"/>
            <a:ext cx="1928880" cy="1159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ние системы привлечения и использования инвестиций, включая иностр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85880" y="4429080"/>
            <a:ext cx="2714400" cy="1798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держка внешнеэкономической деятельности субъектов малого предпринимательства, включая развитие их торговых, научно-технических, производственных и иных связей с зарубежными партнё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7072200" y="4000680"/>
            <a:ext cx="1571760" cy="2225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ятие специальных программ кредитования субъектов малого предпринимательства с определением финансовых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14240" y="1643040"/>
          <a:ext cx="7643880" cy="4857840"/>
        </p:xfrm>
        <a:graphic>
          <a:graphicData uri="http://schemas.openxmlformats.org/drawingml/2006/table">
            <a:tbl>
              <a:tblPr/>
              <a:tblGrid>
                <a:gridCol w="1836720"/>
                <a:gridCol w="1362240"/>
                <a:gridCol w="2222640"/>
                <a:gridCol w="2222280"/>
              </a:tblGrid>
              <a:tr h="441360">
                <a:tc rowSpan="2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1 апреля 2010г.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 к 1 апреля 2009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арь-март 2010г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 к январю-марту 2009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активных субъектов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занят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уск продук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 сопоставимых цена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мол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юб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мат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ырау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ад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мбыл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ганд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анай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зылорди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нгистау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ж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влодар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очно-Казахстан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Аст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Алм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785880" y="571680"/>
            <a:ext cx="757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алого и среднего предпринимательства в Республике Казах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10:43Z</dcterms:created>
  <dc:creator>Настя</dc:creator>
  <dc:description/>
  <dc:language>en-US</dc:language>
  <cp:lastModifiedBy>Admin</cp:lastModifiedBy>
  <dcterms:modified xsi:type="dcterms:W3CDTF">2011-03-10T07:26:06Z</dcterms:modified>
  <cp:revision>43</cp:revision>
  <dc:subject/>
  <dc:title>Слайд 1</dc:title>
</cp:coreProperties>
</file>