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4E31-2156-441A-8925-6640EB53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837B-1842-49DA-9B18-835E8BB2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500F-2F63-4474-8E37-231A6B69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D62F-967C-4394-95DB-7571FE09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0CD9-F087-48CC-B5DF-D102618C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B58A-BFF5-4EEC-8A1F-31475D7F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8F89-805E-47B8-B7D9-9859FCB4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4E26-A7FE-4FC1-9817-E9F4BDE4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DAEC-29E2-4745-9D97-EB71E233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A3BB-3451-436B-A971-33229C32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36DC-1B80-4C95-B5BA-012F21E2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01F1-9669-4619-AFD5-FD42287E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E841-5211-4EEA-A655-DD67214F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F71F-CB21-42CB-843F-3277233C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47B8-B765-444B-B2F5-07B17CC7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765A-2DE0-4D94-A16F-18A977B1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C030-0294-4224-81F2-8D512E7E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76A00-AC6E-48DB-93E1-20ED4E3E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8C9D1-D022-40FB-82A0-BC090A2C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C3817-C0AD-462D-9347-E4E96460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09126-3592-4422-91AB-D9833FBF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3CEF7-E4A2-49CA-AAA0-714EFAC5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50A0-9E77-471C-8089-B24B00C2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68B78-CF30-4893-BFD2-02838CEF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D9D3B-6EDA-4B74-8A3E-784F149C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35274-085C-48D6-8BCF-8B87AA34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3004C-EA99-4E61-B6ED-B557929F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2FC6D-F690-4BFE-BA46-7E4C37C3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CC421-30DD-4E71-80E9-9A07208E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7F4DE-E5A3-4A37-81D7-E970891D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EDF4C-6A90-465F-AA7E-57FA3F55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73220-5782-4C0C-BB07-0A06A283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78DA5-A4C9-4353-8083-153D4A11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84E4-5FA8-4CD4-8E11-742A7198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2B629-87DE-4DF3-90CF-29816073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98449-614E-42EB-B574-8776D2CB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979E6-D51C-4ED3-BCE6-7A4E65B4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589B0-7E47-4E34-82F7-D3EAC6FB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E3FB2-08AD-4496-AB7A-E5AC5E84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E5ABE-0BA7-49CA-99E8-9511A37C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20573-9038-44D8-975A-CA0E325D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BF09B-645C-42AE-AAFD-7839DA2B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96ECE-A41A-4A42-AED9-B54155A3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B686E-A5CF-4E88-AEC9-E15ECDD8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3F48-CF16-4624-94F8-C4216CB3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2AB4F-9E5F-4D00-9737-711B2FDD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94045-2419-4F9C-97E0-67EAC87A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0876D-32AA-4898-8ECB-CC659DC0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32BE8-3837-4748-A86B-5D46D063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48EFB-1F11-429C-852D-EEF8F254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6C14C-3A2C-4E0F-A3CA-7E0F1C3D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A529B-CE61-44E6-9403-DCF74F9E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279FC-89C5-4883-A7AA-07081CC4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2FD8B-35E2-47B3-9719-D520B143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833B3-52B4-4A02-AF07-A276BC08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062-3386-4EC4-B4BD-B2C8D2FF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7A800-FAED-4C38-AB44-2A149E65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A25F0-B573-4440-98C4-8318E2FB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9483E-4ADA-4926-BDEA-92EB91E3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3F7EB-3061-40AA-B160-E02A23F9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7D90F-41D7-43F3-A458-C93FBF47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D4920-2DB6-479D-B851-939BC174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73184-68D7-4AB8-A599-0430E204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C81D9-90A0-448C-A011-F800C05E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43604-B89F-4B5E-A0AF-4FADFDE6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FA586-7D30-4E2D-B527-1BA3DAD6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F024-E8B1-49E7-A768-22717FBD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D3CB1-1D64-4252-9961-4A1C2B8B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0EB51-7021-4109-87A9-41719E84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EA45B-88E6-4409-A303-BB4AD09A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77EED-4D79-4040-8455-B545DE2F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C82DA-BACE-4359-A46A-31EB3C5B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FB5EB-F94D-49E5-953C-95EAA619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CE792-F584-41AE-B14B-052EAD4E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14036-DE4D-47A4-A8EF-6F4E5BD7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F7F32-13B8-4E8F-A592-D61D8407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7D49B-883D-41C7-AA9E-66B51544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DE67-5CD4-4CE8-9147-7171DF8E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CCCD6-E7DE-4CB0-BBB4-F66D64D2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F01E4-891A-4A1D-8899-BADC79D6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A3B4B-417A-433E-B3D3-6D7CBB84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7CE52-5915-4A9E-9917-35BD9962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42A15-C20A-4823-B513-1871224E3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CF40-1201-44D5-8997-900C84C8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0AB3-2249-4A3C-A2B4-A1B39B0EB5DE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E202-57C5-4BE0-9A8E-E41130DAAF00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BA2D-764A-41B2-AD65-C2DD15C0C286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1BFF-E092-4407-963E-7AAD984444A8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3D15-286F-4DC2-B54E-97A68A89E1AC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FAF7-5ED3-483B-B07D-C9842ADD6BC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C2AE-4A2B-473A-8DD9-E164E92D592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822240" y="1305000"/>
            <a:ext cx="7785360" cy="13050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3995280" y="5661000"/>
            <a:ext cx="4954680" cy="93672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ыполнил: Омельченко П.Н.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тудент 1 курса специальности «Экология»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914400" y="333000"/>
            <a:ext cx="7772400" cy="60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344520" algn="just">
              <a:lnSpc>
                <a:spcPct val="8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100 лет назад отцы — основатели космонавтики вряд ли могли себе представить, что космические корабли будут выбрасывать на свалку после одного-единственного полета. Неудивительно, что первые проекты кораблей виделись многоразовыми и зачастую крылатыми. Долгое время — до самого начала пилотируемых полетов — они конкурировали на чертежных досках конструкторов с одноразовыми «Востоками» и «Меркуриями». Увы, большинство многоразовых кораблей так и остались проектами, а единственная система многократного применения, принятая в эксплуатацию (Space Shuttle), оказалась страшно дорогой и далеко не самой надежной. Почему так получилось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Рисунок 2" descr="http://galspace.spb.ru/index140.file/01.jpg"/>
          <p:cNvPicPr/>
          <p:nvPr/>
        </p:nvPicPr>
        <p:blipFill>
          <a:blip r:embed="rId1"/>
          <a:stretch/>
        </p:blipFill>
        <p:spPr>
          <a:xfrm>
            <a:off x="611280" y="260280"/>
            <a:ext cx="5333760" cy="381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2" name=""/>
          <p:cNvGraphicFramePr/>
          <p:nvPr/>
        </p:nvGraphicFramePr>
        <p:xfrm>
          <a:off x="539640" y="4149720"/>
          <a:ext cx="8136000" cy="242712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13190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"Зенгер" Так виделся запуск космического самолета немецким инжинерам в середине 1980-х годов. Первая ступень - самолет-разгонщик с прямоточными воздушнымо-реактивными двигателями. Вторая орбитальная ступень стартует на высоте более 30 км при скорости 6,8 Маха. стартовая масса системы - 340 т, из них 100 т водорода. Вторая ступень несет 65,5 т ракетного топлива. Экипаж - 2 пилота, 4 пассажира, груз - 2-3 тонны. первая ступень проектировалась как гиперзвуковой пассажирский самолет на 250 мест. Орбитальная допускала модификацию на 36 пассажир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3160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Космодромы и ракеты нашего времени - XX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7920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"Гермес", Франция/ЕКА, 1979-1994. Орбитальный самолет, запускаемый вертикально ракетой Ариан-5, садящийся горизонтально с боковым маневром до 1500 км. Стартовая масса - 700 т, орбитальная ступень - 10-20 т. Экипаж 3-4 человека, вывозимый груз - 3 т, возвращаемый 1,5 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>
                      <a:noFill/>
                    </a:lnB>
                    <a:solidFill>
                      <a:srgbClr val="f5f5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539640" y="3860640"/>
          <a:ext cx="8425080" cy="2768760"/>
        </p:xfrm>
        <a:graphic>
          <a:graphicData uri="http://schemas.openxmlformats.org/drawingml/2006/table">
            <a:tbl>
              <a:tblPr/>
              <a:tblGrid>
                <a:gridCol w="8425080"/>
              </a:tblGrid>
              <a:tr h="32400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8985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"Клипер", Россия, с 2000 года. Разрабатываемый новый космический корабль с многоразовой кабиной для доставки экипажа и грузов на околоземную орбиту и орбитальную станцию. Вертикальный запуск ракетой "Союз-2", посадка горизонтальная либо парашютная. Экипаж - 5-6 человек, стартовая масса корабля - до 13 т, посадочная масса - до 8,8 т. Ожидаемый срок - 2015 год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3240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Космодромы и ракеты нашего времени - XX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8982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Venture Star, США, 1993-2001. Проект одноступенчатой многоразовой транспортной космической системы с вертикальным стартом и горизонтальной посадкой. Работы были свернуты на стадии прототипа (проект Х-33) из-за многочисленных технических проблем. Основная - недостаточная прочность конструкции при жестких ограничениях на массу аппарата в цело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32400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</a:tbl>
          </a:graphicData>
        </a:graphic>
      </p:graphicFrame>
      <p:pic>
        <p:nvPicPr>
          <p:cNvPr id="374" name="Рисунок 4" descr="http://galspace.spb.ru/index140.file/03.jpg"/>
          <p:cNvPicPr/>
          <p:nvPr/>
        </p:nvPicPr>
        <p:blipFill>
          <a:blip r:embed="rId1"/>
          <a:stretch/>
        </p:blipFill>
        <p:spPr>
          <a:xfrm>
            <a:off x="3780000" y="71280"/>
            <a:ext cx="53337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63640" y="115560"/>
            <a:ext cx="35290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Челноки нового поколе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0" y="3789360"/>
          <a:ext cx="3780000" cy="3068640"/>
        </p:xfrm>
        <a:graphic>
          <a:graphicData uri="http://schemas.openxmlformats.org/drawingml/2006/table">
            <a:tbl>
              <a:tblPr/>
              <a:tblGrid>
                <a:gridCol w="3780000"/>
              </a:tblGrid>
              <a:tr h="2984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5238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Эскиз стартовой компоновки космического корабля "Клипер" (один из вариантов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984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Космодромы и ракеты нашего времени - XX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16495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"Буран", СССР, 1976-? (не закрыт). Многоразовый космический корабль, аналог системы Space Shuttl. Вертикальный старт, горизонтальная посадка с боковым маневром 2000 км. Стартовая масса (с ракетой "Энергия") - 2375 т, орбитальная ступень 105 т. Экипаж - 10 человек, полезная нагрузка - 30 т. На снимке крупнейший в мире транспортный самолет Ан-225 "Мрия" перевозит Буран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984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</a:tbl>
          </a:graphicData>
        </a:graphic>
      </p:graphicFrame>
      <p:pic>
        <p:nvPicPr>
          <p:cNvPr id="377" name="Рисунок 7" descr="http://galspace.spb.ru/index140.file/06.jpg"/>
          <p:cNvPicPr/>
          <p:nvPr/>
        </p:nvPicPr>
        <p:blipFill>
          <a:blip r:embed="rId1"/>
          <a:stretch/>
        </p:blipFill>
        <p:spPr>
          <a:xfrm>
            <a:off x="0" y="0"/>
            <a:ext cx="5334120" cy="380988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6" descr="http://galspace.spb.ru/index140.file/05.jpg"/>
          <p:cNvPicPr/>
          <p:nvPr/>
        </p:nvPicPr>
        <p:blipFill>
          <a:blip r:embed="rId2"/>
          <a:stretch/>
        </p:blipFill>
        <p:spPr>
          <a:xfrm>
            <a:off x="3809880" y="3048120"/>
            <a:ext cx="5334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0" y="3789360"/>
          <a:ext cx="3780000" cy="3349800"/>
        </p:xfrm>
        <a:graphic>
          <a:graphicData uri="http://schemas.openxmlformats.org/drawingml/2006/table">
            <a:tbl>
              <a:tblPr/>
              <a:tblGrid>
                <a:gridCol w="3780000"/>
              </a:tblGrid>
              <a:tr h="2095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12819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МАКС, СССР/Россия, с 1985 года. Многоразовая система с воздушным стартом, посадка горизонтальная. Взлетная масса - 620 т, вторая ступень с топливным баком - 275 т, орбитальный самолет - 27 т. Экипаж - 2 человека, полезная нагрузка - до 8 т. По утверждению разработчиков (НПО Молния). МАКС - наиболее близкая к реализации проект многоразового корабля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322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Космодромы и ракеты нашего времени - XX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dcdcdc"/>
                    </a:solidFill>
                  </a:tcPr>
                </a:tc>
              </a:tr>
              <a:tr h="16318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Cambria"/>
                          <a:ea typeface="Times New Roman"/>
                        </a:rPr>
                        <a:t>"Орион". США. Новый корабль для доставки экипажа и грузов на околоземную и окололунную орбиты и обратно. Многоразовым является только модуль экипажа с теплозащитой. Старт вертикальный, спуск управляемый с использованием подъемной силы корпуса, приземление на парашюте. Масса орбитальной ступени - 25 т, масса при посадке - 7,5 т. Экипаж 4-6 человек. Первый пилотируемый полет - 2014 год, первый полет к Луне - 2020 год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 w="5760">
                      <a:solidFill>
                        <a:srgbClr val="4682b4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095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5760">
                      <a:solidFill>
                        <a:srgbClr val="4682b4"/>
                      </a:solidFill>
                    </a:lnR>
                    <a:lnT w="5760">
                      <a:solidFill>
                        <a:srgbClr val="4682b4"/>
                      </a:solidFill>
                    </a:lnT>
                    <a:lnB>
                      <a:noFill/>
                    </a:lnB>
                    <a:solidFill>
                      <a:srgbClr val="dcdcdc"/>
                    </a:solidFill>
                  </a:tcPr>
                </a:tc>
              </a:tr>
            </a:tbl>
          </a:graphicData>
        </a:graphic>
      </p:graphicFrame>
      <p:pic>
        <p:nvPicPr>
          <p:cNvPr id="380" name="Рисунок 9" descr="http://galspace.spb.ru/index140.file/08.jpg"/>
          <p:cNvPicPr/>
          <p:nvPr/>
        </p:nvPicPr>
        <p:blipFill>
          <a:blip r:embed="rId1"/>
          <a:stretch/>
        </p:blipFill>
        <p:spPr>
          <a:xfrm>
            <a:off x="0" y="0"/>
            <a:ext cx="5334120" cy="380988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8" descr="http://galspace.spb.ru/index140.file/07.jpg"/>
          <p:cNvPicPr/>
          <p:nvPr/>
        </p:nvPicPr>
        <p:blipFill>
          <a:blip r:embed="rId2"/>
          <a:srcRect l="0" t="2438" r="0" b="4951"/>
          <a:stretch/>
        </p:blipFill>
        <p:spPr>
          <a:xfrm>
            <a:off x="3809880" y="3357720"/>
            <a:ext cx="53341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1eeff"/>
                </a:solidFill>
                <a:latin typeface="Consolas"/>
              </a:rPr>
              <a:t>Спасибо за внимание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6:16:42Z</dcterms:created>
  <dc:creator>1</dc:creator>
  <dc:description/>
  <dc:language>en-US</dc:language>
  <cp:lastModifiedBy>Ната</cp:lastModifiedBy>
  <dcterms:modified xsi:type="dcterms:W3CDTF">2011-04-22T10:21:37Z</dcterms:modified>
  <cp:revision>7</cp:revision>
  <dc:subject/>
  <dc:title>Космические корабли</dc:title>
</cp:coreProperties>
</file>