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3ACB-AD41-4D83-97FD-146C8C2C4F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854C-FB66-466F-916A-BD6A9D732B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16C3-2AE7-4141-B5C5-58140A604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9867-BFE0-47A5-ABC8-F2C7EAC4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E745-3AD6-4D9F-9D64-D7FE3A530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4510-768E-46B0-914A-BCE96D66F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C8AE-3DA7-40FB-8B1E-8A1922F1E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6194-AAB7-4A41-9B97-6E23CA24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74EE-F940-47EC-9263-4817BCCC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D27C-24F3-485B-9AB8-93B7E5C7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5788-79F2-4053-A46C-B9FB9A2C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5EC2-D1B0-4E8F-929C-8156E579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E4EC-AC1D-4D32-8BCD-3EF2306B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2A2D-9CDA-4617-A3BF-EDED2BF6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3755-2BAE-427B-B440-2E4667AA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ADB3-2BD0-47FE-A325-443BE1B2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7313-5CA7-4B3A-8117-5179EF4B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EF7B-EAE3-4B63-A5B8-E3A7D17DB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5D59-55CF-4214-AD74-9C9AA353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501A3-58E6-4BEB-8AEF-C677E3A0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8348F-C1D8-420B-B0B1-E0840601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3DAB6-1979-4915-95F2-AB78C2A0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3D6FA-DEB7-4B63-B212-A2DEE618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D93C4-9F51-4968-9148-26BC8E02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D6D5-6871-4620-9253-ED6A408C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ED17E-D5B9-4CDD-BAA3-C07FC67B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89A4F-B072-4AAC-A767-D5200F05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FADB4-CD00-4B9D-9D27-C235AFC1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E4343-59D1-4163-910A-25B533CE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7712A-3213-4132-9221-28A51BAD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C76D6-A3BA-4495-966C-F54F6EE93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F7E2F-C8C3-4F88-8BA2-D43BEADA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DFC62-71F2-4564-BE98-8393C5722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E329E-5A3C-4D12-814A-EA92B503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4C814-7B59-40B2-8429-8FD0EC18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60B9-E425-4AE9-8B32-A8AB3D2B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5D3EC-4B92-4C9C-B4D2-D3A4ADDA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8A9BC-350C-48A5-A13D-28DFDE82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C868E-7D92-4208-9724-4FAB0E23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93298-CCD3-47F0-9F9A-6671DB80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44038-CF94-4BF2-A2FE-330457CA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698F2-F9A1-4124-AEE8-C64AAD0A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DEEE6-C117-4673-8B24-414FB7BE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8883B-9D4D-4EF7-B071-0E193F903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7B5FC-CD39-4EFC-AB9C-191AC4C4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59E34-D75F-4A63-B396-4AA8D11D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0801-D88B-4B43-8C39-0AF48D4B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DF5EF-4B50-4495-9BCF-AC8C8636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8F37E-28BE-40B5-B973-3C0E3F7A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9778D-FD4B-4CED-9187-4D381CDE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EEB9E-092E-428A-93E5-347710C0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E9F43-03C3-4227-9194-0D8844DE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17ABA-4C4D-4ADC-A5BD-8D753D5D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C879C-0E0D-4D87-907B-F04FB794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64EA5-682E-4D28-AAD5-E942670C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0D976-6E5F-4436-A564-B256C786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1DFE5-C22D-4EFE-B35C-DA2D90F7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B753-27CB-4C7F-8C97-6E699864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261E4-B31B-4ABA-BB34-FBE5FFDBF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CD89E-39EA-4134-B8EA-AB3F9CD8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AD92E-6511-4400-A079-75B59FF5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5B6C4-A403-4D31-AEAE-57EB3953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74D8D-A410-4B39-B53D-E7E736EA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6962B-CF69-4166-BF87-AD33580D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225C8-32F1-4254-9891-C079CE7A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00292-F043-4A94-88D3-4D828914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9A1FB-BD04-4263-AFA5-9FE0C0D4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74C28-A6FA-4985-9257-FE3C5A30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BDBA-0931-40BC-B418-037408B2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DD2D8-D505-44FE-B4AE-77BA8B4E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366AB-7A84-41E8-8602-477E78EB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0992C-46F2-408B-9EBD-087681A9B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4FAFD-73FA-4F9F-B167-9990EF8C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399BF-614C-45E8-A19D-CEA306E5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A685B-8DE8-47E9-B8FA-1D37E86C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FAE38-D159-440D-A481-EF5B906B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03A7F-5038-49F6-BC6E-B0656FF4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B2AFD-1A3A-475F-8130-36313C7E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5B52A-4644-4329-9C39-C688A9C9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C561-EE5F-4660-A101-7933C6A3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4B97E-1704-48B9-82B2-32A3C3B8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8034F-6D85-4082-B0AE-7D0CDF26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DA0B2-D8B3-474F-8F10-2B92FD00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7B1A6-7A8E-4637-9741-F63B8DB95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54EE9-B8A0-448D-8B8F-DC806908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3B32-143B-48F9-B3BC-CCC11D8D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A0F8-3B8B-4C25-A077-609B64AD328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55D8-219E-4235-A406-2F72B8D2B67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ABB2-CE70-4100-89DC-8C5C82EE86F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FD9A-A334-473A-B241-6C7088065A6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EA70-77F1-4B23-9495-CAF8B62A9F3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A9C0-5644-4C26-9BCE-DDC01995CD5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0120-18ED-46CC-B424-C59072CF32D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654c"/>
                </a:solidFill>
                <a:latin typeface="Corbel"/>
              </a:rPr>
              <a:t>ПРЕЗЕНТАЦ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357200" y="257184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Corbel"/>
              </a:rPr>
              <a:t>«</a:t>
            </a:r>
            <a:r>
              <a:rPr b="1" i="1" lang="ru-RU" sz="2600" spc="-1" strike="noStrike">
                <a:solidFill>
                  <a:srgbClr val="0070c0"/>
                </a:solidFill>
                <a:latin typeface="Corbel"/>
              </a:rPr>
              <a:t>ИЗМЕРНИЕ РЕЗУЛЬТАТОВ НАЦИОНАЛЬНОЙ ЭКОНОМИКИ.                                                        СИСТЕМА НАЦИОНАЛЬНЫХ СЧЕТОВ</a:t>
            </a:r>
            <a:r>
              <a:rPr b="1" lang="ru-RU" sz="2600" spc="-1" strike="noStrike">
                <a:solidFill>
                  <a:srgbClr val="0070c0"/>
                </a:solidFill>
                <a:latin typeface="Corbel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142920"/>
            <a:ext cx="7499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МЕТОДЫ РАСЧЕТА ВНП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571760" y="857160"/>
          <a:ext cx="7000920" cy="5851440"/>
        </p:xfrm>
        <a:graphic>
          <a:graphicData uri="http://schemas.openxmlformats.org/drawingml/2006/table">
            <a:tbl>
              <a:tblPr/>
              <a:tblGrid>
                <a:gridCol w="2333520"/>
                <a:gridCol w="2333520"/>
                <a:gridCol w="2333880"/>
              </a:tblGrid>
              <a:tr h="642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асход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 доход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 добавленной стои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</a:tr>
              <a:tr h="5934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П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C + I + G + N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д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 - потребление (расход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- инвестиции (расход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- расход правительств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чистый экспорт.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НП = W + R + i + P + Тс+А, гд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W  - заработная плат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  - рент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   - процент; (выплачивается фирмам – поставщикам заемного капитал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  - прибыль корпорац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с – косвенные налоги на бизнес (налог с продаж; НДС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 – амортизац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овой национальный продукт определяется как сумма   добавленных стоимостей всех сфер экономи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етоды оценки ВНП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071360" y="1523880"/>
            <a:ext cx="4786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НП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orbel"/>
              </a:rPr>
              <a:t>потенциальны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НП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orbel"/>
              </a:rPr>
              <a:t>фактически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азрыв ВНП =( ВНП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orbel"/>
              </a:rPr>
              <a:t>потен.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ВНП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orbel"/>
              </a:rPr>
              <a:t>факт.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    х 100%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НП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orbel"/>
              </a:rPr>
              <a:t>факт.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5929200" y="1857240"/>
            <a:ext cx="30052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оминальный ВНП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еальный ВНП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НП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orbel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=      ВНП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orbel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000000"/>
                </a:solidFill>
                <a:latin typeface="Corbel"/>
              </a:rPr>
              <a:t>                            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orbel"/>
              </a:rPr>
              <a:t>Дефлятор ВНП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Прямая соединительная линия 7"/>
          <p:cNvSpPr/>
          <p:nvPr/>
        </p:nvSpPr>
        <p:spPr>
          <a:xfrm>
            <a:off x="2714760" y="3500280"/>
            <a:ext cx="178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Прямая соединительная линия 10"/>
          <p:cNvSpPr/>
          <p:nvPr/>
        </p:nvSpPr>
        <p:spPr>
          <a:xfrm>
            <a:off x="7215120" y="3071880"/>
            <a:ext cx="1214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044720" y="1506600"/>
          <a:ext cx="4813200" cy="4703760"/>
        </p:xfrm>
        <a:graphic>
          <a:graphicData uri="http://schemas.openxmlformats.org/drawingml/2006/table">
            <a:tbl>
              <a:tblPr/>
              <a:tblGrid>
                <a:gridCol w="4813200"/>
              </a:tblGrid>
              <a:tr h="470376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6000840" y="1500120"/>
          <a:ext cx="3000240" cy="4702320"/>
        </p:xfrm>
        <a:graphic>
          <a:graphicData uri="http://schemas.openxmlformats.org/drawingml/2006/table">
            <a:tbl>
              <a:tblPr/>
              <a:tblGrid>
                <a:gridCol w="3000240"/>
              </a:tblGrid>
              <a:tr h="470232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оотношение между ВВП и ВНП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285920" y="2428920"/>
          <a:ext cx="7499160" cy="2378160"/>
        </p:xfrm>
        <a:graphic>
          <a:graphicData uri="http://schemas.openxmlformats.org/drawingml/2006/table">
            <a:tbl>
              <a:tblPr/>
              <a:tblGrid>
                <a:gridCol w="2500200"/>
                <a:gridCol w="1785960"/>
                <a:gridCol w="3213000"/>
              </a:tblGrid>
              <a:tr h="63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оизводство внутри стра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одукция отечественных производителей за рубеж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7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одукция иностранных предпри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одукция отечественных предпри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38" name="Прямая соединительная линия 8"/>
          <p:cNvSpPr/>
          <p:nvPr/>
        </p:nvSpPr>
        <p:spPr>
          <a:xfrm>
            <a:off x="2428920" y="1928880"/>
            <a:ext cx="235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39" name="Прямая со стрелкой 10"/>
          <p:cNvCxnSpPr/>
          <p:nvPr/>
        </p:nvCxnSpPr>
        <p:spPr>
          <a:xfrm flipH="1">
            <a:off x="2426400" y="1928520"/>
            <a:ext cx="252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0" name="Прямая со стрелкой 12"/>
          <p:cNvCxnSpPr/>
          <p:nvPr/>
        </p:nvCxnSpPr>
        <p:spPr>
          <a:xfrm flipH="1">
            <a:off x="4785480" y="1928520"/>
            <a:ext cx="252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1" name="TextBox 13"/>
          <p:cNvSpPr/>
          <p:nvPr/>
        </p:nvSpPr>
        <p:spPr>
          <a:xfrm>
            <a:off x="2857680" y="164304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ВП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Прямая соединительная линия 19"/>
          <p:cNvSpPr/>
          <p:nvPr/>
        </p:nvSpPr>
        <p:spPr>
          <a:xfrm>
            <a:off x="4714920" y="5357880"/>
            <a:ext cx="2214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43" name="Прямая со стрелкой 21"/>
          <p:cNvCxnSpPr/>
          <p:nvPr/>
        </p:nvCxnSpPr>
        <p:spPr>
          <a:xfrm flipV="1">
            <a:off x="4714920" y="4787280"/>
            <a:ext cx="216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4" name="Прямая со стрелкой 23"/>
          <p:cNvCxnSpPr/>
          <p:nvPr/>
        </p:nvCxnSpPr>
        <p:spPr>
          <a:xfrm flipV="1">
            <a:off x="6928200" y="4787280"/>
            <a:ext cx="252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5" name="TextBox 24"/>
          <p:cNvSpPr/>
          <p:nvPr/>
        </p:nvSpPr>
        <p:spPr>
          <a:xfrm>
            <a:off x="5357880" y="54291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НП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Взаимосвязь макроэкономических показателе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000080" y="1643040"/>
          <a:ext cx="8001000" cy="5162400"/>
        </p:xfrm>
        <a:graphic>
          <a:graphicData uri="http://schemas.openxmlformats.org/drawingml/2006/table">
            <a:tbl>
              <a:tblPr/>
              <a:tblGrid>
                <a:gridCol w="1744560"/>
                <a:gridCol w="1744920"/>
                <a:gridCol w="1744560"/>
                <a:gridCol w="1454040"/>
                <a:gridCol w="1312920"/>
              </a:tblGrid>
              <a:tr h="68544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аловой национальный дох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морт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Чистый национальный проду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освенные нало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циональный дох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Без налогов + трансфер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асполага-ем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ох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береже-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требле-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572314"/>
                </a:solidFill>
                <a:latin typeface="Corbel"/>
              </a:rPr>
              <a:t>Функции системы национальных счет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999800"/>
            <a:ext cx="74995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лужит основой для выработки экономической политик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экономическое прогнозирование деятельности всех субъектов (агентов) национальной экономик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поставление макроэкономических показателей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лужит связующим звеном экономической теории с хозяйственной практикой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спользуется для оценки конъюнктуры и выработки стратегии и тактики хозяйственной политики фир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Таблица счетов и балансирующих статей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428840" y="1571760"/>
          <a:ext cx="7499160" cy="3539880"/>
        </p:xfrm>
        <a:graphic>
          <a:graphicData uri="http://schemas.openxmlformats.org/drawingml/2006/table">
            <a:tbl>
              <a:tblPr/>
              <a:tblGrid>
                <a:gridCol w="2708280"/>
                <a:gridCol w="4790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чет текущих опера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Балансирующая стат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чет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аловой внутренний продукт (ВВП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чет образования дох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аловая прибыль (ВП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чет распределения первичных дох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аловой национальный доход (ВНД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чет вторичного распределения дох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аловой национальный располагаемый доход (ВНРД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чет использования дох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аловое сбережение (ВНС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Недостатки системы национальных счетов (СНС)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4143240" y="2286000"/>
          <a:ext cx="4071960" cy="3429000"/>
        </p:xfrm>
        <a:graphic>
          <a:graphicData uri="http://schemas.openxmlformats.org/drawingml/2006/table">
            <a:tbl>
              <a:tblPr/>
              <a:tblGrid>
                <a:gridCol w="4071960"/>
              </a:tblGrid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7e2"/>
                    </a:solidFill>
                  </a:tcPr>
                </a:tc>
              </a:tr>
            </a:tbl>
          </a:graphicData>
        </a:graphic>
      </p:graphicFrame>
      <p:sp>
        <p:nvSpPr>
          <p:cNvPr id="354" name="Стрелка вправо 3"/>
          <p:cNvSpPr/>
          <p:nvPr/>
        </p:nvSpPr>
        <p:spPr>
          <a:xfrm>
            <a:off x="1357200" y="2643120"/>
            <a:ext cx="2786040" cy="2857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TextBox 5"/>
          <p:cNvSpPr/>
          <p:nvPr/>
        </p:nvSpPr>
        <p:spPr>
          <a:xfrm>
            <a:off x="2000160" y="3500280"/>
            <a:ext cx="18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НС не учитывает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TextBox 8"/>
          <p:cNvSpPr/>
          <p:nvPr/>
        </p:nvSpPr>
        <p:spPr>
          <a:xfrm>
            <a:off x="4357800" y="2500200"/>
            <a:ext cx="321444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слуги домохозяек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дукция приусадебного хозяйства, используемая для собственного потребления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дукция теневой экономики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артерный обмен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85560" y="20714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пасибо за внимание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17:36:55Z</dcterms:created>
  <dc:creator>Рома</dc:creator>
  <dc:description/>
  <dc:language>en-US</dc:language>
  <cp:lastModifiedBy>Рома</cp:lastModifiedBy>
  <dcterms:modified xsi:type="dcterms:W3CDTF">2009-03-06T20:16:13Z</dcterms:modified>
  <cp:revision>27</cp:revision>
  <dc:subject/>
  <dc:title>ДОКЛАД</dc:title>
</cp:coreProperties>
</file>