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3C9A-2D42-4FD8-9CA8-2A1D8FFD2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750C-9D9E-449D-A703-B47D474D9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4D74-8C33-4C55-86F0-5E7E7E31B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DF09-DDEF-4AA8-B12A-01D2D51AC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BF4A-9DE0-4ED2-903C-512120104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C070-451C-4602-B913-15551056E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BDF7-67B3-4A6A-B577-D3101BCF6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FB54-4B63-412E-80E6-88E977B97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0882-FA39-47D1-AFFC-EBD186CFA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382D-623F-4962-AFFF-98768896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F6A4-B5E4-4B6C-BA4A-B7830C44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4645-8433-4D6F-99C4-B2640D8B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E981-E9FA-4334-8194-E3495CD8212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2362320"/>
            <a:ext cx="711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ЕКТ СТРУКТУРИРОВАННОЙ КАБЕЛЬНОЙ СИСТЕМЫ ДЛЯ ЗДАНИЯ ГАЗОПРОМЫСЛОВОГО УПРАВЛЕНИЯ В ПОСЕЛКЕ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ГОД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533520" y="30492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положение системы охранной сигнализации на пятом этаж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7600" y="380880"/>
            <a:ext cx="79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положение системы видеонаблюдения на первом этаж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33520" y="3049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положение системы контроля доступа в вестибюле первого этаж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zd" descr=""/>
          <p:cNvPicPr/>
          <p:nvPr/>
        </p:nvPicPr>
        <p:blipFill>
          <a:blip r:embed="rId1"/>
          <a:stretch/>
        </p:blipFill>
        <p:spPr>
          <a:xfrm>
            <a:off x="2325600" y="304920"/>
            <a:ext cx="431964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762120"/>
            <a:ext cx="815328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обходимые системы современного офисного зда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фонная (городская и местная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ная (ЛВС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видения (городского и офисного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арной сигнализации и пожаротуш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ранной сигнализации 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иде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иторинга климатических условий и управления и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я доступа персона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191120" y="914400"/>
          <a:ext cx="439092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914400"/>
                    <a:ext cx="43909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609480" y="838080"/>
            <a:ext cx="3886200" cy="27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кциональные элементы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й Распределительный Пункт (ГРП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истральный кабель территор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еделительный Пункт Здания (РПЗ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гистральный кабель зда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еделительный Пункт Этажа (РПЭ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изонтальный кабел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а перехода (ТП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коммуникационный Разъем (ТР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228600"/>
            <a:ext cx="6096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Некоторые требования к 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кту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К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762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имущества структурированных кабельных систем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1828800"/>
            <a:ext cx="8001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версальнос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со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даптив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пособнос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боль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исленность обслуживающего персонал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в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со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кономичность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zd1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3343320" cy="48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200400" y="2286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СК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143000" y="1066680"/>
          <a:ext cx="3343320" cy="481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066680"/>
                    <a:ext cx="3343320" cy="481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152280" y="8380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ппарат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1371600"/>
            <a:ext cx="53316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0" y="990720"/>
          <a:ext cx="4264200" cy="510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990720"/>
                    <a:ext cx="4264200" cy="51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143000" y="1066680"/>
          <a:ext cx="3343320" cy="481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066680"/>
                    <a:ext cx="3343320" cy="481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3200400" y="2286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СК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480060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сточник стабилизированного пит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181480" y="29718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Источник бесперебойного пит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590560" y="3505320"/>
            <a:ext cx="243828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743200" y="5410080"/>
            <a:ext cx="22096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zd3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3343320" cy="4810320"/>
          </a:xfrm>
          <a:prstGeom prst="rect">
            <a:avLst/>
          </a:prstGeom>
          <a:ln w="0">
            <a:noFill/>
          </a:ln>
        </p:spPr>
      </p:pic>
      <p:pic>
        <p:nvPicPr>
          <p:cNvPr id="65" name="p4_9" descr="p4_9.gif (26308 bytes)"/>
          <p:cNvPicPr/>
          <p:nvPr/>
        </p:nvPicPr>
        <p:blipFill>
          <a:blip r:embed="rId2"/>
          <a:stretch/>
        </p:blipFill>
        <p:spPr>
          <a:xfrm>
            <a:off x="5257800" y="2362320"/>
            <a:ext cx="2666880" cy="1960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 flipH="1">
            <a:off x="4186080" y="2176560"/>
            <a:ext cx="91440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191120" y="2176560"/>
            <a:ext cx="909360" cy="1252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4186080" y="2176560"/>
            <a:ext cx="914400" cy="761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200400" y="22860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СК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05520" y="19051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бочее мес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5320" y="5943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АТ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1752120" y="5638680"/>
            <a:ext cx="175284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1447920" y="1295280"/>
          <a:ext cx="6276960" cy="510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295280"/>
                    <a:ext cx="627696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1219320" y="45720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Распределение оборудования СКС на пятом этаж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1T02:20:19Z</dcterms:created>
  <dc:creator>Dzen</dc:creator>
  <dc:description/>
  <dc:language>en-US</dc:language>
  <cp:lastModifiedBy>Dzen</cp:lastModifiedBy>
  <dcterms:modified xsi:type="dcterms:W3CDTF">2003-07-05T12:41:43Z</dcterms:modified>
  <cp:revision>49</cp:revision>
  <dc:subject/>
  <dc:title>Презентация PowerPoint</dc:title>
</cp:coreProperties>
</file>