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63AF-C84A-4D8E-BB12-75868AD08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FC02-9987-41B1-9634-7D16BE0C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FBEE-E7BC-4452-8F6C-6254DFBBD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CCDD-C380-4865-85FC-658A6062C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C2D1-4CB1-4E88-8F42-944C0981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EA4F-D8A7-420B-BA6C-44ECFE2B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0C54-6E84-4EBD-BB12-EAB212D6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7EF4-4640-476C-B7B0-1A2956F0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AE76-1BF2-40F9-AA9F-594B94B7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D0D9-EC23-45B4-A2E9-3E030E8C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2A32-B6CF-4A70-BEA3-DD392C28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F454-9859-448E-A207-F72DEA18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17ED-D5F6-4682-937F-6AC28B6C4F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8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НЫ И СНОВИДЕНИЯ В РУССКОЙ ЛИТЕРАТУР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928960" y="285840"/>
            <a:ext cx="32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ферат на т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5357880" y="2786040"/>
            <a:ext cx="335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Ученицы 11 класса «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ишуковой Алены Дмитрие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5429160" y="364320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аучный руковод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шинина Ирина Викт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3357720" y="6072120"/>
            <a:ext cx="242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Мастере и Маргарите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4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5"/>
          <p:cNvSpPr/>
          <p:nvPr/>
        </p:nvSpPr>
        <p:spPr>
          <a:xfrm>
            <a:off x="571680" y="2214720"/>
            <a:ext cx="3500280" cy="39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ны использованы как «мост» в другую реальность, может быть, в гипнотический транс, наведенный Воландом и его свитой (или самим Булгаковым?). Сон Понтия  Пилата символичен – противостояние добра и зла, в результате которого побеждает добро, приходит прощение и свобода – путь к Истине. Кроме того, сон (а точнее его отсутствие) использован автором как способ более глубокого раскрытия образа прокуратора, а позднее - как наказание Пилат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6143760" y="1428840"/>
            <a:ext cx="2786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В серебристый сон ты бы с ним ушел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 дороге вечных звезд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д простором строгих гор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ы бы перед ним на колени встал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 стыдясь ни слов, ни слез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то любил - тот и распял...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. Пушки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4572000" y="3000240"/>
            <a:ext cx="450072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имвол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50920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звечное противостояние добра и зла (победа добр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крытие качеств геро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5092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н осознает, в чем его самая большая пробле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5092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н раскаивается в казни Иешу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5092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н люб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ще одно знач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50920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каз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3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в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5"/>
          <p:cNvSpPr/>
          <p:nvPr/>
        </p:nvSpPr>
        <p:spPr>
          <a:xfrm>
            <a:off x="1071720" y="1857240"/>
            <a:ext cx="700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 всех четырех произведениях сны и сновидения являются одними из важнейших художественных приемов, ибо они помогают автору полномернее донести до читателя свою мыс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6"/>
          <p:cNvSpPr/>
          <p:nvPr/>
        </p:nvSpPr>
        <p:spPr>
          <a:xfrm>
            <a:off x="1000080" y="3571920"/>
            <a:ext cx="5072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н – это всегда загадка, и, пытаясь ее разгадать, можно прийти к удивительным открытиям. (Недаром же таблица Менделеева приснилась Дмитрию Ивановичу!) Когда я работала над рефератом, мне захотелось перечитать мои любимые книги (ведь в них были сны!) и попытаться разобрать, что они – эти сны – значат. Вдруг я пролистнула, не обратив внимания, целый мир, полный ответов и смыс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4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571680" y="1644480"/>
            <a:ext cx="7000560" cy="42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Евгений Онегин» - А.С. Пушкин, 18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Преступление и наказание» - Ф.М. Достоевский, 18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Мастер и Маргарита», М.А. Булгаков, 19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Тихий Дон», М.А. Шолохов, 194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тья «Вещий сон генерала Корнилова. Над страницами Тихого Дона» -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Петр Ткаченко (Литературный журнал МОЛОКО), 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правочник Школьника изд.АСТ-ПРЕСС 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тья «Сон Татьяны Лариной» (рассылки сайта «Мир сновидений», выпуск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29),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Роль онейросферы в художественной системе М.А. Булгакова» -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Зимнякова В.В.,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тья «Сны Раскольникова» (социальный психоанализ от Сергея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Выгонского, выпуск 12),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ская Энциклопедия (Человек), 19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4" descr="8977_14.jpg"/>
          <p:cNvPicPr/>
          <p:nvPr/>
        </p:nvPicPr>
        <p:blipFill>
          <a:blip r:embed="rId1"/>
          <a:stretch/>
        </p:blipFill>
        <p:spPr>
          <a:xfrm>
            <a:off x="1981080" y="1530360"/>
            <a:ext cx="5181840" cy="379728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2714760" y="1785960"/>
            <a:ext cx="371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Calibri"/>
              </a:rPr>
              <a:t>Коне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вгений Онеги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ступление и наказа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ихий До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стер и Маргари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5" descr="Untitled-2.gif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тча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Untitled-2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1"/>
          <p:cNvSpPr/>
          <p:nvPr/>
        </p:nvSpPr>
        <p:spPr>
          <a:xfrm>
            <a:off x="1000080" y="2071800"/>
            <a:ext cx="714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лософу приснилось, что он стал мотыльком. И, проснувшись, он уже не знал, кто он: мудрый старец, видевший во сне, будто он стал мотыльком, или мотылёк, которому снится, что он — мудрый старе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3" descr="Untitled-2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чему я выбрала данную тему для своего рефер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677880" y="1714680"/>
            <a:ext cx="7788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р снов и сновидений издревле интересовал человека как что-то столь же близкое нашему пониманию сколь далекое от него. Бодрствуя, мы видим и понимаем, что происходит вокруг, оцениваем происходящее - наше сознание работает так, как мы этого хотим. Но что происходит с сознанием человека во сне? Тайна, покрытая мраком ночи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7"/>
          <p:cNvSpPr/>
          <p:nvPr/>
        </p:nvSpPr>
        <p:spPr>
          <a:xfrm>
            <a:off x="785880" y="3714840"/>
            <a:ext cx="5143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учение снов увлекает. Коснувшись однажды темы сновидений, стремишься изучить ее как можно больше. Так, однажды я заинтересовалась эзотерикой, в частности феноменом гипноза, а гипноз и сон связаны между собой более чем тесно. Мне стало интересно, имеют ли сны и сновидения столь же большую роль в литературе, и поэтому я выбрала именно такую тему для своего рефер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ль снов и сновидений в русской литерату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6"/>
          <p:cNvSpPr/>
          <p:nvPr/>
        </p:nvSpPr>
        <p:spPr>
          <a:xfrm>
            <a:off x="500040" y="1996920"/>
            <a:ext cx="678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русской литературе сны всегда играли не меньшую, а иногда и большую роль, чем реальная действительность. Многие авторы делали сон полноценным “действующим лицом” своих произведений. Сны позволяют лучше понять характеры их героев, причины их поступков, отношение к людям и к себе. Ведь, по сути, сон — это время, когда освобождается подсознание человека. Оно не сковано внешними условностями, не позволяет лгать, притворяться и прикрываться масками. Наверное, именно по этим причинам авторы так часто прибегают к приему раскрытия личности персонажа  через его с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ходе работы над рефератом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857160" y="2143080"/>
            <a:ext cx="414360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.. я рассмотрела четыре произведения российских классик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Евгений Онегин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Преступление и наказание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Тихий Дон»,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Мастер и Маргарита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аждом из этих романов сновидения играют свою, определенную роль – общих канонов нет и быть не мож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романе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Евгений Онегин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4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5"/>
          <p:cNvSpPr/>
          <p:nvPr/>
        </p:nvSpPr>
        <p:spPr>
          <a:xfrm>
            <a:off x="571680" y="2071800"/>
            <a:ext cx="335736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Александр Сергеевич Пушкин использует сны для раскрытия внутреннего мира героев (Татьяны и Онегина). С помощью большого количества слов-символов, использованных в описании сна Татьяны, автор не только раскрывает образы, но и предоставляет читателю шанс заглянуть за завесу тайны и узнать дальнейшие судьбы героев.  Помимо этого, сон Татьяны является художественным приемом, который делает текст романа красочне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6"/>
          <p:cNvSpPr/>
          <p:nvPr/>
        </p:nvSpPr>
        <p:spPr>
          <a:xfrm>
            <a:off x="5082480" y="1500120"/>
            <a:ext cx="35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«И снится чудный сон Татьяне.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5000760" y="2357280"/>
            <a:ext cx="3000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ова-символ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Зим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смерть Лен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нег, ручей, мост, ру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муж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Медвед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суженый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генера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ом (шалаш, хижина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[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дьб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нег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3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Преступлении и наказани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5"/>
          <p:cNvSpPr/>
          <p:nvPr/>
        </p:nvSpPr>
        <p:spPr>
          <a:xfrm>
            <a:off x="4572000" y="1550880"/>
            <a:ext cx="392904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... напротив, никакой красочности роману сны не придают, а еще больше затуманивают и без того неясные вещи. Так же, как и в «Евгении Онегине», сны здесь помогают лучше понять внутренний мир очень сложного человека – Родиона Раскольникова. Сны Раскольникова символичны (антитеза церкви и кабака в первом сне); их отголоски присутствуют на протяжении всего романа. Кроме того, прием снов помогает лучше понять смысл произведения (третий сон Раскольникова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285840" y="1643040"/>
            <a:ext cx="371484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чение сн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вый 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приятие убийства натурой человека (Раскольников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стоянная борьба души и разу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дзнаменование неминуемой ошиб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и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зможность отказаться от “эксперимента над собой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торой 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уки совести и страх разобла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прасное убийство повлечет за собой наказ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следствия воплощения теории в жизнь - апокалипси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равственное возрождение Раскольников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3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романе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Тихий Дон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5214960" y="1857240"/>
            <a:ext cx="3143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н генерала Корнилова – вещий. С помощью символов Шолохов как будто сам рассказывает генералу будущее его армии. Через сон автор дает оценку персонажа  – Корнилов – не тот герой, что спасет Россию; и показывает читателю внутренний мир генер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714240" y="1928880"/>
            <a:ext cx="33577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опоставления и символы сна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орнилов = Росс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осток и Запад = биография</a:t>
            </a:r>
            <a:br>
              <a:rPr sz="17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орнило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ценка сложившейся </a:t>
            </a:r>
            <a:br>
              <a:rPr sz="17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итуа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редвещение долгого </a:t>
            </a:r>
            <a:br>
              <a:rPr sz="17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тернистого пути генерал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Бабочка = губительная</a:t>
            </a:r>
            <a:br>
              <a:rPr sz="17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еумолимость обстоятельств, </a:t>
            </a:r>
            <a:br>
              <a:rPr sz="17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 которую попадает человек </a:t>
            </a:r>
            <a:br>
              <a:rPr sz="17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орнилов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1T08:35:59Z</dcterms:created>
  <dc:creator>Алёна Гришукова</dc:creator>
  <dc:description/>
  <dc:language>en-US</dc:language>
  <cp:lastModifiedBy>Алёна Гришукова</cp:lastModifiedBy>
  <dcterms:modified xsi:type="dcterms:W3CDTF">2008-06-01T11:52:38Z</dcterms:modified>
  <cp:revision>33</cp:revision>
  <dc:subject/>
  <dc:title>Слайд 1</dc:title>
</cp:coreProperties>
</file>