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F72-F80B-4E91-84EB-88A25845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379-7B1A-4B0C-BF6E-A1B1D1A9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569-80F2-4582-B49B-A9574E12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8F7-535D-434F-A2D2-C830A178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5DB-8A9B-4D60-926F-1AEFEC9A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C2E-0D01-4B37-BAB2-78A24A8A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1DF-5647-425F-9475-85BBD8DB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49E-6FA5-47CD-A921-DD92038A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E17-09EB-4530-8A7E-5D8321BE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EE2-C9EC-49D4-BF64-198E042F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F24-B2CE-4D0E-96EF-1AC08FAA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8B3-38A7-40CE-AC6A-D38D39AF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4CC-A958-4B22-B744-B7D34BF59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876920"/>
          </a:xfrm>
          <a:prstGeom prst="horizontalScroll">
            <a:avLst>
              <a:gd name="adj" fmla="val 12500"/>
            </a:avLst>
          </a:prstGeom>
          <a:noFill/>
          <a:ln w="117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urier New"/>
              </a:rPr>
              <a:t>CОВРЕМЕННЫЕ ТЕХНОЛОГИИ ПЕРЕДАЧИ АУДИОИНФОРМАЦИИ ЧЕРЕЗ ИНТЕРН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Автор: Ефимов А. Е. (с)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Comic Sans MS"/>
              </a:rPr>
              <a:t>Радиовещание в Интер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4b03"/>
                </a:solidFill>
                <a:latin typeface="Times New Roman"/>
              </a:rPr>
              <a:t>Почти очевидным стало перенесение систем радиовещания из обычного радиоэфира в цифровые сети. Тысячи радиостанций установили у себя потоковые серверы и начали передавать свои обычные “живые” программы в Интерне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речь желательно передавать в полосе частот до 5-6 кГц, а музыку – до 10-12 кГц, причем в стереофоническом режиме, т. е. передавать два канала одновременно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66"/>
                </a:solidFill>
                <a:latin typeface="Times New Roman"/>
              </a:rPr>
              <a:t>Однако скорости передачи звуковых потоков в Интернет для большинства потенциальных слушателей все еще ограничены, и приходится идти на некоторые компромиссы. Усовершенствование алгоритмов кодирования позволило получить вполне удовлетворительное качество звука при умеренной скорости передачи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0314"/>
            </a:gs>
            <a:gs pos="100000">
              <a:srgbClr val="b608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5562720" cy="495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2335320" cy="2020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52480" y="228600"/>
            <a:ext cx="1752840" cy="151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80880" y="2286000"/>
            <a:ext cx="1828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Courier New"/>
              </a:rPr>
              <a:t>Форматы передачи звуко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WAV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от waveform - форма сигна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AU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Sparc-ауди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000"/>
                </a:solidFill>
                <a:latin typeface="Times New Roman"/>
              </a:rPr>
              <a:t>AIFF</a:t>
            </a:r>
            <a:r>
              <a:rPr b="1" lang="en-US" sz="2400" spc="-1" strike="noStrike">
                <a:solidFill>
                  <a:srgbClr val="005000"/>
                </a:solidFill>
                <a:latin typeface="Times New Roman"/>
              </a:rPr>
              <a:t> (Audio Interchange Forma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3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ff03"/>
                </a:solidFill>
                <a:latin typeface="Times New Roman"/>
              </a:rPr>
              <a:t>MIDI</a:t>
            </a:r>
            <a:r>
              <a:rPr b="1" lang="en-US" sz="2400" spc="-1" strike="noStrike">
                <a:solidFill>
                  <a:srgbClr val="03ff03"/>
                </a:solidFill>
                <a:latin typeface="Times New Roman"/>
              </a:rPr>
              <a:t> (Musical Instrument Digital Interfa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3ff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ff03"/>
                </a:solidFill>
                <a:latin typeface="Times New Roman"/>
              </a:rPr>
              <a:t>MPEG</a:t>
            </a:r>
            <a:r>
              <a:rPr b="1" lang="en-US" sz="2400" spc="-1" strike="noStrike">
                <a:solidFill>
                  <a:srgbClr val="03ff03"/>
                </a:solidFill>
                <a:latin typeface="Times New Roman"/>
              </a:rPr>
              <a:t> - (Moution Picture Enhancing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На фоне отвлеченных споров о будущем Интернет, о протоколах и стандартах, призванных обеспечить внедрение новейших технологий, отрадно наблюдать, как одна из них – передача звукоданных – развивается практически. Причем в данном конкретном случае понятно назначение информации и известны ее потребители. Разработанные звуковые технологии масштабируемы, опираются на уже существующие стандарты и готовы к переносу в более скоростные сети, как только те станут реальностью. Тогда по сети будут передаваться звуковые потоки с</a:t>
            </a:r>
            <a:r>
              <a:rPr b="1" lang="en-US" sz="2400" spc="-1" strike="noStrike">
                <a:solidFill>
                  <a:srgbClr val="b00a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ачеством CD и без всяких перерыв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ff"/>
                </a:solidFill>
                <a:latin typeface="Comic Sans MS"/>
              </a:rPr>
              <a:t>THE END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22560" y="1752480"/>
            <a:ext cx="463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urier New"/>
              </a:rPr>
              <a:t>Передача звука в реальном време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224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мпания Progressive Networks разработала расширение языка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стема Real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ьзователь инициирует непрерывную передачу пакетов информации с сервера по сети Интер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Audio вместе со звуковой картой персонального компьютера превращает этот поток данных в зву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Интерне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глобальная компьютерная с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подчиняющаяся самым передовым в мире законам и нормам информационного 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8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6"/>
                </a:solidFill>
                <a:latin typeface="Times New Roman"/>
              </a:rPr>
              <a:t>Интернет станет привычной и повседневной рабочей средой для не только для телефонии и видеоконференций, но и для радио- и телевизионного вещ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526520" cy="72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59092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36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бонент 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окальная телефонная сеть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Шлюз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окальная телефонная сеть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бонент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17524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6668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657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7150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7524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26668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3657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571500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533520"/>
            <a:ext cx="7534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2f1af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Компьютерная телефония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100000">
                    <a:srgbClr val="2f1af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db9"/>
                </a:solidFill>
                <a:latin typeface="Times New Roman"/>
              </a:rPr>
              <a:t>Варианты использования интернет-телефон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1337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5146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Рассмотрим варианты использования интернет-телефона и оценим воздействие Сети в различных случая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Компьютер - компью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Телефон - телеф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4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b03"/>
                </a:solidFill>
                <a:latin typeface="Times New Roman"/>
              </a:rPr>
              <a:t>Компьютер - телефон (телефон - компьюте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4b03"/>
                </a:solidFill>
                <a:latin typeface="Times New Roman"/>
              </a:rPr>
              <a:t>Компьютер - компьют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Два компьютера, подключенные к сети Интернет, могут общаться без посред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ет необходимости преобразования сигнала Данные сразу передаются по стандартным протоколам Интернета, поэтому помехи проникнуть в пакет данных не мог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Негативное воздействие помех – задержка пакетов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778120"/>
            <a:ext cx="3809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b03"/>
                </a:solidFill>
                <a:latin typeface="Times New Roman"/>
              </a:rPr>
              <a:t>Телефон - теле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1905120" cy="1971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Выход на ближайший шлюз интернет-телефо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Переключения телефонного аппарата в тоновый режим, набор номера абонента; вводится  идентификационный номер – и далее следует раз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Счет за разговор через сеть Интернет окажется значительно мень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33720" y="3733920"/>
            <a:ext cx="1904760" cy="1971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3581280"/>
            <a:ext cx="1981080" cy="2121120"/>
          </a:xfrm>
          <a:custGeom>
            <a:avLst/>
            <a:gdLst/>
            <a:ahLst/>
            <a:rect l="l" t="t" r="r" b="b"/>
            <a:pathLst>
              <a:path w="1248" h="1336">
                <a:moveTo>
                  <a:pt x="96" y="0"/>
                </a:moveTo>
                <a:cubicBezTo>
                  <a:pt x="48" y="212"/>
                  <a:pt x="0" y="424"/>
                  <a:pt x="48" y="480"/>
                </a:cubicBezTo>
                <a:cubicBezTo>
                  <a:pt x="96" y="536"/>
                  <a:pt x="320" y="288"/>
                  <a:pt x="384" y="336"/>
                </a:cubicBezTo>
                <a:cubicBezTo>
                  <a:pt x="448" y="384"/>
                  <a:pt x="376" y="696"/>
                  <a:pt x="432" y="768"/>
                </a:cubicBezTo>
                <a:cubicBezTo>
                  <a:pt x="488" y="840"/>
                  <a:pt x="656" y="688"/>
                  <a:pt x="720" y="768"/>
                </a:cubicBezTo>
                <a:cubicBezTo>
                  <a:pt x="784" y="848"/>
                  <a:pt x="728" y="1160"/>
                  <a:pt x="816" y="1248"/>
                </a:cubicBezTo>
                <a:cubicBezTo>
                  <a:pt x="904" y="1336"/>
                  <a:pt x="1168" y="1288"/>
                  <a:pt x="1248" y="1296"/>
                </a:cubicBezTo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b03"/>
                </a:solidFill>
                <a:latin typeface="Times New Roman"/>
              </a:rPr>
              <a:t>Компьютер - теле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04280" y="0"/>
            <a:ext cx="1539720" cy="2057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программу интернет-телефонии(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VocalTec, Net2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Чтобы в полной мере использовать возможности интернет-телефона, необходимо подписаться на услуги провайдера интернет-телефон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6T17:17:23Z</dcterms:created>
  <dc:creator>Angel</dc:creator>
  <dc:description/>
  <dc:language>en-US</dc:language>
  <cp:lastModifiedBy>Angel</cp:lastModifiedBy>
  <dcterms:modified xsi:type="dcterms:W3CDTF">2000-04-24T22:35:08Z</dcterms:modified>
  <cp:revision>10</cp:revision>
  <dc:subject/>
  <dc:title>ВЕЩАТЕЛЬНЫЕ ПРИМЕНЕНИЯ CОВРЕМЕННЫХ ТЕХНОЛОГИЙ ПЕРЕДАЧИ АУДИОИНФОРМАЦИИ ЧЕРЕЗ ИНТЕРНЕТ </dc:title>
</cp:coreProperties>
</file>