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84D0-B9F1-4ECD-B54C-0C3A81C0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56E8-CF43-475B-8920-E86947EA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D7F-1A31-4FD8-AF07-D8EF3DD1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93A-37AD-4931-AFBD-606BB549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8C23C-05BC-42FF-A15B-CB54DC29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006A9-D0CA-4E7C-8854-145FABC3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B15FF-5E11-4BE9-B253-9C57DEF4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4F0E4-7494-4E1C-9939-E74F4150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774E9-665F-4FCD-8549-5268175F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F68D4-167E-4A7D-A51D-C555D847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187D6-72E9-434E-BE9A-0C55F5C5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4913-30BE-439D-9BDE-491B8425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9938B-737D-496F-878C-163AFE42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39C01-A5C1-4EA4-8415-9A957832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D4259-9E8E-471B-857F-24B7FD10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33369-C184-494E-BCCF-1755EC51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000D6-29A7-4316-A635-DE62C9D0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8FCA-EFB8-458B-A625-14754D9D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CAB3-676C-423E-BD94-E1DA6150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0E8-4E86-40FD-9FD5-EE11C23E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CC5D-5441-4221-8D6A-297F7A51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1599-55C8-4D44-B6EB-A43A4122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A5A-710F-4315-8F2B-B61457D5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421A-D25C-419C-A12E-EB9A7593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0870-B000-4B7C-8964-A963FCEF7D1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9486-EBF9-4F04-BEBB-EE5C3C93281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ahoma"/>
              </a:rPr>
              <a:t>Управление персонал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87280" y="40428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ипломная рабо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3213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Как составная часть менеджмент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редпри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xit" presetID="5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ahoma"/>
              </a:rPr>
              <a:t>Методы анализ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чет и анализ основных показателей, характеризующих состояние и степень использования трудовых ресурс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чет влияния отдельных факторов на изменение результативного показателя способом детерминированного факторного анализ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троение графиков, характеризующих стиль руководства, лидера организации, культуру управления, критерии успеха, характеристики организации с помощью инструмент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Направление совершенствования кадрового менеджмента на предприят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07552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вершенствование системы стимулиро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93688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вершенствование системы управления персонал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9924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вышение квалификации кад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Система стимул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632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посредственная связь с достигнутыми успех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награждение за перевыполнение пла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сутствие «потолка» прем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ответствие з/платы реальному вкладу в успех проек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граничение базовых окладов для руковод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есткая схема начисления премий. Три категории оценки результатов (хорошо, удовлетворительно, плохо), рейтинг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мию вручает непосредственный начальник. Обязательно проведение бесе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квидация премиальных выплат не завизящих от результатов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5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45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Неэкономические методы стимул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мен опытом (переброска из одной группы в другую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ведение профессиональных конкур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ральное стимулирование (похвала, грамота, доска почета и т.д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Изменение в культуре орган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55640" y="1014480"/>
          <a:ext cx="7561440" cy="552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014480"/>
                    <a:ext cx="7561440" cy="55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05:15:38Z</dcterms:created>
  <dc:creator/>
  <dc:description/>
  <dc:language>en-US</dc:language>
  <cp:lastModifiedBy>Andrey L.</cp:lastModifiedBy>
  <dcterms:modified xsi:type="dcterms:W3CDTF">2004-09-28T07:44:24Z</dcterms:modified>
  <cp:revision>7</cp:revision>
  <dc:subject/>
  <dc:title>Управление персоналом</dc:title>
</cp:coreProperties>
</file>