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F7D-DF25-4C6E-AFCA-993DD629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999-8A8D-421B-9CD8-1A309227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4F8-26E0-4929-B5DE-552A703D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E3D-D869-49E3-9556-18B20B58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B16-BD3A-43D9-A24B-3C538831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798-3859-4217-9AAB-B033FA3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2FF-0ABF-4D60-B87F-2316004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34A-8444-42B9-9E69-2AF8A053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DCE-6BC3-4805-A1F6-B27460F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534-147A-4C67-ACFE-9800F7F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B93-B4BA-41B3-8AE3-A0DCB00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08E-B4E3-48A9-BCD5-B6587AF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25BA-9A41-4F7F-81E6-4FC752AD6E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3C4A-FE04-42A1-A47F-4F7134A23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287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04a7b"/>
                </a:solidFill>
                <a:latin typeface="Calibri"/>
              </a:rPr>
              <a:t>автор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: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учень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11-Б кла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Гудухін Віталі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461-685B-45CE-B5C6-B954B29B4C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537-3ABE-44E7-9A5C-F7796A509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2"/>
          <a:stretch/>
        </p:blipFill>
        <p:spPr>
          <a:xfrm>
            <a:off x="-128520" y="195120"/>
            <a:ext cx="932184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ru.jpg"/>
          <p:cNvPicPr/>
          <p:nvPr/>
        </p:nvPicPr>
        <p:blipFill>
          <a:blip r:embed="rId3"/>
          <a:stretch/>
        </p:blipFill>
        <p:spPr>
          <a:xfrm>
            <a:off x="1285920" y="1357200"/>
            <a:ext cx="63579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7375e"/>
                </a:solidFill>
                <a:latin typeface="Calibri"/>
              </a:rPr>
              <a:t>Для переходу на початок програми натисніть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4BE-306B-4E4E-9FE4-F05803ACA4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053-C245-41B2-93D5-27A38D895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0" descr=""/>
          <p:cNvPicPr/>
          <p:nvPr/>
        </p:nvPicPr>
        <p:blipFill>
          <a:blip r:embed="rId1"/>
          <a:stretch/>
        </p:blipFill>
        <p:spPr>
          <a:xfrm>
            <a:off x="-146160" y="1298520"/>
            <a:ext cx="9350640" cy="11890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4286160" y="57150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1</a:t>
            </a:r>
            <a:r>
              <a:rPr b="0" i="1" lang="en-US" sz="4400" spc="-1" strike="noStrike">
                <a:solidFill>
                  <a:srgbClr val="e46c0a"/>
                </a:solidFill>
                <a:latin typeface="Calibri"/>
              </a:rPr>
              <a:t>.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Види мов програмування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2. Основні поняття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3. Синтаксис мов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DEF-FAC8-4EC7-9E56-27A0CCCB5E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49C-7F7F-4BA2-A0C0-527B0033A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7" descr=""/>
          <p:cNvPicPr/>
          <p:nvPr/>
        </p:nvPicPr>
        <p:blipFill>
          <a:blip r:embed="rId2"/>
          <a:stretch/>
        </p:blipFill>
        <p:spPr>
          <a:xfrm>
            <a:off x="1652760" y="0"/>
            <a:ext cx="5887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2215080" y="1714680"/>
            <a:ext cx="950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69E9-3DBA-47E7-8B5F-246B9D3615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D87-FFF3-4E4E-A86F-0899E200D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62020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2" descr="Ris_1002.gif"/>
          <p:cNvPicPr/>
          <p:nvPr/>
        </p:nvPicPr>
        <p:blipFill>
          <a:blip r:embed="rId2"/>
          <a:stretch/>
        </p:blipFill>
        <p:spPr>
          <a:xfrm>
            <a:off x="428760" y="1357200"/>
            <a:ext cx="835812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лгоритм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ивається зрозуміле і точне розпорядження виконавцю виконати послідовність дій, спрямованих на досягнення зазначеної мети чи на розв'язання поставленої задач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EE43-3A5D-4DEC-B54A-F4575746BF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98C-11CA-4551-9011-1AF802813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7" descr=""/>
          <p:cNvPicPr/>
          <p:nvPr/>
        </p:nvPicPr>
        <p:blipFill>
          <a:blip r:embed="rId1"/>
          <a:stretch/>
        </p:blipFill>
        <p:spPr>
          <a:xfrm>
            <a:off x="652320" y="0"/>
            <a:ext cx="7473960" cy="114624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2560" y="1213920"/>
            <a:ext cx="86439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04a7b"/>
                </a:solidFill>
                <a:latin typeface="Calibri"/>
              </a:rPr>
              <a:t>Ліній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1B07-4CC6-4848-8807-DE35A6C1FE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D5B-CBC1-45DE-869B-6A4885200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354240" cy="7794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2"/>
          <a:stretch/>
        </p:blipFill>
        <p:spPr>
          <a:xfrm>
            <a:off x="1060560" y="30240"/>
            <a:ext cx="6699240" cy="113328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4" descr="Ris_1001.gif"/>
          <p:cNvPicPr/>
          <p:nvPr/>
        </p:nvPicPr>
        <p:blipFill>
          <a:blip r:embed="rId3"/>
          <a:stretch/>
        </p:blipFill>
        <p:spPr>
          <a:xfrm>
            <a:off x="3357720" y="2071800"/>
            <a:ext cx="2428560" cy="421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Розгалуж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05B-4011-4E2C-868A-A6AFB704B7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98BC-AC16-419E-9078-242622640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Ris_2001.gif"/>
          <p:cNvPicPr/>
          <p:nvPr/>
        </p:nvPicPr>
        <p:blipFill>
          <a:blip r:embed="rId1"/>
          <a:stretch/>
        </p:blipFill>
        <p:spPr>
          <a:xfrm>
            <a:off x="642960" y="1785960"/>
            <a:ext cx="79945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Цикл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C97B-4FFF-4FB3-A986-675887E4B6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16C-1570-42DB-8AF8-16CB50D38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Ris_30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7933c"/>
                </a:solidFill>
                <a:latin typeface="Calibri"/>
              </a:rPr>
              <a:t>В будь-якій мові програмування можна виділити чотири типи елементів, що використовуються при побудові описів прогр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286080" y="349992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имвол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лова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вираз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                          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команди (оператор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716D-1FDB-4FDF-919F-04B6AC53BF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ECF-0369-4A9F-AC72-C880C2458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0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677880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1" descr="pabcnet.jpg"/>
          <p:cNvPicPr/>
          <p:nvPr/>
        </p:nvPicPr>
        <p:blipFill>
          <a:blip r:embed="rId1"/>
          <a:stretch/>
        </p:blipFill>
        <p:spPr>
          <a:xfrm>
            <a:off x="1428840" y="1428840"/>
            <a:ext cx="61484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D1A-2BA2-4D78-A9FE-F999CA5EF1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D59-D6B8-4080-8157-FDCD068A2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-298440" y="36360"/>
            <a:ext cx="96980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6:57:58Z</dcterms:created>
  <dc:creator>Гудухин Виталий</dc:creator>
  <dc:description/>
  <dc:language>en-US</dc:language>
  <cp:lastModifiedBy>Гудухин Виталий</cp:lastModifiedBy>
  <dcterms:modified xsi:type="dcterms:W3CDTF">2009-06-05T17:20:25Z</dcterms:modified>
  <cp:revision>60</cp:revision>
  <dc:subject/>
  <dc:title> </dc:title>
</cp:coreProperties>
</file>