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8002588" cy="113141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C75E-B271-4A53-A416-DC090221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99760" y="301752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99880" y="6411960"/>
            <a:ext cx="560052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99880" y="7922880"/>
            <a:ext cx="560052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58C1-491C-4648-8405-B17EB7F4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99760" y="301752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99880" y="6411960"/>
            <a:ext cx="273276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9800" y="6411960"/>
            <a:ext cx="273276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99880" y="7922880"/>
            <a:ext cx="273276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069800" y="7922880"/>
            <a:ext cx="273276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020B-FA55-4DF0-9222-049941757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99760" y="301752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99880" y="6411960"/>
            <a:ext cx="180324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93840" y="6411960"/>
            <a:ext cx="180324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87440" y="6411960"/>
            <a:ext cx="180324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99880" y="7922880"/>
            <a:ext cx="180324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93840" y="7922880"/>
            <a:ext cx="180324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87440" y="7922880"/>
            <a:ext cx="180324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7E2D-7CC7-405E-9505-F921B9934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AF30-4A3F-43C1-A9F6-00C2DE1EE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9760" y="301752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199880" y="6411960"/>
            <a:ext cx="5600520" cy="28922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34B5-4EBE-4A96-A15A-9D915378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9760" y="301752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99880" y="6411960"/>
            <a:ext cx="5600520" cy="28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3188-D692-4712-8D7E-1DCD2604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9760" y="301752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99880" y="6411960"/>
            <a:ext cx="2732760" cy="28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69800" y="6411960"/>
            <a:ext cx="2732760" cy="28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11BC-12B9-451E-BA85-D88E0412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99760" y="301752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1717-9BBC-40BC-8AA2-6E9B6A7D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99760" y="3017520"/>
            <a:ext cx="6800760" cy="87436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C6B2-5E32-467B-BE81-AEBBEE4B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9760" y="301752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99880" y="6411960"/>
            <a:ext cx="273276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69800" y="6411960"/>
            <a:ext cx="2732760" cy="28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99880" y="7922880"/>
            <a:ext cx="273276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7606-E4BD-4378-83BA-93682076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9760" y="301752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99880" y="6411960"/>
            <a:ext cx="5600520" cy="28922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A177-659B-4153-9D02-B7536427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9760" y="301752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99880" y="6411960"/>
            <a:ext cx="2732760" cy="28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069800" y="6411960"/>
            <a:ext cx="273276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069800" y="7922880"/>
            <a:ext cx="273276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7C54-9C88-4BF9-8A37-4815E36F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99760" y="301752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99880" y="6411960"/>
            <a:ext cx="273276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69800" y="6411960"/>
            <a:ext cx="273276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99880" y="7922880"/>
            <a:ext cx="560052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21CB-B391-40CB-B15B-4182CE87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99760" y="301752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99880" y="6411960"/>
            <a:ext cx="560052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199880" y="7922880"/>
            <a:ext cx="560052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FE21-F36E-4B36-BF74-6842E02F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9760" y="301752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99880" y="6411960"/>
            <a:ext cx="273276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069800" y="6411960"/>
            <a:ext cx="273276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99880" y="7922880"/>
            <a:ext cx="273276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069800" y="7922880"/>
            <a:ext cx="273276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14F1-F60A-49D8-8067-B7950E128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9760" y="301752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99880" y="6411960"/>
            <a:ext cx="180324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093840" y="6411960"/>
            <a:ext cx="180324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87440" y="6411960"/>
            <a:ext cx="180324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199880" y="7922880"/>
            <a:ext cx="180324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093840" y="7922880"/>
            <a:ext cx="180324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4987440" y="7922880"/>
            <a:ext cx="180324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EBD9-A882-4B4B-9AFF-CE7D3FF04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9760" y="301752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99880" y="6411960"/>
            <a:ext cx="5600520" cy="28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92B7-A86A-4E99-A0CC-B92D56C4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99760" y="301752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99880" y="6411960"/>
            <a:ext cx="2732760" cy="28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9800" y="6411960"/>
            <a:ext cx="2732760" cy="28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5861-52EE-45B9-9463-612D00F7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9760" y="301752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001B-01DE-40A7-98FF-B785CCE1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99760" y="3017520"/>
            <a:ext cx="6800760" cy="87436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2619-B2CC-420F-8851-EA806B65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9760" y="301752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99880" y="6411960"/>
            <a:ext cx="273276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069800" y="6411960"/>
            <a:ext cx="2732760" cy="28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99880" y="7922880"/>
            <a:ext cx="273276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2CA3-AA7F-450E-B07B-A46DEF90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9760" y="301752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99880" y="6411960"/>
            <a:ext cx="2732760" cy="28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069800" y="6411960"/>
            <a:ext cx="273276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069800" y="7922880"/>
            <a:ext cx="273276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09EB-4A93-4E70-8825-EA6914CE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9760" y="301752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99880" y="6411960"/>
            <a:ext cx="273276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069800" y="6411960"/>
            <a:ext cx="273276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99880" y="7922880"/>
            <a:ext cx="560052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C5DC-BE63-4D8D-98E8-99084F07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3480" y="-23040"/>
            <a:ext cx="8085240" cy="11453760"/>
            <a:chOff x="-33480" y="-23040"/>
            <a:chExt cx="8085240" cy="11453760"/>
          </a:xfrm>
        </p:grpSpPr>
        <p:sp>
          <p:nvSpPr>
            <p:cNvPr id="1" name=""/>
            <p:cNvSpPr/>
            <p:nvPr/>
          </p:nvSpPr>
          <p:spPr>
            <a:xfrm>
              <a:off x="7651440" y="-16920"/>
              <a:ext cx="398160" cy="1143252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7720" y="-16920"/>
              <a:ext cx="399960" cy="11442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4760" y="-23400"/>
              <a:ext cx="8054280" cy="754200"/>
            </a:xfrm>
            <a:custGeom>
              <a:avLst/>
              <a:gdLst>
                <a:gd name="textAreaLeft" fmla="*/ 878040 w 8054280"/>
                <a:gd name="textAreaRight" fmla="*/ 7176240 w 8054280"/>
                <a:gd name="textAreaTop" fmla="*/ 82080 h 754200"/>
                <a:gd name="textAreaBottom" fmla="*/ 672120 h 75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3120" y="10671120"/>
              <a:ext cx="8085240" cy="759600"/>
            </a:xfrm>
            <a:custGeom>
              <a:avLst/>
              <a:gdLst>
                <a:gd name="textAreaLeft" fmla="*/ 883800 w 8085240"/>
                <a:gd name="textAreaRight" fmla="*/ 7201440 w 8085240"/>
                <a:gd name="textAreaTop" fmla="*/ 82800 h 759600"/>
                <a:gd name="textAreaBottom" fmla="*/ 676800 h 75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38680" y="464760"/>
              <a:ext cx="7545960" cy="10447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99760" y="57744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51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51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10920" y="2747880"/>
            <a:ext cx="6800760" cy="67881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marL="395280" indent="-395280">
              <a:spcBef>
                <a:spcPts val="924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28680">
              <a:spcBef>
                <a:spcPts val="924"/>
              </a:spcBef>
              <a:buClr>
                <a:srgbClr val="eaeaea"/>
              </a:buClr>
              <a:buFont typeface="Times New Roman"/>
              <a:buChar char="–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  <a:p>
            <a:pPr lvl="2" marL="1317600" indent="-263520">
              <a:spcBef>
                <a:spcPts val="924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  <a:p>
            <a:pPr lvl="3" marL="1843200" indent="-262080">
              <a:spcBef>
                <a:spcPts val="924"/>
              </a:spcBef>
              <a:buClr>
                <a:srgbClr val="eaeaea"/>
              </a:buClr>
              <a:buFont typeface="Times New Roman"/>
              <a:buChar char="–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  <a:p>
            <a:pPr lvl="4" marL="2370240" indent="-263520">
              <a:spcBef>
                <a:spcPts val="924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  <a:p>
            <a:pPr lvl="5" marL="2370240" indent="-263520">
              <a:spcBef>
                <a:spcPts val="924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  <a:p>
            <a:pPr lvl="6" marL="2370240" indent="-263520">
              <a:spcBef>
                <a:spcPts val="924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00120" y="1017252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lstStyle>
            <a:lvl1pPr marL="216000" indent="0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  <a:defRPr b="0" lang="ru-RU" sz="16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733480" y="10172520"/>
            <a:ext cx="2533320" cy="7556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lstStyle>
            <a:lvl1pPr marL="216000"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  <a:defRPr b="0" lang="ru-RU" sz="16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5734080" y="1017252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lstStyle>
            <a:lvl1pPr marL="216000" indent="0" algn="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  <a:defRPr b="0" lang="ru-RU" sz="16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fld id="{2D127056-8C46-47C4-A8B5-9D1A23455516}" type="slidenum"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3480" y="-23040"/>
            <a:ext cx="8085240" cy="11453760"/>
            <a:chOff x="-33480" y="-23040"/>
            <a:chExt cx="8085240" cy="11453760"/>
          </a:xfrm>
        </p:grpSpPr>
        <p:sp>
          <p:nvSpPr>
            <p:cNvPr id="48" name=""/>
            <p:cNvSpPr/>
            <p:nvPr/>
          </p:nvSpPr>
          <p:spPr>
            <a:xfrm>
              <a:off x="7651440" y="-16920"/>
              <a:ext cx="398160" cy="1143252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27720" y="-16920"/>
              <a:ext cx="399960" cy="11442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4760" y="-23400"/>
              <a:ext cx="8054280" cy="754200"/>
            </a:xfrm>
            <a:custGeom>
              <a:avLst/>
              <a:gdLst>
                <a:gd name="textAreaLeft" fmla="*/ 878040 w 8054280"/>
                <a:gd name="textAreaRight" fmla="*/ 7176240 w 8054280"/>
                <a:gd name="textAreaTop" fmla="*/ 82080 h 754200"/>
                <a:gd name="textAreaBottom" fmla="*/ 672120 h 75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3120" y="10671120"/>
              <a:ext cx="8085240" cy="759600"/>
            </a:xfrm>
            <a:custGeom>
              <a:avLst/>
              <a:gdLst>
                <a:gd name="textAreaLeft" fmla="*/ 883800 w 8085240"/>
                <a:gd name="textAreaRight" fmla="*/ 7201440 w 8085240"/>
                <a:gd name="textAreaTop" fmla="*/ 82800 h 759600"/>
                <a:gd name="textAreaBottom" fmla="*/ 676800 h 75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8680" y="464760"/>
              <a:ext cx="7545960" cy="10447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9760" y="301752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51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51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11280" y="10154880"/>
            <a:ext cx="1666800" cy="7542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lstStyle>
            <a:lvl1pPr marL="216000" indent="0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  <a:defRPr b="0" lang="ru-RU" sz="16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2744640" y="10154880"/>
            <a:ext cx="2533680" cy="7542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lstStyle>
            <a:lvl1pPr marL="216000"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  <a:defRPr b="0" lang="ru-RU" sz="16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5745240" y="10154880"/>
            <a:ext cx="1666800" cy="7542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lstStyle>
            <a:lvl1pPr marL="216000" indent="0" algn="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  <a:defRPr b="0" lang="ru-RU" sz="16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fld id="{F101F160-50CC-4CA0-9F5B-5D1BB5A96097}" type="slidenum"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533520" y="5484960"/>
            <a:ext cx="7000920" cy="618480"/>
            <a:chOff x="533520" y="5484960"/>
            <a:chExt cx="7000920" cy="618480"/>
          </a:xfrm>
        </p:grpSpPr>
        <p:sp>
          <p:nvSpPr>
            <p:cNvPr id="58" name=""/>
            <p:cNvSpPr/>
            <p:nvPr/>
          </p:nvSpPr>
          <p:spPr>
            <a:xfrm>
              <a:off x="533520" y="5726160"/>
              <a:ext cx="7000920" cy="37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8920" y="5484960"/>
              <a:ext cx="6863040" cy="45864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4680" y="5600160"/>
              <a:ext cx="686016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4680" y="5726160"/>
              <a:ext cx="686016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4680" y="5851440"/>
              <a:ext cx="686016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4680" y="5576400"/>
              <a:ext cx="686016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4680" y="5702400"/>
              <a:ext cx="686016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44680" y="5828400"/>
              <a:ext cx="686016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399960" y="2647440"/>
            <a:ext cx="7202160" cy="65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  <a:p>
            <a:pPr lvl="1" marL="527040" indent="0" algn="ctr">
              <a:spcBef>
                <a:spcPts val="799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54080" algn="ctr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1120" algn="ctr">
              <a:spcBef>
                <a:spcPts val="575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  <a:p>
            <a:pPr lvl="4" marL="2106720" algn="ctr">
              <a:spcBef>
                <a:spcPts val="575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  <a:p>
            <a:pPr lvl="5" marL="2106720">
              <a:spcBef>
                <a:spcPts val="575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  <a:p>
            <a:pPr lvl="6" marL="2106720">
              <a:spcBef>
                <a:spcPts val="575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99880" y="1300320"/>
            <a:ext cx="5962680" cy="26748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br>
              <a:rPr sz="5100"/>
            </a:br>
            <a:r>
              <a:rPr b="0" lang="ru-RU" sz="5100" spc="-1" strike="noStrike">
                <a:solidFill>
                  <a:srgbClr val="ffcc66"/>
                </a:solidFill>
                <a:latin typeface="Times New Roman"/>
              </a:rPr>
              <a:t>Сочинение</a:t>
            </a:r>
            <a:br>
              <a:rPr sz="3900"/>
            </a:br>
            <a:r>
              <a:rPr b="0" lang="ru-RU" sz="3900" spc="-1" strike="noStrike">
                <a:solidFill>
                  <a:srgbClr val="ffcc66"/>
                </a:solidFill>
                <a:latin typeface="Times New Roman"/>
              </a:rPr>
              <a:t>Тема  Родины  в  творчестве А. Блока</a:t>
            </a:r>
            <a:br>
              <a:rPr sz="3900"/>
            </a:br>
            <a:endParaRPr b="0" lang="en-US" sz="39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688760" y="6005520"/>
            <a:ext cx="5600520" cy="44337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ru-RU" sz="3700" spc="-1" strike="noStrike">
                <a:solidFill>
                  <a:srgbClr val="eaeaea"/>
                </a:solidFill>
                <a:latin typeface="Times New Roman"/>
              </a:rPr>
              <a:t>УЧАЩЕЙСЯ  СРЕДНЕЙ  ШКОЛЫ №9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ru-RU" sz="3700" spc="-1" strike="noStrike">
                <a:solidFill>
                  <a:srgbClr val="eaeaea"/>
                </a:solidFill>
                <a:latin typeface="Times New Roman"/>
              </a:rPr>
              <a:t>Г. ЕССЕНТУКИ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ru-RU" sz="3700" spc="-1" strike="noStrike">
                <a:solidFill>
                  <a:srgbClr val="eaeaea"/>
                </a:solidFill>
                <a:latin typeface="Times New Roman"/>
              </a:rPr>
              <a:t>11- «б» класса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ru-RU" sz="3700" spc="-1" strike="noStrike">
                <a:solidFill>
                  <a:srgbClr val="eaeaea"/>
                </a:solidFill>
                <a:latin typeface="Times New Roman"/>
              </a:rPr>
              <a:t>ЛОБОВОЙ  МАРИНЫ 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ПРЕПОДАВАТЕЛЬ</a:t>
            </a:r>
            <a:br>
              <a:rPr sz="1400"/>
            </a:b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ервакова  Светлана  Николаевн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ru-RU" sz="3700" spc="-1" strike="noStrike">
                <a:solidFill>
                  <a:srgbClr val="eaeaea"/>
                </a:solidFill>
                <a:latin typeface="Times New Roman"/>
              </a:rPr>
              <a:t>2000-2001 г.г.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7T12:52:12Z</dcterms:created>
  <dc:creator>Галина</dc:creator>
  <dc:description/>
  <dc:language>en-US</dc:language>
  <cp:lastModifiedBy>Галина</cp:lastModifiedBy>
  <dcterms:modified xsi:type="dcterms:W3CDTF">2001-02-26T14:00:07Z</dcterms:modified>
  <cp:revision>6</cp:revision>
  <dc:subject/>
  <dc:title>БОРИС  МИХАЙЛОВИЧ  КУСТОДИЕВ  ПРЕПОДАВАТЕЛЬ Первакова  Светлана  Николаевна</dc:title>
</cp:coreProperties>
</file>