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FE9-1A31-4D70-BD24-6D4AFFEA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8C6-3E9F-4D83-B55E-EEAA24DF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BA5-785B-4A55-9380-0B954D4B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6B5-20DB-47DD-9496-6CA6186F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CF38A-E35C-4B7C-9E8E-2761206B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CBA6-CE49-49E4-9094-79EA05DF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4356A-DD1D-481A-8D6A-28B5B0F9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B253-7E84-44BF-8221-A9EC65A0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AE78-6BBB-464A-ABA7-3B2EF45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6B4DB-17F2-47A4-933D-3B90C77F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C9624-9CC6-4EAC-9663-EDAEFA53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48B-C56D-48C9-BA2D-17C1AEA4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A3214-5A56-408C-BD1A-78624EE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597C7-B1EF-4CD1-803E-4D3527C5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0F8E7-D70A-48C6-818B-954464D5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36FC7-6E64-4669-B00C-DBE0193A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274A-A878-4C42-8CCA-84FC2E09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D92-FBE6-4106-B0BF-0F798C2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EDC-A7D0-47C5-B78E-CB8B9745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E2E-01EA-43DF-8955-8EADA01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043-56C3-44D6-A110-AF14555A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6B0-FFFA-487C-9FED-91CFC8AF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6E9-007B-4DC6-A972-5B66F1F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EA4-116B-42C1-A825-0F20C10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E1ED-A950-4502-BA9D-9D79DF80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0E6-FD6A-4962-88AF-05DF97C1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8000" y="1988640"/>
            <a:ext cx="6912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"Компьютер — наш друг и помощник"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23640" y="115560"/>
            <a:ext cx="576108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Заключительная пес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дискетам разложи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з принтер размножи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лектронные файлы услу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струмент "на все руки"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лекарство от скук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учитель, и преданный дру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ПЕВ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 чего же энергичны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лектронный человек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й попутчик симпатичный |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двадцать первый век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3372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739800"/>
            <a:ext cx="6840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948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27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АР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ВОР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ША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7324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АР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ВОР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ШАРФ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-72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ЗЕЦ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стол” – “ствол”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734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9850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3:13:53Z</dcterms:created>
  <dc:creator>Computer</dc:creator>
  <dc:description/>
  <dc:language>en-US</dc:language>
  <cp:lastModifiedBy>Computer</cp:lastModifiedBy>
  <dcterms:modified xsi:type="dcterms:W3CDTF">2010-12-19T14:03:24Z</dcterms:modified>
  <cp:revision>10</cp:revision>
  <dc:subject/>
  <dc:title>Слайд 1</dc:title>
</cp:coreProperties>
</file>